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907588" cy="6858000"/>
  <p:notesSz cx="674687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46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11160"/>
            <a:ext cx="2924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20680" y="11160"/>
            <a:ext cx="2924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-360" y="9437400"/>
            <a:ext cx="29242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3820680" y="9437400"/>
            <a:ext cx="29242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fld id="{F28C7B2E-C1A5-418F-BD7B-AEAEE543B5C2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Img"/>
          </p:nvPr>
        </p:nvSpPr>
        <p:spPr>
          <a:xfrm>
            <a:off x="879480" y="758520"/>
            <a:ext cx="499896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Click to move the slide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body"/>
          </p:nvPr>
        </p:nvSpPr>
        <p:spPr>
          <a:xfrm>
            <a:off x="674640" y="4707360"/>
            <a:ext cx="53967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5"/>
          <p:cNvSpPr/>
          <p:nvPr/>
        </p:nvSpPr>
        <p:spPr>
          <a:xfrm>
            <a:off x="3821040" y="9437760"/>
            <a:ext cx="2924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fld id="{CF236D01-00BB-4631-ADDF-7C6B0D453B45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88840" y="765000"/>
            <a:ext cx="4978440" cy="3446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88840" y="4726080"/>
            <a:ext cx="49672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636A-5CB8-4024-BE6B-F945C57C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14120"/>
            <a:ext cx="960120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B1060-AFBD-46BA-AAC9-91A540EB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1412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96080" y="371412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48CE-A372-42C7-A3ED-394163E0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2440" y="60948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68920" y="60948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1412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2440" y="371412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68920" y="371412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C360-4E66-46D2-B6B1-694915A5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43040" y="228600"/>
            <a:ext cx="61084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320" y="371412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7649-776B-4343-9752-D6ECBE89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96080" y="371412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320" y="3714120"/>
            <a:ext cx="960120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320" y="3714120"/>
            <a:ext cx="960120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320" y="371412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96080" y="371412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22440" y="60948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68920" y="60948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320" y="371412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22440" y="371412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68920" y="3714120"/>
            <a:ext cx="30913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B1270-13D5-40F9-A2B0-3910A628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B3BFD-3DE7-4127-9DA6-F5C782E7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255DE-1FEA-4C03-909C-E129DD63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3040" y="228600"/>
            <a:ext cx="61084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C012A-DC59-45CB-B7E1-03F7813B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1412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AD07A-BB53-46E5-B14D-1CD45E58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6080" y="371412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67C6-E6EB-4D74-A548-E89C75E4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220320"/>
            <a:ext cx="610848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6080" y="609480"/>
            <a:ext cx="468504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14120"/>
            <a:ext cx="960120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C0E2-28ED-4E65-BE99-62514008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Click to edit the title text format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106200" y="100080"/>
            <a:ext cx="9693360" cy="6657840"/>
          </a:xfrm>
          <a:prstGeom prst="roundRect">
            <a:avLst>
              <a:gd name="adj" fmla="val 12495"/>
            </a:avLst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772400" y="38160"/>
            <a:ext cx="1523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3D69-A2DB-4B55-A8B5-36F263AEE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52960" y="6627960"/>
            <a:ext cx="24181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parency No. 1-</a:t>
            </a:r>
            <a:fld id="{48F368BB-1F18-481D-9E16-6D3753013C3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106200" y="100080"/>
            <a:ext cx="9693360" cy="6657840"/>
          </a:xfrm>
          <a:prstGeom prst="roundRect">
            <a:avLst>
              <a:gd name="adj" fmla="val 12495"/>
            </a:avLst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7696080" y="0"/>
            <a:ext cx="1787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al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7692840" y="6629400"/>
            <a:ext cx="181008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parency No. 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Click to edit the title text format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全真隸書"/>
              </a:rPr>
              <a:t>Formal Language and Automata Theory</a:t>
            </a:r>
            <a:endParaRPr b="1" lang="en-US" sz="48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ng-Chia Ch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3A45-A029-46E3-B9FE-8BFF071FE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Size or cardinality of a set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.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A | = the size(cardinality) of A = # of distinct elements of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{1,3,3,5}|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{}|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the set of binary digits } |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N| = ?  ;  |Z| = ? ;  | {2i | i in N} = 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R|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. 5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et A is finite iff |A| is a natural number ; o/w it is infini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sets are of the same size (cardinality) iff there is a 1-1 &amp; onto mapping between th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E24B-0458-47DD-A3D9-F452961A5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countability of set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: Show th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|N| =  |Z| = | Q | = {4,5,6,...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|R|  = | [0, 1) |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|N|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|R|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et A is said to be denumerable  iff |A| = |N|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et is countable (or enumerable) iff either |A| = n for some n in N or |A| = |N|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exercise 3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is not count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 and Z is countab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8D5A-D22A-4B3E-9A13-4EB6CBEE4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The power set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 6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is a set, then the collection of all subsets of A is also a set, called the poser set of A and is denoted as P(A) or 2</a:t>
            </a:r>
            <a:r>
              <a:rPr b="1" lang="en-US" sz="2400" spc="-1" strike="noStrike" baseline="24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{0,1,2})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{})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P({1,2,..., n})|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er of elements in a set are indistinguishable. But  sometimes we need to distinguish between (1,3,4) and (3,4,1)  --&gt; ordered n-tupl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More about cardinality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72880" y="533160"/>
            <a:ext cx="940464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em: for any set A, |A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f: (1) The case that A is finite is trivial since |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=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|A|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|A|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re is no bijection b/t two finite sets with different siz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assume |A| = |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, i.e., there is a bijection f: A -&gt;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 D = {x in A |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(x) }. ==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 is a subset of A; H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in A s.t. f(y) = 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Is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es (i.e.,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)  ==&gt;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(y) = D, a contra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 (i.e.,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) ==&gt;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(y) =D, a contradiction to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the assumption is false, i.e., there is no bijection b/t A and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Many proofs of impossibility results about computations used arguments similar to thi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242E-EC2B-4B7E-AFC3-000777194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Cartesian Product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0480" y="685800"/>
            <a:ext cx="97534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. 7 [n-tuple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1,a2,...,an (n &gt; 0) are n objects, then “(a1,a2,...,an)”  is a new object, called an (ordered) n-tuple [ with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the ith el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orderd 2-tuple is called a pai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1,a2,...,am) = (b1,b2,...,bn)  if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 = n and    for i = 1,..,n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. 8: [Cartesian product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x B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{(a,b) | a in A /\ b in B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1 x A2 x ...x An =def  {(a1,...,an) | ai in Ai }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 A = {1,2}, B = {a,b,c} , C = {0,1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A x B = ?  ; 2. B x A =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A x {} = ?   ;4. A x B x C =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DB4F-45FD-4928-A050-12EF86737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Set opera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on, intersection, difference , complement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 = {x | x in A or x in B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 = {x | x in A and x in B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A - B = {x | x in A but x not in B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~ A = U -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If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 = {} =&gt; call A and B disjoi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2EAD-81D5-4C27-8D1D-F075C8103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Set identit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laws:                  A ? ? =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tion law:             U ? ? = U;   {} ?? = {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mpotent law:             A ? A = A 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mentation:         ~~A =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tative :               A ? B = B ?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ociative:                  A ? (B ? C) = (A ? B ) ?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ive:                  A ? (B ? C) =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regan laws:         ~(A ? B) = ~A ? ~B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 Any set of objects satisfying all the above law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oolean algebr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5542-B36E-4419-9BC9-428741234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Prove set equality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Show that ~(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) = ~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B by show tha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~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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B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~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f: (By definition) Let x be any element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(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)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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show (1) by using set builder and logical equivalen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Show distributive law by using membership 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show ~(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B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)) = (~C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B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A by set identit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0E50-DA79-4720-B0E4-AD115A07A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Func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. 1 [functions]     A, B: two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 function f from A to B is a set of pairs (x,  y) in AxB s.t., for each x in A there is at most one y in B s.t. (x,y) in 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if (x,y) in f, we write f(x) = 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f :A -&gt;B means f is a function from A to 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. 2. If f:A -&gt; B ==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: the domain of f;   B: the codomain of 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(a)=b =&gt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b is the image of a;   3. a is the preimage of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range(f) = {y 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.t. f(x) = y} = f(A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preimage(f) = {x | $ y s.t. f(x) = y } = 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f is total iff  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 =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21E2-3BE6-41FC-9D1F-FC481CDBD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Types of func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 4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: A x B;   S: a subset of A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: a subset of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f(S)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{y 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in S s.t. f(x) = y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f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)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{x 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in T s.t. f(x) = y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. [1-1, onto, injection, surjection, bijection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: A -&gt; B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is 1-1 (an injection) iff  f(x)=(fy) =&gt; x = 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 is  onto (surjective, a surjection) iff  f(A) =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is 1-1 &amp; onto &lt;=&gt; f is bijective (a bijection, 1-1 correspondence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Course outlin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8840" y="609120"/>
            <a:ext cx="94806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eliminar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s, relations, functions,sequences, graphs, trees, proof by induction, definition by induction (recursio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 of formal languag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phabet, word, sentence, concatenation ,union, iteration [= Kleene star], language, infinity of languages, finite representations of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I: Finite Automata and Regular Se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FA,NFA,regular expressions and their equiva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 of FAs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ure properties of FAs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 of F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Rela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 B: two 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B (Cartesian Product of A and B) is the set of all ordered pairs {&lt;a,b&gt; |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and 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 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 {1,2,3}, B= {4,5,6} =&gt; AxB =   ?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1,A2,...,An (n &gt; 0): n 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1xA2x...xAn = {&lt;a1,a2,...,an&gt; | a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i  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1={1,2},A2={a,b},A3={x,y} ==&gt; |A1xA2xA3| = 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A1= {}, A2={a,b}  =&gt; A1xA2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Binary rela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y rel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B: two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inary relation R between A and B is any subset of Ax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={1,2,3}, B ={4,5,6},  then which of the following is a binary relation between A and B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1 = {&lt;1,4&gt;, &lt;1,5&gt;, &lt;2,6&gt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2 = {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3 = {1,2,3,4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4 = {&lt;1,2&gt;, &lt;3,4&gt;, &lt;5,6&gt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Terminology about binary rela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0120" y="685440"/>
            <a:ext cx="93283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: a binary relation between A and B (I.e., a subset of AxB), th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ain of  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(R)  = {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 s.t. &lt;x,y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(R) ={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, 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, s.t., &lt;x,y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R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x,y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R is usually written as x R 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 = B, then R is simply called a relation over(on) 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n-tuple relation R among A1,A2,...,An is any subset of A1xA2...xAn, n is called the arity of 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1=A2=...=An=A =&gt; R is called an n-tuple relation (on A),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Operations on relations (and functions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xB; 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 x C: two re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sition of R and 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· S = {&lt;a,c&gt; | there is b in B s.t., &lt;a,b&gt; in R and &lt;b,c&gt; in S 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relation: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{&lt;a,a&gt; | a in A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rse relation: 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{&lt;b,a&gt; | &lt;a,b&gt; in R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:A -&gt; B; g: B-&gt;C: two functions, th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·f:A-&gt;C defined by g·f(x) = g(f(x)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 function and relation compositions are associative, I.e., for any function or relation f,g,h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· (g·h) = (f·g) ·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Properties of binary rela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6560" y="762120"/>
            <a:ext cx="94042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: A binary relation on 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R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lex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 for all x in S, x R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R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rreflex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for all x in S, not x R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R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mmetr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for all x, y in S, xRy =&gt; yR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R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ymmetr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for all x,y in S, xRy =&gt; not yR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R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tisymmetr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for all x,y in S, xRy and yRx =&gt; x=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R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i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for all x,y,z in S, xRy and yRz =&gt; xRz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realization of a binary relation and its proper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1454040" y="4959360"/>
            <a:ext cx="1435320" cy="1511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4044960" y="4959360"/>
            <a:ext cx="1434960" cy="1511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965240" y="50324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479840" y="50324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346480" y="54896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4937040" y="54896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203480" y="61754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3870360" y="61754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2286000" y="5257800"/>
            <a:ext cx="2590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5768640" y="4879800"/>
            <a:ext cx="3918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: if xRy then draw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 from x on left S to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right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Exampl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95248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la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et of natural numbers 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properties do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tisfy 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. irref, or neither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metric, asymmetric or antisymmetric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tive 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la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et of natural numbers 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ivide | relation on integers N 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| y iff x  divides y. (eg. 2 | 10, but not 3 | 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properties d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and | satisfy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ROTHER relation on males (or on all peopl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,y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ROTHER iff x is y’s broth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NCESTOR relation on a fami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,y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CESTOR if x is an ancestor of y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properties does BROTHER(ANCESTOR) hav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Properties of rela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72880" y="609120"/>
            <a:ext cx="94046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: a binary relation on 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R is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it is ref. and tra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R is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ial 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.o.) iff R is ref.,trans. and antisym. (usually written a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R is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ict portial 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.p.o) iff it is irref. and transiti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written &lt;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R is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tal (or linear) 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it is a partial order and every two element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ar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.e., for all x,y either xRy or yRx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R is a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quivalence re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it is ref. sym. and tra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R is a preorder (resp. po or spo) then (S,R) is called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order 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resp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ict po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order set do (N, &lt;) , (N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nd (N, |) belong to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Properties of ordered set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: a poset, X: a subset of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b in X is th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east (or called minimum) el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X iff 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for all x in X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b in X is th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greatest (or called maxmum or largest) el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X iff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 for all x in X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st element and greatest element, if existing, is unigue for any subset X of a poset (S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f:  let x, y be least elements of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,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 and y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. So by antisym.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 = 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X ia a chain iff (X,R) is a linear order(, i.e., for all  x, y in X, either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or y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)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b in S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wer b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resp.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pper b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of X i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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 (resp.,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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for all x in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b may or may not belong to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Properties of oredered set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2880" y="609120"/>
            <a:ext cx="94046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: a poset, X: a nonempty subset of 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b in X is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mini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X iff there is no element less than 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e., there is no x in X, s.t., (x &lt; b)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“for all x,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=&gt; x =b.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b in X is a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maxi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lement of X iff there is no element greater then 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e., there is no x in X, s.t., (b &lt; x)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“for all x, 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=&gt; x=b.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Every maximum element is maximal, but not the converse in genera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Maximal and minimal are not unique in genera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well-founded set and minimum condi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: a poset 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偏序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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ll-found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良基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ff there is no infinite descending sequence. (i.e., there is no infinite sequence x1,x2,x3,.... s.t., x1 &gt; x2 &gt; x3 &gt;... 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x &gt; y means y &lt; x (i.e., y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and y = 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well-founded =&gt; (S,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called a well-founded s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(S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s said to satisf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minimal condi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ff every nonempty subset of S has a minimal elem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: a total ordered set 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全序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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said to be a well-ordering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良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ff  every nonempty subset of S has a least element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well ordered, then (S,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called a well-ordered s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course outline (cont'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0240" y="609120"/>
            <a:ext cx="95569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II: Pushdown Automata and Context Free Languag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FGs and CFLs; normal forms of CF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 of CFG; PDAs and their variation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ure properties of CF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valence of pda and CFGs; deterministic P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sing (Early or CYK's algorith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III: Turing Machines and Effective Computabilit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ing machine [&amp; its variations] and Equivalence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al T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able and undecidable problems (Recursive sets and recursively enumerable se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reductions ; Some undecidable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Examples of ordered set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ng the relations (N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, (N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, (N, |), (Z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(Z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(Z,|) and (R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Which are well-founded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Which are well-ordered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3040" y="30492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Equivalence of well-foundness and minimal condition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91882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s well-founded (w.f.)  iff it satisfies the minimum conditions (m.c.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f: scheme: (1) not w.f =&gt; not m.c. (2) not m.c. =&gt; not w.f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x1,x2,... be any infinite sequence s.t. x1 &gt; x2 &gt; x3 &gt;..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let X={x1,x2,...}. Then X has no minimal el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S does not satisfy m.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 Let X be any nonempty subset of S w/o minimal elements. N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*) chose arbitrarily an element a1 from X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 X1 = {x | x \in X1 and a1 &gt; x } (i.e. the set of elements in X &lt; a1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a1 is not minimal, X1 is nonempty and has no minimal element, to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we can repeat the procedure (*) infinitely to find a2, X2, a3, x3,... and obt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finite ascending sequence a1 &gt; a2 &gt; a3 &gt; ... So S is not w.f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Variants of Induc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hematical Indu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ove a property P(n) holds for all natural number 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, it suffices to show t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0) holds   --- (base step)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For all 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, p(n) =&gt; p(n+1) --- (induction ste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(n) in (2) is call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uction hypothe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h.p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0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 P(n) =&gt; P(n+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------------------------------------MI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P(n)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0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P(0)/\...p(n-1) =&gt; P(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------------------------------------MI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P(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33"/>
                </a:solidFill>
                <a:uFillTx/>
                <a:latin typeface="Arial"/>
              </a:rPr>
              <a:t>Well-order Induction</a:t>
            </a:r>
            <a:endParaRPr b="1" lang="en-US" sz="18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-order indu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,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a well-ordered set; P(x): a property about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how that P(x) holds for all x in S, it suffices to sh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 P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holds where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least element of S. --- (base ste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 for all x in S, if (for all y in S  y &lt; x =&gt; P(y)) =&gt; p(x) ---(ind. ste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 is a special case of (2) [i.e., (2) implies (1)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or all y in S  y &lt; x =&gt; P(y)) in (2) is called the ind. hyp. of (2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  ,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[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x x&lt; y =&gt;P(x)  ) =&gt; P(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 W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P(x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Variants of induc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-founded induction (WI 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 well-founded set. P(x) a property about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  says that to prove that P(x) holds for all x in S, it suffices to show t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 P(x) holds for all minimal elements x in S --- base step, 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 for all x in S, (for all y in S  y &lt; x =&gt; P(y)) =&gt; p(x) ---ind. 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 has already implied by (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or all y in S  y &lt; x =&gt; P(y)) in (2) is the ind. hyp. of the proof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.f. Ind. =&gt; well-ordered ind. =&gt; math i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.e., If w.f ind. is true, then so is well-ordered ind.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ll-ordered ind. is true , then so is math. ind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Correctness of  WI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,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: a well-founded set.      P(x) : a property about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P(x) holds for all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, i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 P(x) holds for all minimal elements x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 --- base step, 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 for all x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,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Arial"/>
              </a:rPr>
              <a:t>(</a:t>
            </a:r>
            <a:r>
              <a:rPr b="1" i="1" lang="en-US" sz="2000" spc="-1" strike="noStrike" u="sng">
                <a:solidFill>
                  <a:srgbClr val="800080"/>
                </a:solidFill>
                <a:uFillTx/>
                <a:latin typeface="Arial"/>
              </a:rPr>
              <a:t>for all y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Symbol"/>
                <a:ea typeface="Symbol"/>
              </a:rPr>
              <a:t></a:t>
            </a:r>
            <a:r>
              <a:rPr b="1" i="1" lang="en-US" sz="2000" spc="-1" strike="noStrike" u="sng">
                <a:solidFill>
                  <a:srgbClr val="800080"/>
                </a:solidFill>
                <a:uFillTx/>
                <a:latin typeface="Arial"/>
              </a:rPr>
              <a:t> S  y &lt; x =&gt; P(y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p(x) ---ind. Ste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:  Suppose WI is incorrect. Then there must exist (S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atisfying (1)(2) b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t NP = { x |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 and P(x) is not true } is not empty. (*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=&gt; Let x b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y minimal element of N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(1): x is minimal in S. --&gt; impossible! (violating (1)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(1), P(x) holds and x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(2): x is not minimal in S. --&gt; still impossible!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not minimal ==&gt; L = {y |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 /\ y &lt; x} is not emp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=&gt; 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P = { }  (o/w x would not be minimal in NP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=&gt; (ind. hyp. holds for x , i.e.,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for all y </a:t>
            </a:r>
            <a:r>
              <a:rPr b="1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 S, y &lt; x =&gt; p(y)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=&gt; (by (2).) p(x) holds ==&gt; x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.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(1) and (2) imply NP has no minimal element and hence is empty, which contradicts with (*). Hence the assumption that WI is incorrect is wrong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Definition by induction (or recursion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72520" y="685800"/>
            <a:ext cx="9480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the following ways of defining a se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the set of even numbers Even = {0,2,4,...}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rule   :  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v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ure rule:  if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then x +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he set of string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 baseline="2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ver an alphabet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{a,b,c,...,z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:  if x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x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ure:  If x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2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The set of lists of numb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: [ ] is a list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ure: If x is number and L is a list, then [x | L] is a lis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x | L] is the result of inserting x into the head position  of 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[ 5 | [2,3,4]] = [5,2,3,4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All definitions well-defined? What’s wro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Problems about recursive definition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9200" y="609120"/>
            <a:ext cx="93283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bove definitions are incomplete in that there are multiple set satisfy each defi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Ni = {0,2,4,6,...} U { 2i+1, 2i+3, ...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{0,2,4,6,...} and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 &gt;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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ll satisfy Def.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ng {0,2,4,6,...} and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i &gt;  0) , which one is our intended set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overcome the incompleteness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between {0,2,4,...} and the collection of sets satisfying the defini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0,2,4,...}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least 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mong all s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0,2,4,...} is equal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inters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ll s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other set contains element which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 groun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66360" y="304920"/>
            <a:ext cx="7410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General form of inductively defining a set  (or domain)  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72880" y="762120"/>
            <a:ext cx="940464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a set,      Init: a subset o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: a set of functions 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efine a subset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as fo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Initialization:  Every element of Init is an element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r simply Ini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closure: If f: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F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...,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embers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so are f(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...,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plus one of the following 3 phra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least subset of W with the above two proper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intersection of all subsets of W with property 1,2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 Only elements obtainable by a finite number of applications of rules 1 and 2 are elements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Although phrase 3. is necessary, it is usually replaced by an adv. “inductively” or “recursively”  before “define”, and sometimes even totally omitted if it is understood in mind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Define functions on recursively defined domai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the following functio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a 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&gt; N with #a(x) = number of a’s in string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 we can define #a as fo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: specify the value #a(x) of x for each x in Init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&gt; #a(a) = 1 ; #a(x) = 0 if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ure: specify the value #a(f(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...,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of element f(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...,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for each f in F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...,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&gt; for any y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z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a(zy) = 1 + #a(y) if z = a   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a(zy) = #a(y)       if  z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 kind of definitions are well defined. why ?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Goals of the course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the foundation of compu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precise the meaning of the following term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formal] languages, problems, Programs, machines, compu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computa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languages, problems, sets, functions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various models of machines and their relative power : FA, PDAs, LA (linear bound automata), TMs, [register machines, RAMs,...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various representations of languages in finite ways via grammars: RGs, CFGs, CSGs, general PSG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Structural induction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72880" y="533160"/>
            <a:ext cx="9328320" cy="606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n inductively defined dom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x): a property 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how that P(x) holds  for all x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t suffices to sh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 step: P(x) holds for all x in Ini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. step: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(t</a:t>
            </a:r>
            <a:r>
              <a:rPr b="1" i="1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,...,P(t</a:t>
            </a:r>
            <a:r>
              <a:rPr b="1" i="1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&gt; P(f(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...,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) for all f in F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for all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...,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 show P(x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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#a(x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” holds for all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 step: x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it =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{a,b,c,...}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= a =&gt; #a(x) = 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=&gt; #a(x) = 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. step: x = zy where z is any element i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 y is any element i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(ind. hyp.)  #a(y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0. 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z = a    =&gt; #a(z y) = 1 + #a(y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z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  =&gt; #a(z y) = #a(y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0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More example: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72880" y="685800"/>
            <a:ext cx="9404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the set of  labeled binary trees as fo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a set of labels = {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..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 {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= the set of string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subset o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defined inductively as fo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: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tre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ure: if x is a label, and L and R are tre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L R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tre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/ counter 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a ()()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(a) (b) ()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ach tree T, let lf(T) = # of “(“  and lb(T) =# of labels in T; e(T) = number of empty subtrees “()”, which can be defined as fo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: lf(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1; lb(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0; e(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ure: lf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x L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= 1+ lf(L) + lf(R) ; lb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x L 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) = 1 + lb(L) +lb(R) ; e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x L 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= e(L) + e(R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More example(cont’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609120"/>
            <a:ext cx="93726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structural ind. to prove properties of tre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 that for all tree T in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P(T)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f(T) = lb(T) + e(T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lds for all tree 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se step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 =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 :  lf(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1, lb(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=0, e(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=1. O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. step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=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x L 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re x: any label, L, R: any trees]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.hyp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) lf(L) = lb(L) + e(L)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f(R) = lb(R) + e(R )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f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x L 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= 1 + lf(L) + lf(R) = 1 +lb(L) +lb(R) + e(L) +e(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x L 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= e(L) +e(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b(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x L 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=1 + lb(L) + lb(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&gt; lf((X L R)) = lb((X L R)) + e((X L R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Basics of formal languag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language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aning triang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5"/>
          <p:cNvGrpSpPr/>
          <p:nvPr/>
        </p:nvGrpSpPr>
        <p:grpSpPr>
          <a:xfrm>
            <a:off x="2575800" y="1987560"/>
            <a:ext cx="4123440" cy="3121920"/>
            <a:chOff x="2575800" y="1987560"/>
            <a:chExt cx="4123440" cy="3121920"/>
          </a:xfrm>
        </p:grpSpPr>
        <p:sp>
          <p:nvSpPr>
            <p:cNvPr id="201" name="AutoShape 4"/>
            <p:cNvSpPr/>
            <p:nvPr/>
          </p:nvSpPr>
          <p:spPr>
            <a:xfrm>
              <a:off x="3816360" y="1987560"/>
              <a:ext cx="1434960" cy="82548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5"/>
            <p:cNvSpPr/>
            <p:nvPr/>
          </p:nvSpPr>
          <p:spPr>
            <a:xfrm>
              <a:off x="2749680" y="3892680"/>
              <a:ext cx="1434960" cy="82548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ngu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6"/>
            <p:cNvSpPr/>
            <p:nvPr/>
          </p:nvSpPr>
          <p:spPr>
            <a:xfrm>
              <a:off x="5264280" y="3968640"/>
              <a:ext cx="1434960" cy="82548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tern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7"/>
            <p:cNvSpPr/>
            <p:nvPr/>
          </p:nvSpPr>
          <p:spPr>
            <a:xfrm flipH="1">
              <a:off x="3200040" y="2666880"/>
              <a:ext cx="6858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4191120" y="434340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5181480" y="2666880"/>
              <a:ext cx="7621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5163840" y="3203640"/>
              <a:ext cx="130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fers 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1"/>
            <p:cNvSpPr/>
            <p:nvPr/>
          </p:nvSpPr>
          <p:spPr>
            <a:xfrm>
              <a:off x="4021560" y="4651200"/>
              <a:ext cx="137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nd f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"/>
            <p:cNvSpPr/>
            <p:nvPr/>
          </p:nvSpPr>
          <p:spPr>
            <a:xfrm>
              <a:off x="2575800" y="3203640"/>
              <a:ext cx="1538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mboliz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 flipH="1">
              <a:off x="4267080" y="35812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 flipH="1">
              <a:off x="4343400" y="365760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Different levels of language analysi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320" y="53352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netic and phonological analysis 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音韻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how words are related to sounds that realize them; required for speech understand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phological analysis: 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詞彙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how words are formed from more basic meaning units called "morphemes". (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詞 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pheme:   primitive unit of meaning in a langu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: friendly = friend + ly;  luckily = lucky + 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tax analysis: 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語法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how words can be put together to form correct sent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what structure role each word plays in the sent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what phrases are subparts of what other par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levels of language analysi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antics analysis : 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語意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what words mean and how these meanings combine in sentence to form sentence meaning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 independ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gmatic analysis: (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語用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n how sentences are used in different situation and how use affects the interpretation of senten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urse analysis,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ld knowledge,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s (including natural and programming languages) contains many facets, each an active research domain of AI, linguistics, psychology, philosophy, cognitive science and mathematic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What are formal languag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study of formal languages we care only the well-formedness (or more abstractly the membership of), but not the meaning of sentences, in a langua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1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r usual decimal language of positive numbers 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: Which of the following are well-formed [representation of] numb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 128  (2) 0023    (3) 44ac   (4) 332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L be the set of all well-formed [representations of ] numbers. ==&gt; 123, 3327 in L but 0023, 44ac not in 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according to the view of FL, The usual decimal language of positive numbers (i.e., L) is just the set { x | x is a finite sequence of digits w/t leading zeros 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FL don't care that string '134' corresponds to the (abstract) positive number whose binary rep. is 10000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Definition 2.1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320" y="609120"/>
            <a:ext cx="96012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lphabe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or vocabulary;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字母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s a finite se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 decimal_alphabet = {0,1,2,3,4,5,6,7,8,9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_digit = {0,1}; Hexidecimal-alphabet = {0,..,9,A,..,F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phabet-of-English-sentences = {a, word, good, luckily,...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phabet-of-English-words = {a,...,z,A,...,Z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s of an alphabet are called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lette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symb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string (or word or sentence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a finite sequence of elements of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 i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{a,b} then 'aabaa' is a string ove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length 5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ngth of a string x, denoted |x|, is the number of symbols in x. ex: |abbaa| = 5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is a unique string of length 0, called the null string or empty string, and is denoted b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Definition 2.1 (cont'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320" y="533160"/>
            <a:ext cx="982800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set of all string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 {a,b}* =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a,b,aa,ab,ba,bb,aaa,...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a}* =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a,aa,aaa,aaaa,...} 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}* = ?    ( {} or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?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the difference b/t sets and string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a,b} = {b,a} but a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a,a,b} = {a,b} but aa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what's a (formal) language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languag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is a set of strings over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(i.e., a subset of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*)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: le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{0,...,9} then all the followings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 2. {}   3. {0,...,9}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4. {x |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and has no leading 0s}  5.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{x |  |x| = 5} 6.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= {x | |x| is finite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Examples of practically used formal languag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 Le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e the set of all ASCII cod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 program is simply a finite string ove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tisfying all syntax rules of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-language =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x | x is a well-formed C program ove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CAL-language = {x | x is a well-formed PASCAL program ove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ly, let ENG-DIC = The set of all English lexic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{ John, Mary, is, are, a, an, good, bad, boys, girl,..}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nglish sentence is simply a string over ENG-D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&gt; English =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x | x is a legal English sentence over END-DIC} ==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John is a good boy .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glis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|John is a good boy . |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  <a:ea typeface="全真隸書"/>
              </a:rPr>
              <a:t>Chapter 1 Introduction</a:t>
            </a:r>
            <a:endParaRPr b="1" lang="en-US" sz="44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全真隸書"/>
              </a:rPr>
              <a:t>include Lecture 1 and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issues about formal languag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need formal languag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pecification (specifying programs, meanings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e., basic tools for communications b/t people and machi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FL does not provide all needed theoretical framework for subsequent (semantic processing...) processing, it indeed provides a necessary start, w/t which subsequent processing would be impossible -- first level of abstra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basic problems [about computation] can be investigated at this level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specify(or represent) a language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: All useful natural and programming languages  contains infinite number of strings (or programs and sentenc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Languages and Problems (skippe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problem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problem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Prob1(The integer-addition problem): Given any pair of integers x and y, return their sum x+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Prob2(The sorting problem): Given any list of integers, find their sorted li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Prob3(The even length bit string problem): Given an input bit string x, determine if it is of even length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 space: the set of all possible inputs (problem instanc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1 ==&gt; {(x,y) | x,y in Z} = 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2 ==&gt; Z* ={ x | x is a list of numbers}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3 ==&gt; {0,1}* = the set of all possible bit string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What is a problem ? (skippe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560" y="609480"/>
            <a:ext cx="970740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 space: the set of all possible outputs (problem solutions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1 ==&gt; Z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2 ==&gt; {x | x is a sorted list of integers } = {1, 1 3 5,...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3  ==&gt; { yes, no }  (or {true, false} or {0,1} etc.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abstractly a problem Pr is a triple (P, S, Q) whe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 is a set called the problem space of P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is a set called the solution space of Pr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is a binary relation between P and S. For any pair (x,y) in PxS, if (x,y) in Q, we say y is a solution of Pr for input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re are multiple y’s with (x,y) in Q, we say x has multiple sol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re is no y with (x,y) in Q, we say x has no solu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Sometimes we simply identify Pr with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What is a problem (cont’d) (skippe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Prob1 = (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Z, 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w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{((x,y), x+y) | x,y in Z} = {((1,1),2), ((2,3),5),...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((1,2),3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1, we say 3 is the solution of the integer  addition problem for input x and 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Prob2 = (Z*, {x | x is a list of sorted integers}, Q2) w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2 = {(x,y) | y is a sorted list of x }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{(1 23 4 4 35, 1 4 4 23 35), (1 3 10 4 7, 1 3 4 7 10)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...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Prob3 =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, {yes, no}, Q3 ) w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3 = {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yes), (1, no) (0, no), (11, yes), (01, yes),...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&gt; Prob3( yes-or-no problems) is called a decision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What is a decision problem? (skippe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0240" y="533520"/>
            <a:ext cx="95569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ecision (yes/no;true/false) problem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a problem (P, S, Q) whe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{yes,no}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is a total function (I.e., for each x in P there is exactly on y in S s.t. (x,y) in Q).  The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 = { x | (x, yes) in Q} is called the set of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sitive instan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r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 = P - Pos is called the set of al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egative instan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 Since (P,S,Q) and (P, Pos) can be uniquely determined by each other, we can simply use (P, Pos) (and sometimes even use the set Pos if P is clear in the context) to represent the problem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Some example decision problems (skippe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4: Given an input integer x, determine if it is a prim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&gt; Prob4 = (Z, {x | x is a prime integer}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5: Given two integers x,y, determine if x &lt; y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&gt; Prob5 = ({(x,y) |x,y in Z},  {(x,y) | x &lt; y}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6: Given a list of numbers x1,...,xn and a number y, determine if y is   an upper bound of x1,..,xn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&gt; Prob6 = ({(L,y) | L is a list of numbers, y is a number},  {(L, y) | 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x(L)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7: Given a list of number x1,..,xn, return the larges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not a decision problem 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7067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Abstract problems and Concrete Problems (skippe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49200" y="533520"/>
            <a:ext cx="9252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blems defined above are called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bstract 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nce all P, S and Q ar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bstract mathematical objec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other hand, the problem Prob3 of determining if input bit string is of length even is called 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concrete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nce both its input instances and output are (symbol; bit) strings, </a:t>
            </a:r>
            <a:r>
              <a:rPr b="1" i="1" lang="en-US" sz="2400" spc="-1" strike="noStrike">
                <a:solidFill>
                  <a:srgbClr val="ff0033"/>
                </a:solidFill>
                <a:latin typeface="Arial"/>
              </a:rPr>
              <a:t>which real machines can manipul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 we say a problem (P,S,Q) is a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ncrete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P and S are (formal) languages (I.e., sets of strings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oncrete problems we can say of their computabi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how can we say that a non-concrete problem is computable or no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ncrete represen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bstract proble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0"/>
          <p:cNvGrpSpPr/>
          <p:nvPr/>
        </p:nvGrpSpPr>
        <p:grpSpPr>
          <a:xfrm>
            <a:off x="1454040" y="5370480"/>
            <a:ext cx="6769080" cy="1263240"/>
            <a:chOff x="1454040" y="5370480"/>
            <a:chExt cx="6769080" cy="1263240"/>
          </a:xfrm>
        </p:grpSpPr>
        <p:sp>
          <p:nvSpPr>
            <p:cNvPr id="239" name="Rectangle 4"/>
            <p:cNvSpPr/>
            <p:nvPr/>
          </p:nvSpPr>
          <p:spPr>
            <a:xfrm>
              <a:off x="1454040" y="5492880"/>
              <a:ext cx="2044800" cy="1054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bstra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bl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5"/>
            <p:cNvSpPr/>
            <p:nvPr/>
          </p:nvSpPr>
          <p:spPr>
            <a:xfrm>
              <a:off x="6178680" y="5492880"/>
              <a:ext cx="2044440" cy="1054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cret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bl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3794040" y="5370480"/>
              <a:ext cx="1448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c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"/>
            <p:cNvSpPr/>
            <p:nvPr/>
          </p:nvSpPr>
          <p:spPr>
            <a:xfrm>
              <a:off x="4022640" y="6175440"/>
              <a:ext cx="1573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pres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8"/>
            <p:cNvSpPr/>
            <p:nvPr/>
          </p:nvSpPr>
          <p:spPr>
            <a:xfrm>
              <a:off x="3733920" y="5867280"/>
              <a:ext cx="21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9"/>
            <p:cNvSpPr/>
            <p:nvPr/>
          </p:nvSpPr>
          <p:spPr>
            <a:xfrm flipH="1">
              <a:off x="3733920" y="6095880"/>
              <a:ext cx="21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(Decision) problem representations (skippe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 = (P, Pos) : a problem;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an alphab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: P -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If e is a 1-1 mapping, then we say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,e) is a (language) representation (or encoding) of the problem Prob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For each instance I in Prob, the string e(I) is called the representation of I under the representation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,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ob8: Given two nonnegative integers x,y, determine if x &lt; y 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&gt; Prob8 = ({(x,y) |x,y in N},  {(x,y) | x &lt; y} 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{0,..,9,[,],|}, and for each number x let e(x) = decimal rep. of x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for each instance (x,y) of Prob1, let e((x,y)) = [ e(x) | e(y) 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&gt; e(P) is a subset of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* = { [e(x)|e(y)] |x &lt; y } = {[0|1], [2|4],...}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ince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there are easy ways to transform abstract problems into concrete 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by simple encoding), the study of computability and complexity of abstract problems can be reduced to the study of concrete language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How to specify a language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320" y="53352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s: 1. must be precise and no ambiguity among users of the language: 2. efficient for machine 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traditional mathematical not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= {x | |x| &lt; 3 and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a,b}} = {e,a,b,aa,ab,ba,bb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  in general not machine understand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via programs (or machines)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: a program; L(P) =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x | P return 'ok' on input string x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se, no ambiguity, machine understand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 to understand for human users !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via grammars: (easy for human to understan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:  noun :=  book | boy | jirl | John | 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 := a | an | the   ; prep := on | under | of |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 := good | bad | smart |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 := noun | art noun | NP PP |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 := prep NP  ==&gt; 'the man on the bridge'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Non-enumerability of languages 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all that a set is denumerable if it is countably infinite. (i.e., A set T is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denumera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f there is a 1-1 and onto mapping b/t T and {0,1,...}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s: I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finite and nonempty, the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is denumerable (i.e., |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| = |N|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e., the set of all languages ove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uncount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f: Since |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| = |N|, hence |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is not coun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Mathematical preliminaries (reviews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ursive defin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s of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anguage for specifying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Operations on strings 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 concatena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,y: two strings ==&gt; x·y is a new string with y appended to the tail of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properties of ·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SSOC: (xy)z = x(yz) ;  2.  Identity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= x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|xy| = |x| + |y|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any algebra (M, ·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atisfies 1 and 2 is called a </a:t>
            </a: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mono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,·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a monoid for any alphabe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ntions and abbrevia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for alphabet ;        a,b,c: for symbols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,y,z: for strings;     A,B,C: for language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^5 for aaaaa; a^1 = a ; a^0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a(x) =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ber of a's in x. ==&gt; #a(aabbcca) = 3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Operations on languages (i.e, string sets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usual set opera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: A U B = {x |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or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: {a,ab} U { ab, aab} = {a,ab,aab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section: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 = {x |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and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ments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: ~A =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- A =  { x | x no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 ~{x | |x| is even } = {x | |x| is odd 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Set concatena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{xy |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and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 }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 {b,ba} {a,ab} = {ba,bab,baa,baab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like string concatenation, set concatenation is asso and has an identity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. Hence 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· ,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) is a monoi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Powers of A: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 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0) is defined inductivel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; 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----- n A'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Operations on languages (cont'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 Let A = {ab,abb}. Th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?                2.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|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=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Hence {a,b,c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{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a,b,c}* | |x| = n }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{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Asterate (or star) A* of A is the union of all finite powers of 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*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 A U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 ..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{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| 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0 and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for 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 can be 0 ==&gt;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*. ==&gt;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{}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If A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=&gt; A*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= the set of all finite strings 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Properties of  languages operat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set of all nonzero powers of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k \ge 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A U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... = A A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ies of languages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associative: U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, · 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(BUC) = (AUB)UC;  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) = (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(BC) = (AB)C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commutative  : U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Identiti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 U {} = {}UA = A;  2. 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= 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A = A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=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Annihilator: A{} = {}A = {}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Properties of languages operations (cont'd)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Distribution la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(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= (AUB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UC)    ;   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UC) = (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U(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(BUC) = AB U AC                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(B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) = AB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  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 Let A = {a,ab}, B = {b}, C =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&gt; A(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= ?   AB = ?  AC = ?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&gt; A(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rcise: show that A(BUC) = AB UA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De Morgan Laws: ~(AUB) = ?   ~(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) =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Properties about A*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*A* = A* ;     2. A**  = A*;      3. A* =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UAA*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AA* = A*A =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5. {}* =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rcises: Prove 1~5. (hint: direct from the definition of A*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A language for specifying languag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term: 'a language for specifying languages', the former language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talangua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hile the later languages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arget langu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in the C language reference manual, the BNF form is a meta language and C itself is the target langu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an alphabet ;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 { +, *, e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·, ), ( }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 {~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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The set of all regular expressions is  a subset o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which can be defined inductively as fo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: 1. e,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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regular 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very symbol a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regular expres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on: I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regular expressions then so 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Regular express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 reg. expr. : e,   (a+b)*,  ((a +(b·c))+(e·b)*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egal reg. expr:  (ab), a + b, ((a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) + d, where d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egal formally but legal if treated as abbrevi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  --&gt; (a·b)  ;   a+b --&gt; (a+b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+ bc*  --&gt; (a + (b·c*)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ded regular expressions (EREGs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EGs are strings over E and can be defined inductively as fo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: 1. e,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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ERE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very symbol a 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ERE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on: I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EREGs then so 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, (~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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Languages represented by regular expression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Extended] regular expressions provides a finite way to specify infinite languag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 for each EREG (and hence also REG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language (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specified (or denoted or represented) b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written L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is defined inductively as follow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: L(e) =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;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{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a ∈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L(a) = {a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on: assume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nd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ave been defined for ERE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U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) =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*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(~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-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-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; L(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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) =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anguage A is said to be </a:t>
            </a: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regul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A =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for some regular express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Examples: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{a,b}. Th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( a(a+b)*) = {x | x begins with a } = {a,aa,ab,aaa,aab,aba,...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(~(a(a+b)*))  = {x | x does not begin with a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{x | x begins with b } U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= L( e + b(a+b)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 expressions and Extended regular expressions give us finite ways to specify infinite languages. But the following questions need to be answered before we can be satisfied with such tool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re EREG or REGs already adequat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.e, For every A ⊆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, there is an express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.t.,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A ? )  ==&gt;  ans: _____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For every express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s there any [fast] machine that can determine if x ∈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for any input string x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: _______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IS EREG more expressive than REG ?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1, L2: two [meta] languages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L1 is at least as expressive as L2 if L(L2) =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A | there is an expression a in L2 s.t. A = L(a) }  is a subset of L(L1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1 is said to be equivalent to L2 in expressive power iff both are at least as expressive as the oth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EG is at least as expressive as REG since L(REG) is a subset of L(EREG) (why?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does the converse hold ? (i.e, Is it true that for each ERE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re is a RE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.t.,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L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:  _____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25C1-721D-4634-B3B4-039A0CCEA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Set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60" y="755280"/>
            <a:ext cx="9509040" cy="50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structure upon which all other (discrete and continuous ) structures are buil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et is a collection of obje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bject is anything of interest, maybe itself a s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 1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et is a collection of objec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s is a set are called the elements or members of the se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 is a memebr of a set S, we say S contains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vs 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 In 1,2,3,4,5, the collection of 1,3 5 is a set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93F3-3CDD-4DB8-B6B5-AB649003B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Set description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describe a set: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List all its memb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t of  all positive odd integer &gt;10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t all decimal digits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t of all upper case English letters 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t of all nonnegative integ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Set builder not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x) : a property (or a statement or a proposition) about objec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P(x) = “ x &gt; 0 and x is odd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{x | P(x) } is the set of objects satisfying property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3) is true =&gt; 3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x | P(x)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2) is false =&gt; 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{x | P(x)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投影片編號版面配置區 4"/>
          <p:cNvSpPr/>
          <p:nvPr/>
        </p:nvSpPr>
        <p:spPr>
          <a:xfrm>
            <a:off x="708660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9B95-59E6-4337-B8E8-907AA8DA7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3040" y="228600"/>
            <a:ext cx="6108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Set predicates</a:t>
            </a:r>
            <a:endParaRPr b="1" lang="en-US" sz="2000" spc="-1" strike="noStrike" u="sng">
              <a:solidFill>
                <a:srgbClr val="ff0033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320" y="609480"/>
            <a:ext cx="96026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 2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sets S1, S2 are equal iff they have the same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1 = S2 i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1 &lt;=&gt;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   {1,3,5} = {1,5,3} = {1,1,3,3, 5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ll set ={}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collection of no obje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 3’: [empty set] for-all x 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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 3. [subset]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 iff all elements of A are elements of 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 &lt;=&gt; for-all x 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=&gt;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 3’’: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 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 /\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 : Show that:  1. For all set A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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 /\ 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 &lt;=&gt; (A = B)      3.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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10:00:48Z</dcterms:created>
  <dc:creator/>
  <dc:description/>
  <cp:keywords/>
  <dc:language>en-US</dc:language>
  <cp:lastModifiedBy>chencc</cp:lastModifiedBy>
  <cp:lastPrinted>1997-02-21T01:03:40Z</cp:lastPrinted>
  <dcterms:modified xsi:type="dcterms:W3CDTF">2008-10-03T05:02:40Z</dcterms:modified>
  <cp:revision>126</cp:revision>
  <dc:subject/>
  <dc:title>Chapter #1: Introduction    Formal  Logic   September 1996</dc:title>
</cp:coreProperties>
</file>