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907588" cy="6858000"/>
  <p:notesSz cx="674687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46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1116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20680" y="1116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-360" y="9437400"/>
            <a:ext cx="29242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20680" y="9437400"/>
            <a:ext cx="29242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810C9A9A-3B39-4BFB-8308-1EECF12BD5B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879480" y="758520"/>
            <a:ext cx="49989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move the slid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674640" y="4707360"/>
            <a:ext cx="53967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821040" y="9437760"/>
            <a:ext cx="2924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B2B7FED9-6906-41F7-91F9-E30928510DE5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88840" y="765000"/>
            <a:ext cx="4978440" cy="3446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88840" y="4726080"/>
            <a:ext cx="49672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0C70-10E4-4BB5-B6B5-6B492909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51DF-CBE3-4DD7-A62B-5C5CC40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D4B4-15B8-4493-8070-DFD6A3AF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244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89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244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89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ABDD-45D1-4706-ADD1-2AA4305A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3040" y="228600"/>
            <a:ext cx="6108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051C-0894-4341-A4D0-FCA7AEF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2244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89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3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2244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89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5C62-8391-4943-9595-9A9F193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70A9-9462-4E25-9168-C59BF60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7E6B-B070-4D22-A79C-691193E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28600"/>
            <a:ext cx="6108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AA30-0432-4921-A274-2660EBC1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9A16-961D-4D89-87EE-D9D8C45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A27C-783A-4A0E-8D71-266B0AF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9F95-54F6-44C8-91B2-1272582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106200" y="100080"/>
            <a:ext cx="9693360" cy="6657840"/>
          </a:xfrm>
          <a:prstGeom prst="roundRect">
            <a:avLst>
              <a:gd name="adj" fmla="val 12495"/>
            </a:avLst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72400" y="38160"/>
            <a:ext cx="1523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DFC-0EB3-40F7-B10B-EDDDBF238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52960" y="6627960"/>
            <a:ext cx="24181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arency No. 1-</a:t>
            </a:r>
            <a:fld id="{7F521614-F5EE-4D7D-A80C-62DCB04CC2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106200" y="100080"/>
            <a:ext cx="9693360" cy="6657840"/>
          </a:xfrm>
          <a:prstGeom prst="roundRect">
            <a:avLst>
              <a:gd name="adj" fmla="val 12495"/>
            </a:avLst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696080" y="0"/>
            <a:ext cx="1787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l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692840" y="6629400"/>
            <a:ext cx="18100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arency No.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全真隸書"/>
              </a:rPr>
              <a:t>Formal Language and Automata Theory</a:t>
            </a:r>
            <a:endParaRPr b="1" lang="en-US" sz="48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ng-Chia C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31E-2430-4A84-8B75-3206B0345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ize or cardinality of a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A | = the size(cardinality) of A = # of distinct elements of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{1,3,3,5}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{}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the set of binary digits } 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N| = ?  ;  |Z| = ? ;  | {2i | i in N} = 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R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A is finite iff |A| is a natural number ; o/w it is infini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ets are of the same size (cardinality) iff there is a 1-1 &amp; onto mapping between th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DBE-EDA7-4D25-80CA-CD1DFA951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ntability of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: Show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|N| =  |Z| = | Q | = {4,5,6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|R|  = | [0, 1) 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|N|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|R|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A is said to be denumerable  iff |A| = |N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is countable (or enumerable) iff either |A| = n for some n in N or |A| = |N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xercise 3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s not coun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 and Z is counta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13C-31B3-47D8-8CE7-02C94306E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he power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6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is a set, then the collection of all subsets of A is also a set, called the poser set of A and is denoted as P(A) or 2</a:t>
            </a:r>
            <a:r>
              <a:rPr b="1" lang="en-US" sz="2400" spc="-1" strike="noStrike" baseline="24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{0,1,2})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{})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P({1,2,..., n})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of elements in a set are indistinguishable. But  sometimes we need to distinguish between (1,3,4) and (3,4,1)  --&gt; ordered n-tup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about cardinality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880" y="533160"/>
            <a:ext cx="940464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: for any set A, |A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(1) The case that A is finite is trivial si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|A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|A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re is no bijection b/t two finite sets with different siz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assume |A| =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, i.e., there is a bijection f: A -&g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 D = {x in A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x) }.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 is a subset of A; H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in A s.t. f(y) = 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s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es (i.e.,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  ==&gt;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y) = D, a contra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 (i.e.,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 ==&gt;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y) =D, a contradiction to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e assumption is false, i.e., there is no bijection b/t A and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Many proofs of impossibility results about computations used arguments similar to thi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CAFA-B453-43D3-BE66-AB0FE13D0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artesian Produc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0480" y="685800"/>
            <a:ext cx="97534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7 [n-tupl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1,a2,...,an (n &gt; 0) are n objects, then “(a1,a2,...,an)”  is a new object, called an (ordered) n-tuple [ with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the ith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rderd 2-tuple is called a pa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1,a2,...,am) = (b1,b2,...,bn)  if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= n and    for i = 1,..,n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8: [Cartesian produc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x 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(a,b) | a in A /\ b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 x A2 x ...x An =def  {(a1,...,an) | ai in Ai 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A = {1,2}, B = {a,b,c} , C = {0,1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 x B = ?  ; 2. B x A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 x {} = ?   ;4. A x B x C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E932-3429-4B9D-B486-262F37A4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oper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on, intersection, difference , complement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x | x in A or x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x | x in A and x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 - B = {x | x in A but x not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~ A = U -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If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} =&gt; call A and B disj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5749-6FBC-4532-8817-555EF583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identit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laws:                  A ? ? =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ion law:             U ? ? = U;   {} ?? = {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mpotent law:             A ? A = A 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mentation:         ~~A =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tative :               A ? B = B ?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ociative:                  A ? (B ? C) = (A ? B ) ?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ve:                  A ? (B ? C)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regan laws:         ~(A ? B) = ~A ? ~B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Any set of objects satisfying all the above law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olean algeb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4D2-B931-4E27-B549-590402820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ve set equality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how that ~(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) = ~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B by show tha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~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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B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~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: (By definition) Let x be any elemen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(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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how (1) by using set builder and logical equival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how distributive law by using membership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ow ~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)) = (~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B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A by set ident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DAA-A3E0-4A11-B475-975020384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Fun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. 1 [functions]     A, B: two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 function f from A to B is a set of pairs (x,  y) in AxB s.t., for each x in A there is at most one y in B s.t. (x,y) in 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f (x,y) in f, we write f(x)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f :A -&gt;B means f is a function from A to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. 2. If f:A -&gt; B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: the domain of f;   B: the codomain of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(a)=b =&gt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b is the image of a;   3. a is the preimage of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ange(f) = {y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.t. f(x) = y} = f(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preimage(f) = {x | $ y s.t. f(x) = y } =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f is total iff 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=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B62-C376-42CC-945D-94270D7D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ypes of fun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4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x B;   S: a subset of A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: a subset of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f(S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{y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in S s.t. f(x) = y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x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in T s.t. f(x) = y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[1-1, onto, injection, surjection, bijection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-&gt; 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is 1-1 (an injection) iff  f(x)=(fy) =&gt; x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is  onto (surjective, a surjection) iff  f(A) =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is 1-1 &amp; onto &lt;=&gt; f is bijective (a bijection, 1-1 correspondenc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rse outlin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609120"/>
            <a:ext cx="9480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elimina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, relations, functions,sequences, graphs, trees, proof by induction, definition by induction (recurs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 of formal langu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bet, word, sentence, concatenation ,union, iteration [= Kleene star], language, infinity of languages, finite representation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: Finite Automata and Regular Se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A,NFA,regular expressions and their equiva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FA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properties of FA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of F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: two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B (Cartesian Product of A and B) is the set of all ordered pairs {&lt;a,b&gt; |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nd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 {1,2,3}, B= {4,5,6} =&gt; AxB =   ?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,A2,...,An (n &gt; 0): n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1xA2x...xAn = {&lt;a1,a2,...,an&gt; | 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i 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1={1,2},A2={a,b},A3={x,y} ==&gt; |A1xA2xA3| = 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1= {}, A2={a,b}  =&gt; A1xA2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rel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B: two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inary relation R between A and B is any subset of Ax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={1,2,3}, B ={4,5,6},  then which of the following is a binary relation between A and B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= {&lt;1,4&gt;, &lt;1,5&gt;, &lt;2,6&gt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2 = {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3 = {1,2,3,4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4 = {&lt;1,2&gt;, &lt;3,4&gt;, &lt;5,6&gt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erminology about 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0120" y="685440"/>
            <a:ext cx="932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: a binary relation between A and B (I.e., a subset of AxB),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of  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(R)  = {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 s.t. 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(R) ={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,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, s.t., 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 is usually written as x R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= B, then R is simply called a relation over(on) 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n-tuple relation R among A1,A2,...,An is any subset of A1xA2...xAn, n is called the arity of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1=A2=...=An=A =&gt; R is called an n-tuple relation (on A),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relations (and function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xB; 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x C: two 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 of R and 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· S = {&lt;a,c&gt; | there is b in B s.t., &lt;a,b&gt; in R and &lt;b,c&gt; in S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relation: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&lt;a,a&gt; | a in A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e relation: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&lt;b,a&gt; | &lt;a,b&gt; in R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A -&gt; B; g: B-&gt;C: two functions,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·f:A-&gt;C defined by g·f(x) = g(f(x)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function and relation compositions are associative, I.e., for any function or relation f,g,h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· (g·h) = (f·g) ·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560" y="762120"/>
            <a:ext cx="9404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: A binary relation on 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x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 for all x in S, x R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rreflex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 in S, not x R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 y in S, xRy =&gt; yR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 in S, xRy =&gt; not yR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 in S, xRy and yRx =&gt; x=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,z in S, xRy and yRz =&gt; xRz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realization of a binary relation and its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1454040" y="4959360"/>
            <a:ext cx="1435320" cy="1511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044960" y="4959360"/>
            <a:ext cx="1434960" cy="1511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965240" y="5032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479840" y="5032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46480" y="54896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937040" y="54896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203480" y="6175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870360" y="6175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286000" y="5257800"/>
            <a:ext cx="2590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768640" y="4879800"/>
            <a:ext cx="3918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: if xRy then draw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 from x on left S t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right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95248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et of natural numbers 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tisfy 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. irref, or neither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c, asymmetric or antisymmetric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ve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et of natural numbers 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vide | relation on integers N 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| y iff x  divides y. (eg. 2 | 10, but not 3 |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nd | satisfy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THER relation on males (or on all peop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OTHER iff x is y’s br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CESTOR relation on a fami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CESTOR if x is an ancestor of 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es BROTHER(ANCESTOR) ha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2880" y="609120"/>
            <a:ext cx="9404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: a binary relation on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ref. and tr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al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.o.) iff R is ref.,trans. and antisym. (usually written 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ict portial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.p.o) iff it is irref. and transi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written &lt;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(or linear)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a partial order and every two element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.e., for all x,y either xRy or yRx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 is 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quivalence re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ref. sym. and tr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 is a preorder (resp. po or spo) then (S,R)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ord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esp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ict po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rder set do (N, &lt;) , (N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(N, |) belong to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ordered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a poset, X: a subset of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b in X is th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east (or called minimum) 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 iff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for all x in X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b in X is th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greatest (or called maxmum or largest) 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 if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for all x in X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st element and greatest element, if existing, is unigue for any subset X of a poset (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 let x, y be least elements of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and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. So by antisym.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X ia a chain iff (X,R) is a linear order(, i.e., for all  x, y in X, either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)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b in S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wer b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esp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per b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X i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(resp.,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for all x in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b may or may not belong to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oredered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2880" y="609120"/>
            <a:ext cx="9404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: a poset, X: a nonempty subset of 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b in X is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min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X iff there is no element less than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there is no x in X, s.t., (x &lt; b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“for all x,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&gt; x =b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b in X is a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max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lement of X iff there is no element greater then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there is no x in X, s.t., (b &lt; x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“for all x,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=&gt; x=b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Every maximum element is maximal, but not the converse in gen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ximal and minimal are not unique in gen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ell-founded set and minimum condi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: a poset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偏序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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ll-f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良基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ff there is no infinite descending sequence. (i.e., there is no infinite sequence x1,x2,x3,.... s.t., x1 &gt; x2 &gt; x3 &gt;... 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x &gt; y means y &lt; x (i.e.,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and y = 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ell-founded =&gt; 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a well-founded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said to satisf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minimal 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f every nonempty subset of S has a minimal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: a total ordered set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全序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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said to be a well-ordering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良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ff  every nonempty subset of S has a least elemen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ell ordered, then 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a well-ordered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rse outline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0240" y="609120"/>
            <a:ext cx="9556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I: Pushdown Automata and Context Free Languag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Gs and CFLs; normal forms of CF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CFG; PDAs and their variation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properties of CF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ce of pda and CFGs; deterministic P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ing (Early or CYK's algorith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II: Turing Machines and Effective Computabil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ing machine [&amp; its variations] and Equivalenc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T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able and undecidable problems (Recursive sets and recursively enumerable se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reductions ; Some undecidabl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 of ordered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the relations (N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, (N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, (N, |), (Z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(Z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(Z,|) and (R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ich are well-founded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ich are well-ordered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3040" y="30492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quivalence of well-foundness and minimal condi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188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well-founded (w.f.)  iff it satisfies the minimum conditions (m.c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: scheme: (1) not w.f =&gt; not m.c. (2) not m.c. =&gt; not w.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1,x2,... be any infinite sequence s.t. x1 &gt; x2 &gt; x3 &gt;..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let X={x1,x2,...}. Then X has no minimal el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S does not satisfy m.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Let X be any nonempty subset of S w/o minimal elements.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chose arbitrarily an element a1 from X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X1 = {x | x \in X1 and a1 &gt; x } (i.e. the set of elements in X &lt; a1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1 is not minimal, X1 is nonempty and has no minimal element,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e can repeat the procedure (*) infinitely to find a2, X2, a3, x3,... and ob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finite ascending sequence a1 &gt; a2 &gt; a3 &gt; ... So S is not w.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Variants of Indu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In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e a property P(n) holds for all natural number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, it suffices to show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 holds   --- (base step)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For all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, p(n) =&gt; p(n+1) --- (induction ste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(n) in (2) i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uction hypoth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h.p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 P(n) =&gt; P(n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MI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n)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0)/\...p(n-1) =&gt; P(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MI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33"/>
                </a:solidFill>
                <a:uFillTx/>
                <a:latin typeface="Arial"/>
              </a:rPr>
              <a:t>Well-order Induction</a:t>
            </a:r>
            <a:endParaRPr b="1" lang="en-US" sz="18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order in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a well-ordered set; P(x):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how that P(x) holds for all x in S, it suffices to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olds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least element of S. --- (base ste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in S, if (for all y in S  y &lt; x =&gt; P(y)) =&gt; p(x) ---(ind. ste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is a special case of (2) [i.e., (2) implies (1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all y in S  y &lt; x =&gt; P(y)) in (2) is called the ind. hyp. of (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 ,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[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x&lt; y =&gt;P(x)  ) =&gt; P(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 W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P(x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Variants of indu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founded induction (WI 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 well-founded set. P(x)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  says that to prove that P(x) holds for all x in S, it suffices to show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) holds for all minimal elements x in S --- base step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in S, (for all y in S  y &lt; x =&gt; P(y)) =&gt; p(x) ---ind.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has already implied by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all y in S  y &lt; x =&gt; P(y)) in (2) is the ind. hyp. of the proo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.f. Ind. =&gt; well-ordered ind. =&gt; math i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.e., If w.f ind. is true, then so is well-ordered ind.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ll-ordered ind. is true , then so is math. ind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rrectness of  WI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a well-founded set.      P(x) :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P(x) holds for all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, i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) holds for all minimal elements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--- base step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(</a:t>
            </a:r>
            <a:r>
              <a:rPr b="1" i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for all y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Symbol"/>
                <a:ea typeface="Symbol"/>
              </a:rPr>
              <a:t></a:t>
            </a:r>
            <a:r>
              <a:rPr b="1" i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 S  y &lt; x =&gt; P(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(x) ---ind.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:  Suppose WI is incorrect. Then there must exist (S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atisfying (1)(2) b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t NP = { 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 and P(x) is not true } is not empty. (*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Let x b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y minimal element of N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(1): x is minimal in S. --&gt; impossible! (violating (1)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(1), P(x) holds and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(2): x is not minimal in S. --&gt; still impossible!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not minimal ==&gt; L = {y |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/\ y &lt; x} is not emp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P = { }  (o/w x would not be minimal in NP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(ind. hyp. holds for x , i.e.,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or all y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S, y &lt; x =&gt; p(y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(by (2).) p(x) holds ==&gt;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(1) and (2) imply NP has no minimal element and hence is empty, which contradicts with (*). Hence the assumption that WI is incorrect is wron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by induction (or recursion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2520" y="685800"/>
            <a:ext cx="9480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 ways of defining a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et of even numbers Even = {0,2,4,...}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ule   :  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rule:  i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n x +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set of string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ver an alphabet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a,b,c,...,z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 if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 If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he set of lists of numb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[ ] is a list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If x is number and L is a list, then [x | L] is a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x | L] is the result of inserting x into the head position  of 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[ 5 | [2,3,4]] = [5,2,3,4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All definitions well-defined? What’s wro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blems about recursive defini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9200" y="609120"/>
            <a:ext cx="932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ove definitions are incomplete in that there are multiple set satisfy each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i = {0,2,4,6,...} U { 2i+1, 2i+3, ...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{0,2,4,6,...}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 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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ll satisfy Def.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{0,2,4,6,...} and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 &gt;  0) , which one is our intended s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overcome the incompleteness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between {0,2,4,...} and the collection of sets satisfying the defini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0,2,4,...}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east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ong all s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0,2,4,...} is equal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inters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ll s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ther set contains element which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g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6360" y="304920"/>
            <a:ext cx="7410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General form of inductively defining a set  (or domain) 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2880" y="762120"/>
            <a:ext cx="94046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 set,      Init: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set of functions 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efine a subse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nitialization:  Every element of Init is an element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simply In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losure: If f: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F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embers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o are 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lus one of the following 3 phr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least subset of W with the above two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intersection of all subsets of W with property 1,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 Only elements obtainable by a finite number of applications of rules 1 and 2 are elements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Although phrase 3. is necessary, it is usually replaced by an adv. “inductively” or “recursively”  before “define”, and sometimes even totally omitted if it is understood in min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e functions on recursively defined domai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 func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 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&gt; N with #a(x) = number of a’s in string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we can define #a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specify the value #a(x) of x for each x in Init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#a(a) = 1 ; #a(x) = 0 i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specify the value #a(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element 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each f in F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for any y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z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zy) = 1 + #a(y) if z = a   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zy) = #a(y)       if  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kind of definitions are well defined. why ?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Goals of the cours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foundation of compu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precise the meaning of the following ter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formal] languages, problems, Programs, machines, compu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comput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languages, problems, sets, functions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various models of machines and their relative power : FA, PDAs, LA (linear bound automata), TMs, [register machines, RAMs,...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various representations of languages in finite ways via grammars: RGs, CFGs, CSGs, general PSG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tructural induc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2880" y="533160"/>
            <a:ext cx="9328320" cy="60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inductively defined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: a property 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how that P(x) holds  for all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suffices to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tep: P(x) holds for all x in In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. step: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(t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,...,P(t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&gt; P(f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) for all f in F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all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how P(x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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#a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” holds for all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tep: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it =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a,b,c,...}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a =&gt; #a(x) =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&gt; #a(x) =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. step: x = zy where z is any element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 y is any element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(ind. hyp.) 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 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 = a    =&gt; #a(z y) = 1 +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=&gt; #a(z y) =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example: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880" y="685800"/>
            <a:ext cx="9404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he set of  labeled binary trees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a set of labels = {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..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 the set of string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: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if x is a label, and L and R are tre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L R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e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/ counter 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a ()()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(a) (b) ()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tree T, let lf(T) = # of “(“  and lb(T) =# of labels in T; e(T) = number of empty subtrees “()”, which can be defined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: lf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; lb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; e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lf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1+ lf(L) + lf(R) ; lb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) = 1 + lb(L) +lb(R) ; e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e(L) + e(R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example(cont’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tructural ind. to prove properties of tre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hat for all tree T in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P(T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f(T) = lb(T) + e(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s for all tree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 step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 =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:  lf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, lb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0, e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1. O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. step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=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x: any label, L, R: any trees]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.hyp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) lf(L) = lb(L) + e(L)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f(R) = lb(R) + e(R )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f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1 + lf(L) + lf(R) = 1 +lb(L) +lb(R) + e(L) +e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e(L) +e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b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1 + lb(L) + lb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lf((X L R)) = lb((X L R)) + e((X L R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Basics of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aning triang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2575800" y="1987560"/>
            <a:ext cx="4123440" cy="3121920"/>
            <a:chOff x="2575800" y="1987560"/>
            <a:chExt cx="4123440" cy="3121920"/>
          </a:xfrm>
        </p:grpSpPr>
        <p:sp>
          <p:nvSpPr>
            <p:cNvPr id="201" name="AutoShape 4"/>
            <p:cNvSpPr/>
            <p:nvPr/>
          </p:nvSpPr>
          <p:spPr>
            <a:xfrm>
              <a:off x="3816360" y="198756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2749680" y="389268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5264280" y="396864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ter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 flipH="1">
              <a:off x="3200040" y="2666880"/>
              <a:ext cx="6858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191120" y="4343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5181480" y="2666880"/>
              <a:ext cx="7621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5163840" y="3203640"/>
              <a:ext cx="130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fers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4021560" y="4651200"/>
              <a:ext cx="137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nd 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575800" y="3203640"/>
              <a:ext cx="1538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i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 flipH="1">
              <a:off x="4267080" y="35812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343400" y="365760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ifferent levels of language analysi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netic and phonological analysis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音韻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are related to sounds that realize them; required for speech understand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ological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詞彙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are formed from more basic meaning units called "morphemes". 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詞 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pheme:   primitive unit of meaning in a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: friendly = friend + ly;  luckily = lucky + 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法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can be put together to form correct sent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structure role each word plays in the sen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phrases are subparts of what other p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evels of language analysi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s analysis 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意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words mean and how these meanings combine in sentence to form sentence mean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independ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gmatic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用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how sentences are used in different situation and how use affects the interpretation of sente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rse analysis,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knowledge,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s (including natural and programming languages) contains many facets, each an active research domain of AI, linguistics, psychology, philosophy, cognitive science and mathema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are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tudy of formal languages we care only the well-formedness (or more abstractly the membership of), but not the meaning of sentences, in a langu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r usual decimal language of positive numbers 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: Which of the following are well-formed [representation of] numb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128  (2) 0023    (3) 44ac   (4) 332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L be the set of all well-formed [representations of ] numbers. ==&gt; 123, 3327 in L but 0023, 44ac not in 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ccording to the view of FL, The usual decimal language of positive numbers (i.e., L) is just the set { x | x is a finite sequence of digits w/t leading zeros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FL don't care that string '134' corresponds to the (abstract) positive number whose binary rep. is 1000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2.1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609120"/>
            <a:ext cx="96012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phab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vocabulary;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字母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a finite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decimal_alphabet = {0,1,2,3,4,5,6,7,8,9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_digit = {0,1}; Hexidecimal-alphabet = {0,..,9,A,..,F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bet-of-English-sentences = {a, word, good, luckily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bet-of-English-words = {a,...,z,A,...,Z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of an alphabet are called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lett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ymb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tring (or word or sentence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 finite sequence of elements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a,b} then 'aabaa' is a string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length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ngth of a string x, denoted |x|, is the number of symbols in x. ex: |abbaa| = 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a unique string of length 0, called the null string or empty string, and is denoted b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2.1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533160"/>
            <a:ext cx="98280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et of all string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{a,b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,b,aa,ab,ba,bb,aaa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,aa,aaa,aaaa,...} 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}* = ?    ( {} or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e difference b/t sets and string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,b} = {b,a} but 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,a,b} = {a,b} but a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what's a (formal)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languag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 a set of strings 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(i.e., a subset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: 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0,...,9} then all the followings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2. {}   3. {0,...,9}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4.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and has no leading 0s}  5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x |  |x| = 5} 6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= {x | |x| is finite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 of practically used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the set of all ASCII cod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 program is simply a finite string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tisfying all syntax rules of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language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x | x is a well-formed C program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CAL-language = {x | x is a well-formed PASCAL program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ly, let ENG-DIC = The set of all English lexic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{ John, Mary, is, are, a, an, good, bad, boys, girl,..}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glish sentence is simply a string over ENG-D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English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x is a legal English sentence over END-DIC}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John is a good boy .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gli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|John is a good boy . 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  <a:ea typeface="全真隸書"/>
              </a:rPr>
              <a:t>Chapter 1 Introduction</a:t>
            </a:r>
            <a:endParaRPr b="1" lang="en-US" sz="44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全真隸書"/>
              </a:rPr>
              <a:t>include Lecture 1 and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issues about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need formal languag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pecification (specifying programs, meanings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basic tools for communications b/t people and machi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FL does not provide all needed theoretical framework for subsequent (semantic processing...) processing, it indeed provides a necessary start, w/t which subsequent processing would be impossible -- first level of abstr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basic problems [about computation] can be investigated at this level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specify(or represent) a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 All useful natural and programming languages  contains infinite number of strings (or programs and sentenc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anguages and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roblem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b1(The integer-addition problem): Given any pair of integers x and y, return their sum x+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rob2(The sorting problem): Given any list of integers, find their sorted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rob3(The even length bit string problem): Given an input bit string x, determine if it is of even length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space: the set of all possible inputs (problem instanc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1 ==&gt; {(x,y) | x,y in Z} = 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2 ==&gt; Z* ={ x | x is a list of numbers}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3 ==&gt; {0,1}* = the set of all possible bit str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problem ?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560" y="609480"/>
            <a:ext cx="97074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space: the set of all possible outputs (problem solution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1 ==&gt; Z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2 ==&gt; {x | x is a sorted list of integers } = {1, 1 3 5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3  ==&gt; { yes, no }  (or {true, false} or {0,1} etc.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abstractly a problem Pr is a triple (P, S, Q) whe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is a set called the problem space of P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is a set called the solution space of Pr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is a binary relation between P and S. For any pair (x,y) in PxS, if (x,y) in Q, we say y is a solution of Pr for input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multiple y’s with (x,y) in Q, we say x has multipl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y with (x,y) in Q, we say x has no s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Sometimes we simply identify Pr with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problem (cont’d)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b1 = (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,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w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((x,y), x+y) | x,y in Z} = {((1,1),2), ((2,3),5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((1,2),3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1, we say 3 is the solution of the integer  addition problem for input x and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rob2 = (Z*, {x | x is a list of sorted integers}, Q2) 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2 = {(x,y) | y is a sorted list of x 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(1 23 4 4 35, 1 4 4 23 35), (1 3 10 4 7, 1 3 4 7 10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Prob3 =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{yes, no}, Q3 ) w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3 = {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es), (1, no) (0, no), (11, yes), (01, yes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Prob3( yes-or-no problems) is called a decision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decision problem?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0240" y="533520"/>
            <a:ext cx="955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ecision (yes/no;true/false) problem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problem (P, S, Q) whe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{yes,no}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is a total function (I.e., for each x in P there is exactly on y in S s.t. (x,y) in Q).  The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 = { x | (x, yes) in Q} is called the set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sitive in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 = P - Pos is called the set of al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egative in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Since (P,S,Q) and (P, Pos) can be uniquely determined by each other, we can simply use (P, Pos) (and sometimes even use the set Pos if P is clear in the context) to represent the proble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ome example decision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4: Given an input integer x, determine if it is a pr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4 = (Z, {x | x is a prime integer}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5: Given two integers x,y, determine if x &lt; y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5 = ({(x,y) |x,y in Z},  {(x,y) | x &lt; y}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6: Given a list of numbers x1,...,xn and a number y, determine if y is   an upper bound of x1,..,xn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6 = ({(L,y) | L is a list of numbers, y is a number},  {(L, y) |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x(L)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7: Given a list of number x1,..,xn, return the large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ot a decision problem 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7067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Abstract problems and Concrete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9200" y="533520"/>
            <a:ext cx="9252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s defined above are called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bstract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all P, S and Q ar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bstract mathematical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other hand, the problem Prob3 of determining if input bit string is of length even is calle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ncrete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both its input instances and output are (symbol; bit) strings,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which real machines can manip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we say a problem (P,S,Q) is 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crete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P and S are (formal) languages (I.e., sets of strings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oncrete problems we can say of their comput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how can we say that a non-concrete problem is computable or no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crete repres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bstract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454040" y="5370480"/>
            <a:ext cx="6769080" cy="1263240"/>
            <a:chOff x="1454040" y="5370480"/>
            <a:chExt cx="6769080" cy="1263240"/>
          </a:xfrm>
        </p:grpSpPr>
        <p:sp>
          <p:nvSpPr>
            <p:cNvPr id="239" name="Rectangle 4"/>
            <p:cNvSpPr/>
            <p:nvPr/>
          </p:nvSpPr>
          <p:spPr>
            <a:xfrm>
              <a:off x="1454040" y="5492880"/>
              <a:ext cx="2044800" cy="1054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str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6178680" y="5492880"/>
              <a:ext cx="2044440" cy="1054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re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794040" y="5370480"/>
              <a:ext cx="144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4022640" y="6175440"/>
              <a:ext cx="1573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3733920" y="586728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H="1">
              <a:off x="3733920" y="609588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(Decision) problem representation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 = (P, Pos) : a problem;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n alphab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: P -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f e is a 1-1 mapping, then we say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e) is a (language) representation (or encoding) of the problem Prob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or each instance I in Prob, the string e(I) is called the representation of I under the representation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b8: Given two nonnegative integers x,y, determine if x &lt; y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Prob8 = ({(x,y) |x,y in N},  {(x,y) | x &lt; y}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{0,..,9,[,],|}, and for each number x let e(x) = decimal rep. of x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for each instance (x,y) of Prob1, let e((x,y)) = [ e(x) | e(y)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e(P) is a subset o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= { [e(x)|e(y)] |x &lt; y } = {[0|1], [2|4],...}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ince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re are easy ways to transform abstract problems into concrete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y simple encoding), the study of computability and complexity of abstract problems can be reduced to the study of concrete languag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How to specify a languag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: 1. must be precise and no ambiguity among users of the language: 2. efficient for machine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raditional mathematical not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 {x | |x| &lt; 3 and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a,b}} = {e,a,b,aa,ab,ba,bb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  in general not machine understand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via programs (or machines)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: a program; L(P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P return 'ok' on input string x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e, no ambiguity, machine understand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 to understand for human users !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via grammars: (easy for human to understa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:  noun :=  book | boy | jirl | John | 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:= a | an | the   ; prep := on | under | of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 := good | bad | smart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 := noun | art noun | NP PP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 := prep NP  ==&gt; 'the man on the bridge'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Non-enumerability of languages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 that a set is denumerable if it is countably infinite. (i.e., A set T is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denumer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there is a 1-1 and onto mapping b/t T and {0,1,...}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s: I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finite and nonempty, th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is denumerable (i.e., 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| = |N|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e., the set of all languages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uncoun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Si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| = |N|, he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is not coun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athematical preliminaries (review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ve 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s of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nguage for specifying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strings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 concaten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y: two strings ==&gt; x·y is a new string with y appended to the tail of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roperties of ·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SSOC: (xy)z = x(yz) ;  2.  Identity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|xy| = |x| + |y|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any algebra (M, ·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1 and 2 is called a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mon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·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 monoid for any alphab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tions and abbrevi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for alphabet ;        a,b,c: for symbol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y,z: for strings;     A,B,C: for languag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^5 for aaaaa; a^1 = a ; a^0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x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of a's in x. ==&gt; #a(aabbcca) = 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languages (i.e, string set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usual set oper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: A U B =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r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: {a,ab} U { ab, aab} = {a,ab,aab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ection: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=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nd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s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: ~A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- A =  { x | x no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~{x | |x| is even } = {x | |x| is odd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et concaten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xy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{b,ba} {a,ab} = {ba,bab,baa,baab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like string concatenation, set concatenation is asso and has an identity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Hence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· ,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) is a mono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Powers of A: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) is defined inductivel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; 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----- n A'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languages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Let A = {ab,abb}.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                2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|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=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ence {a,b,c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,b,c}* | |x| = n }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Asterate (or star) A* of A is the union of all finite powers of 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*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 U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{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 and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for 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 can be 0 ==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*. ==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}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f A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=&gt; A*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 the set of all finite strings 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 languages oper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et of all nonzero powers of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 \ge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... = A A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of languages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ssociative: U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, · 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(BUC) = (AUB)UC; 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 = 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(BC) = (AB)C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mmutative  : U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dentit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 U {} = {}UA = A;  2. 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A = A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=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nnihilator: A{} = {}A = {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languages operations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tribution la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= (AUB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UC)    ;   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UC) = (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U(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BUC) = AB U AC                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(B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) = A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Let A = {a,ab}, B = {b}, C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A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= ?   AB = ?  AC = ?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A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: show that A(BUC) = AB UA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De Morgan Laws: ~(AUB) = ?   ~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Properties about A*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*A* = A* ;     2. A**  = A*;      3. A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UAA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A* = A*A 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5. {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s: Prove 1~5. (hint: direct from the definition of A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A language for specifying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term: 'a language for specifying languages', the former language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alangu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ile the later language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get langu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in the C language reference manual, the BNF form is a meta language and C itself is the target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n alphabet ;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 +, *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·, ), ( 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~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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et of all regular expressions is 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which can be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1.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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gular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very symbol a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regular expre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regular expressions then so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Regular express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reg. expr. : e,   (a+b)*,  ((a +(b·c))+(e·b)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reg. expr:  (ab), a + b, ((a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+ d, where d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formally but legal if treated as abbrevi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 --&gt; (a·b)  ;   a+b --&gt; (a+b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+ bc*  --&gt; (a + (b·c*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ed regular expressions (EREG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EGs are strings over E and can be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1.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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E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very symbol a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ERE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EREGs then so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(~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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anguages represented by regular express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Extended] regular expressions provides a finite way to specify infinite langu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for each EREG (and hence also REG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language (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specified (or denoted or represented) b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ritten L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is defined inductively as follow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L(e)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;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a ∈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(a) = {a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assume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ave been defined for E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U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*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~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-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L(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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nguage A is said to be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reg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A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some regular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: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a,b}.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 a(a+b)*) = {x | x begins with a } = {a,aa,ab,aaa,aab,aba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~(a(a+b)*))  = {x | x does not begin with a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x | x begins with b } U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= L( e + b(a+b)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expressions and Extended regular expressions give us finite ways to specify infinite languages. But the following questions need to be answered before we can be satisfied with such too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re EREG or REGs already adequat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.e, For every A ⊆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there is an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.t.,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A ? )  ==&gt;  ans: 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or every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there any [fast] machine that can determine if x ∈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any input string x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_______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IS EREG more expressive than REG ?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1, L2: two [meta] languages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L1 is at least as expressive as L2 if L(L2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 | there is an expression a in L2 s.t. A = L(a) }  is a subset of L(L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1 is said to be equivalent to L2 in expressive power iff both are at least as expressive as the 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EG is at least as expressive as REG since L(REG) is a subset of L(EREG) (why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oes the converse hold ? (i.e, Is it true that for each E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re is a 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.t.,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 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794-DC1C-4DBE-A211-6E5EC4F2C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60" y="755280"/>
            <a:ext cx="950904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tructure upon which all other (discrete and continuous ) structures are buil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is a collection of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is anything of interest, maybe itself a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is a collection of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s is a set are called the elements or members of the s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 is a memebr of a set S, we say S contains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vs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In 1,2,3,4,5, the collection of 1,3 5 is a se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547D-DC79-4D71-A9BE-E29159A57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descrip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describe a set: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ist all its memb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 all positive odd integer &gt;10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all decimal digits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all upper case English letters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all nonnegative integ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et builder not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 : a property (or a statement or a proposition) about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P(x) = “ x &gt; 0 and x is od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{x | P(x) } is the set of objects satisfying property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3) is true =&gt; 3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P(x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2) is false =&gt; 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{x | P(x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22A-DC3B-4C57-946D-688559E1E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predicat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2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ets S1, S2 are equal iff they have the same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1 = S2 i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1 &lt;=&gt;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  {1,3,5} = {1,5,3} = {1,1,3,3, 5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ll set ={}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collection of no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’: [empty set] for-all x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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. [subset]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iff all elements of A are elements of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&lt;=&gt; for-all x 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&gt;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’’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/\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: Show that:  1. For all set A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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/\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 &lt;=&gt; (A = B)      3.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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0:00:48Z</dcterms:created>
  <dc:creator/>
  <dc:description/>
  <cp:keywords/>
  <dc:language>en-US</dc:language>
  <cp:lastModifiedBy>chencc</cp:lastModifiedBy>
  <cp:lastPrinted>1997-02-21T01:03:40Z</cp:lastPrinted>
  <dcterms:modified xsi:type="dcterms:W3CDTF">2008-10-03T05:02:40Z</dcterms:modified>
  <cp:revision>126</cp:revision>
  <dc:subject/>
  <dc:title>Chapter #1: Introduction    Formal  Logic   September 1996</dc:title>
</cp:coreProperties>
</file>