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IKKE%20LUL%20BAND%20-%20LEKKER%20DING.WAV" ContentType="audio/x-wav"/>
  <Override PartName="/ppt/media/image3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7FD-2592-4A4F-8109-ACC1321E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9E11-1935-457C-BEA8-84EC19C6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B80-7449-43D2-8779-3DCF0AB8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9BD-56BF-4051-BE05-A74727E0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D776-4712-4AE8-AADD-438CD43D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0B1-0ED3-4D16-A371-2BB45BCF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A0E4-671B-4C53-BAEE-62F1761B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497-8123-4EEF-A7D5-99272D9E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FA4-45E3-44A3-85A5-32C0E310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52E-F73E-4EC4-B879-0766A64A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092-D56F-47E3-951B-7937E77B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B60-16E5-46E6-89E6-AADB32DB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3978-4A98-4517-81AC-1526D867CFA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IKKE%20LUL%20BAND%20-%20LEKKER%20DING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56000" y="299736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450864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2708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1700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458136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321300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9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60020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  <p:sndAc>
      <p:stSnd>
        <p:snd r:embed="rId2" name="DIKKE%20LUL%20BAND%20-%20LEKKER%20DIN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404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3333cc"/>
                </a:solidFill>
                <a:latin typeface="Times New Roman"/>
              </a:rPr>
              <a:t>Hah haa! GO BACK TO WORK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79640" y="551664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56000" y="299736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450864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708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1700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458136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19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160020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356000" y="299736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450864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2708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1700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0920" y="458136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160020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56000" y="299736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450864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700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458136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160020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16360" y="450864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1700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458136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60020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284720" y="1700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458136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0920" y="458136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160020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050920" y="458136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6T06:02:29Z</dcterms:created>
  <dc:creator>FLA</dc:creator>
  <dc:description/>
  <dc:language>en-US</dc:language>
  <cp:lastModifiedBy>Smets</cp:lastModifiedBy>
  <dcterms:modified xsi:type="dcterms:W3CDTF">2008-09-10T04:51:39Z</dcterms:modified>
  <cp:revision>14</cp:revision>
  <dc:subject/>
  <dc:title>Slide 1</dc:title>
</cp:coreProperties>
</file>