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IKKE%20LUL%20BAND%20-%20LEKKER%20DING.WAV" ContentType="audio/x-wav"/>
  <Override PartName="/ppt/media/image3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550-54A0-4DB6-A6D7-24EC0484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9C6-5A4D-477C-9CEE-39A14ED7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886-DE15-480A-BDE6-CEFD5303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8FE-4E5F-4315-9752-F7C6CB35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CBC-8B7D-42D0-AB16-CCC6ED7E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CEF5-D419-4543-ACDC-01C7DA48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2BC-ACF9-4560-B938-8A278F24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3DD-1F28-423D-BAA6-1D53BC87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02B-CBD1-439A-B976-B5A9C1C4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27A-4873-4359-B25D-0CE465E0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18E-3EB6-4825-A993-9ED1CAFE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597-83C1-49AE-84D9-30458087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A6E4-3537-4454-B0F7-6BEFB9F0AA6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IKKE%20LUL%20BAND%20-%20LEKKER%20DING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56000" y="299736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450864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2708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1700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458136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321300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9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60020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  <p:sndAc>
      <p:stSnd>
        <p:snd r:embed="rId2" name="DIKKE%20LUL%20BAND%20-%20LEKKER%20DIN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404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3333cc"/>
                </a:solidFill>
                <a:latin typeface="Times New Roman"/>
              </a:rPr>
              <a:t>Hah haa! GO BACK TO WORK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79640" y="551664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56000" y="299736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450864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708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1700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458136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19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160020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356000" y="299736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450864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2708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1700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0920" y="458136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160020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56000" y="299736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450864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700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458136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160020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16360" y="450864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1700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458136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60020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284720" y="1700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458136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0920" y="458136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160020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050920" y="4581360"/>
            <a:ext cx="1600200" cy="17528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32000" y="3716280"/>
            <a:ext cx="1600200" cy="17524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6T06:02:29Z</dcterms:created>
  <dc:creator>FLA</dc:creator>
  <dc:description/>
  <dc:language>en-US</dc:language>
  <cp:lastModifiedBy>Smets</cp:lastModifiedBy>
  <dcterms:modified xsi:type="dcterms:W3CDTF">2008-09-10T04:51:39Z</dcterms:modified>
  <cp:revision>14</cp:revision>
  <dc:subject/>
  <dc:title>Slide 1</dc:title>
</cp:coreProperties>
</file>