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0884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4016520" y="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200240" y="704520"/>
            <a:ext cx="4687920" cy="351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E56E536-82DA-48B4-B0F9-573C2A892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E74E43F-84B0-4742-B32E-532D85D45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5284154-4F4A-4856-9758-4D0FB3FA6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5C7A21E-C766-454C-9A23-19D16153F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0E03447-3346-4B59-9CF6-613798D56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37DE0E7-A8BF-4000-9A36-1A5403A8B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306D6C3-8556-49F7-BB94-2C91F181F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E50650C-171B-4C45-87AE-EA6C103F0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B78A4FB-AD7F-4C88-B92A-0EC251001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76600BC-5AB0-43C7-9C58-75F71A4C6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4A9A56F-D0B3-4B9B-888D-E6561D1F7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B5CE5E8-5D58-422F-89A1-6026C3D38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8D4A256-F605-4710-89F9-8572246D5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214612B-712A-4681-B1FF-9D3CCC58B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1075777-FE23-41E9-9EA9-78CDA1712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606D9D9-D28E-4399-9205-AF3859B3B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B7F1F86-85BE-4E9E-99CE-64969287F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E800A99-435E-49BC-A9BC-E8B7225AB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4A5F413-802D-443A-85ED-A05E08A7C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BEE0EED-4B3C-4FD8-B722-47FCCD4F0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15F4652-BE4C-4239-9EC4-99239806E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7806D02-6375-44A2-BC8C-87ECE42A9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AA68BB0-6AA9-412B-90BE-73101C152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2BAA31D-66A9-4A0A-8F02-E0889AB91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4B0C2E1-BA97-45C0-94F4-D273F1DC3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52AFB46-5B44-4CCE-BE03-581533A2F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9AF67DE-F906-4C8B-A5A4-131225462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2BAB465-2A5E-4432-945A-9FD1FF706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4C19433-39A8-4951-8E94-0C4F1DB58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1947B43-33B7-4A58-9C22-854FF71C2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94CC4DD-D339-4E3A-AD6E-D11E594A8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144A6FE-1DDA-4CB4-8252-2A80A1CA7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39FC267-7656-4E5A-A188-685C5758D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0AF05EE-9366-48AE-BCD1-BC5D3279B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56E963B-8D84-4EB5-93B7-C6A73C396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446DA9D-7682-4DA2-B3A1-295903C90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8847653-3B05-4CCB-8BA9-BCF25AF08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07614BA-908A-4A55-BFF3-7136A997E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7B61DE9-4640-4C5A-9514-E10A684F6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ino_3"/>
          <p:cNvPicPr/>
          <p:nvPr/>
        </p:nvPicPr>
        <p:blipFill>
          <a:blip r:embed="rId2"/>
          <a:stretch/>
        </p:blipFill>
        <p:spPr>
          <a:xfrm>
            <a:off x="285840" y="0"/>
            <a:ext cx="1195200" cy="90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1400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457200" y="860400"/>
            <a:ext cx="807732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403128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7.</a:t>
            </a:r>
            <a:fld id="{19394760-24C5-46D2-87AA-1EE54A2EB14B}" type="slidenum">
              <a:rPr b="1" lang="en-US" sz="1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194400" y="6621480"/>
            <a:ext cx="26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Operating System Concepts – 9</a:t>
            </a:r>
            <a:r>
              <a:rPr b="1" lang="en-US" sz="1000" spc="-1" strike="noStrike" baseline="30000">
                <a:solidFill>
                  <a:srgbClr val="006699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" name="Picture 12" descr="dino_6"/>
          <p:cNvPicPr/>
          <p:nvPr/>
        </p:nvPicPr>
        <p:blipFill>
          <a:blip r:embed="rId3"/>
          <a:stretch/>
        </p:blipFill>
        <p:spPr>
          <a:xfrm>
            <a:off x="7773840" y="5850000"/>
            <a:ext cx="128448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"/>
          <p:cNvGrpSpPr/>
          <p:nvPr/>
        </p:nvGrpSpPr>
        <p:grpSpPr>
          <a:xfrm>
            <a:off x="198360" y="2960640"/>
            <a:ext cx="8610840" cy="201600"/>
            <a:chOff x="198360" y="2960640"/>
            <a:chExt cx="8610840" cy="201600"/>
          </a:xfrm>
        </p:grpSpPr>
        <p:sp>
          <p:nvSpPr>
            <p:cNvPr id="48" name="Rectangle 4"/>
            <p:cNvSpPr/>
            <p:nvPr/>
          </p:nvSpPr>
          <p:spPr>
            <a:xfrm>
              <a:off x="19836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068640" y="2960640"/>
              <a:ext cx="2870280" cy="201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593892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" name="Text Box 7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4440" y="6613560"/>
            <a:ext cx="26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Operating System Concepts – 9</a:t>
            </a:r>
            <a:r>
              <a:rPr b="1" lang="en-US" sz="1000" spc="-1" strike="noStrike" baseline="30000">
                <a:solidFill>
                  <a:srgbClr val="336699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9" descr="dino_4"/>
          <p:cNvPicPr/>
          <p:nvPr/>
        </p:nvPicPr>
        <p:blipFill>
          <a:blip r:embed="rId2"/>
          <a:stretch/>
        </p:blipFill>
        <p:spPr>
          <a:xfrm>
            <a:off x="3360600" y="4157640"/>
            <a:ext cx="2062440" cy="159372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sp>
        <p:nvSpPr>
          <p:cNvPr id="54" name="Rectangle 10"/>
          <p:cNvSpPr/>
          <p:nvPr/>
        </p:nvSpPr>
        <p:spPr>
          <a:xfrm>
            <a:off x="3224160" y="4006800"/>
            <a:ext cx="2336760" cy="188748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1400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6796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Chapter 7:  Deadlocks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asic Fact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65080" y="1217520"/>
            <a:ext cx="62848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graph contains no cycle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 dead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graph contains a cycl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only one instance per resource type, then dead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everal instances per resource type, possibility of dead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09520" y="213840"/>
            <a:ext cx="75772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ethods for Handling Deadlock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82720" y="1198080"/>
            <a:ext cx="6153120" cy="32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nsure that the system will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never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enter a deadlock st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adlock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adlock avo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llow the system to enter a deadlock state and then re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gnore the problem and pretend that deadlocks never occur in the system; used by most operating systems, including 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85600" y="198000"/>
            <a:ext cx="78008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eadlock Preven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60280" y="1633680"/>
            <a:ext cx="6522840" cy="382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tual Exclu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not required for sharable resources (e.g., read-only files); must hold for non-sharable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d and Wa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must guarantee that whenever a process requests a resource, it does not hold any other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 proces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12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est and be allocated all its resources before it begins execution,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12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ow process to request resources only when the process has none allocated to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resource utilization; starvat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28"/>
          <p:cNvSpPr/>
          <p:nvPr/>
        </p:nvSpPr>
        <p:spPr>
          <a:xfrm>
            <a:off x="855000" y="1115280"/>
            <a:ext cx="42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ain the ways request can be ma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02960" y="166320"/>
            <a:ext cx="76834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eadlock Prevention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076040"/>
            <a:ext cx="6705720" cy="44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Preemp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process that is holding some resources requests another resource that cannot be immediately allocated to it, then all resources currently being held are rele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empted resources are added to the list of resources for which the process is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will be restarted only when it can regain its old resources, as well as the new ones that it is requ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rcular Wa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impose a total ordering of all resource types, and require that each process requests resources in an increasing order of enum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23760" y="198000"/>
            <a:ext cx="77630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eadlock Avoidanc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96800" y="1814040"/>
            <a:ext cx="6629400" cy="37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st and most useful model requires that each process declar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ximum numb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resources of each type that it may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adlock-avoidance algorithm dynamically examines the resource-allocation state to ensure that there can never be a circular-wait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-alloc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defined by the number of available and allocated resources, and the maximum demands of the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54160" y="1098000"/>
            <a:ext cx="776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that the system has some additiona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 prior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360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afe Stat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8720" y="1165320"/>
            <a:ext cx="73580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process requests an available resource, system must decide if immediate allocation leaves the system in a safe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is in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afe state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re exists a sequence &lt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…,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of ALL the  processes  in the systems such that  for each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resources that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till request can be satisfied by currently available resources + resources held by all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ith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j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ource needs are not immediately available,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wait until al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finished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obtain needed resources, execute, return allocated resources, and 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rminate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obtain its needed resources, and so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asic Fact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21960" y="1190520"/>
            <a:ext cx="6597720" cy="44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system is in safe stat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 deadlock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system is in unsafe stat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ssibility of deadloc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anc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sure that a system will never enter an unsafe st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46000" y="150480"/>
            <a:ext cx="78408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afe, Unsafe, Deadlock State 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rcRect l="13437" t="1570" r="13685" b="2195"/>
          <a:stretch/>
        </p:blipFill>
        <p:spPr>
          <a:xfrm>
            <a:off x="2446200" y="1308240"/>
            <a:ext cx="402300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41120" y="166320"/>
            <a:ext cx="76453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voidance Algorithm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6120" y="1171080"/>
            <a:ext cx="66596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instance of a resourc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 resource-allocation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instances of a resourc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banke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23560" y="198000"/>
            <a:ext cx="78310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source-Allocation Graph Schem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58960" y="1155240"/>
            <a:ext cx="69897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laim edge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dicated that proce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request resour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represented by a dashed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im edge converts to request edge when a process requests a 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 edge converted to an assignment edge when the  resource is allocated to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resource is released by a process, assignment edge reconverts to a claim 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 must be claime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prior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06400" y="150480"/>
            <a:ext cx="7880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hapter 7:  Deadlock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07560" y="1131480"/>
            <a:ext cx="7588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lock Characte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 for Handling Dead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lock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lock Avoi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lock Det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from Dead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0880" y="281160"/>
            <a:ext cx="82249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Resource-Allocation Graph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52" name="Picture 4" descr="7"/>
          <p:cNvPicPr/>
          <p:nvPr/>
        </p:nvPicPr>
        <p:blipFill>
          <a:blip r:embed="rId1"/>
          <a:stretch/>
        </p:blipFill>
        <p:spPr>
          <a:xfrm>
            <a:off x="2668680" y="1409760"/>
            <a:ext cx="368136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31840" y="260280"/>
            <a:ext cx="82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Unsafe State In Resource-Allocation Graph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54" name="Picture 4" descr="7"/>
          <p:cNvPicPr/>
          <p:nvPr/>
        </p:nvPicPr>
        <p:blipFill>
          <a:blip r:embed="rId1"/>
          <a:stretch/>
        </p:blipFill>
        <p:spPr>
          <a:xfrm>
            <a:off x="2971800" y="939960"/>
            <a:ext cx="3360600" cy="34066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596880" y="4406760"/>
            <a:ext cx="819144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Suppose that proces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requests a resour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The request can be granted only if converting the request edge to an assignment edge does not result in the formation of a cycle in the resource allocation grap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18216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anker’s Algorith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58600" y="1128240"/>
            <a:ext cx="675612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instan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cess must a priori claim maximum u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process requests a resource it may have to wait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process gets all its resources it must return them in a finite amount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74920" y="326880"/>
            <a:ext cx="758664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Data Structures for the Banker</a:t>
            </a:r>
            <a:r>
              <a:rPr b="1" lang="ja-JP" sz="2800" spc="-1" strike="noStrike">
                <a:solidFill>
                  <a:srgbClr val="006699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s Algorithm 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92320" y="1654200"/>
            <a:ext cx="737064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Vector of leng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If available 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re a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stances of resource typ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n x 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trix. 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proce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request at mos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nces of resource typ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ca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 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trix.  If Allocation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urrently allocate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stanc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 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trix.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nee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re instanc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mplete its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,j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o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950400" y="1107360"/>
            <a:ext cx="69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number of processes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number of resources type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afety Algorith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07560" y="1157400"/>
            <a:ext cx="737244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or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vectors of length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respectively.  Initializ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or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is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=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fals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0, 1, …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hat bot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 su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s, go to step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or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ocatio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=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tru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o step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=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l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the system is in a safe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72960" y="23184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Resource-Request Algorithm for Process </a:t>
            </a:r>
            <a:r>
              <a:rPr b="1" i="1" lang="en-US" sz="2800" spc="-1" strike="noStrike">
                <a:solidFill>
                  <a:srgbClr val="006699"/>
                </a:solidFill>
                <a:latin typeface="Arial"/>
              </a:rPr>
              <a:t>P</a:t>
            </a:r>
            <a:r>
              <a:rPr b="1" i="1" lang="en-US" sz="2800" spc="-1" strike="noStrike" baseline="-25000">
                <a:solidFill>
                  <a:srgbClr val="006699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114200"/>
            <a:ext cx="76424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request vector for proces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I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proces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ant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stances of resource typ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o step 2.  Otherwise, raise error condition, since process has exceeded its maximum cla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go to step 3.  Otherwi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must wait, since resources are not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end to allocate requested resource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modifying the state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vailabl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Request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ocatio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ocatio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Nee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af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resources are allocated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unsaf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wait, and the old resource-allocation state is resto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22400" y="151920"/>
            <a:ext cx="7664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xample of Banker</a:t>
            </a:r>
            <a:r>
              <a:rPr b="1" lang="ja-JP" sz="3200" spc="-1" strike="noStrike">
                <a:solidFill>
                  <a:srgbClr val="006699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 Algorith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52120" y="1360080"/>
            <a:ext cx="79232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371600"/>
                <a:tab algn="ctr" pos="2395440"/>
                <a:tab algn="ctr" pos="3594240"/>
                <a:tab algn="ctr" pos="4805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process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ug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88"/>
              </a:spcBef>
              <a:buNone/>
              <a:tabLst>
                <a:tab algn="l" pos="0"/>
                <a:tab algn="l" pos="1371600"/>
                <a:tab algn="ctr" pos="2395440"/>
                <a:tab algn="ctr" pos="3594240"/>
                <a:tab algn="ctr" pos="4805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resource typ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88"/>
              </a:spcBef>
              <a:buNone/>
              <a:tabLst>
                <a:tab algn="l" pos="0"/>
                <a:tab algn="l" pos="1371600"/>
                <a:tab algn="ctr" pos="2395440"/>
                <a:tab algn="ctr" pos="3594240"/>
                <a:tab algn="ctr" pos="4805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0 instances),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5instances), and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7 instan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371600"/>
                <a:tab algn="ctr" pos="2395440"/>
                <a:tab algn="ctr" pos="3594240"/>
                <a:tab algn="ctr" pos="4805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apshot at tim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88"/>
              </a:spcBef>
              <a:buNone/>
              <a:tabLst>
                <a:tab algn="l" pos="0"/>
                <a:tab algn="l" pos="1371600"/>
                <a:tab algn="ctr" pos="2395440"/>
                <a:tab algn="ctr" pos="3594240"/>
                <a:tab algn="ctr" pos="4805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loca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x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vail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ed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88"/>
              </a:spcBef>
              <a:buNone/>
              <a:tabLst>
                <a:tab algn="l" pos="0"/>
                <a:tab algn="l" pos="1371600"/>
                <a:tab algn="ctr" pos="2395440"/>
                <a:tab algn="ctr" pos="3594240"/>
                <a:tab algn="ctr" pos="4805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B C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A B C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A B C        A B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88"/>
              </a:spcBef>
              <a:buNone/>
              <a:tabLst>
                <a:tab algn="l" pos="0"/>
                <a:tab algn="l" pos="1371600"/>
                <a:tab algn="ctr" pos="2395440"/>
                <a:tab algn="ctr" pos="3594240"/>
                <a:tab algn="ctr" pos="4805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1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7 5 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3 3 2        7 4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88"/>
              </a:spcBef>
              <a:buNone/>
              <a:tabLst>
                <a:tab algn="l" pos="0"/>
                <a:tab algn="l" pos="1371600"/>
                <a:tab algn="ctr" pos="2395440"/>
                <a:tab algn="ctr" pos="3594240"/>
                <a:tab algn="ctr" pos="4805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0 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3 2 2                   1 2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88"/>
              </a:spcBef>
              <a:buNone/>
              <a:tabLst>
                <a:tab algn="l" pos="0"/>
                <a:tab algn="l" pos="1371600"/>
                <a:tab algn="ctr" pos="2395440"/>
                <a:tab algn="ctr" pos="3594240"/>
                <a:tab algn="ctr" pos="4805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0 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9 0 2                   6 0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88"/>
              </a:spcBef>
              <a:buNone/>
              <a:tabLst>
                <a:tab algn="l" pos="0"/>
                <a:tab algn="l" pos="1371600"/>
                <a:tab algn="ctr" pos="2395440"/>
                <a:tab algn="ctr" pos="3594240"/>
                <a:tab algn="ctr" pos="4805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1 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2 2 2                  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88"/>
              </a:spcBef>
              <a:buNone/>
              <a:tabLst>
                <a:tab algn="l" pos="0"/>
                <a:tab algn="l" pos="1371600"/>
                <a:tab algn="ctr" pos="2395440"/>
                <a:tab algn="ctr" pos="3594240"/>
                <a:tab algn="ctr" pos="4805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0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4 3 3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4 3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371600"/>
                <a:tab algn="ctr" pos="2395440"/>
                <a:tab algn="ctr" pos="3594240"/>
                <a:tab algn="ctr" pos="4805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ystem is in a safe state since the sequence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satisfies safety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17200" y="213840"/>
            <a:ext cx="78692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xample:  </a:t>
            </a:r>
            <a:r>
              <a:rPr b="1" i="1" lang="en-US" sz="3200" spc="-1" strike="noStrike">
                <a:solidFill>
                  <a:srgbClr val="006699"/>
                </a:solidFill>
                <a:latin typeface="Arial"/>
              </a:rPr>
              <a:t>P</a:t>
            </a:r>
            <a:r>
              <a:rPr b="1" lang="en-US" sz="3200" spc="-1" strike="noStrike" baseline="-25000">
                <a:solidFill>
                  <a:srgbClr val="0066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Request (1,0,2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96400" y="1103040"/>
            <a:ext cx="776628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544760"/>
                <a:tab algn="ctr" pos="2452680"/>
                <a:tab algn="ctr" pos="3767040"/>
                <a:tab algn="ctr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at Reques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vailable (that is, (1,0,2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3,3,2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1544760"/>
                <a:tab algn="ctr" pos="2452680"/>
                <a:tab algn="ctr" pos="3767040"/>
                <a:tab algn="ctr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loca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e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1544760"/>
                <a:tab algn="ctr" pos="2452680"/>
                <a:tab algn="ctr" pos="3767040"/>
                <a:tab algn="ctr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B C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B C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 B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1544760"/>
                <a:tab algn="ctr" pos="2452680"/>
                <a:tab algn="ctr" pos="3767040"/>
                <a:tab algn="ctr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1 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7 4 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2 3 0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( 3 3 2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1544760"/>
                <a:tab algn="ctr" pos="2452680"/>
                <a:tab algn="ctr" pos="3767040"/>
                <a:tab algn="ctr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 0 0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3 0 2       0 2 0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 1 2 2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1544760"/>
                <a:tab algn="ctr" pos="2452680"/>
                <a:tab algn="ctr" pos="3767040"/>
                <a:tab algn="ctr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0 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 0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1544760"/>
                <a:tab algn="ctr" pos="2452680"/>
                <a:tab algn="ctr" pos="3767040"/>
                <a:tab algn="ctr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1 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1544760"/>
                <a:tab algn="ctr" pos="2452680"/>
                <a:tab algn="ctr" pos="3767040"/>
                <a:tab algn="ctr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0 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 3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1544760"/>
                <a:tab algn="ctr" pos="2452680"/>
                <a:tab algn="ctr" pos="3767040"/>
                <a:tab algn="ctr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544760"/>
                <a:tab algn="ctr" pos="2452680"/>
                <a:tab algn="ctr" pos="3767040"/>
                <a:tab algn="ctr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ng safety algorithm shows that sequence &lt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satisfies safety 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1544760"/>
                <a:tab algn="ctr" pos="2452680"/>
                <a:tab algn="ctr" pos="3767040"/>
                <a:tab algn="ctr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544760"/>
                <a:tab algn="ctr" pos="2452680"/>
                <a:tab algn="ctr" pos="3767040"/>
                <a:tab algn="ctr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request for (3,3,0) b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granted?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No - resour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1544760"/>
                <a:tab algn="ctr" pos="2452680"/>
                <a:tab algn="ctr" pos="3767040"/>
                <a:tab algn="ctr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544760"/>
                <a:tab algn="ctr" pos="2452680"/>
                <a:tab algn="ctr" pos="3767040"/>
                <a:tab algn="ctr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request for (0,2,0) b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granted?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No – not saf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1544760"/>
                <a:tab algn="ctr" pos="2452680"/>
                <a:tab algn="ctr" pos="3767040"/>
                <a:tab algn="ctr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1200" y="198000"/>
            <a:ext cx="7421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eadlock Detec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01440" y="1233360"/>
            <a:ext cx="7391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system to enter deadlock stat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ion algorith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-141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Single Instance of Each Resource Type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6920" y="1173240"/>
            <a:ext cx="758520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wait-f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s are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j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waiting fo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ically invoke an algorithm that searches for a cycle in the graph. If there is a cycle, there exists a dead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lgorithm to detect a cycle in a graph requires an order o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s, whe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number of vertices in 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756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ystem Model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1040" y="115848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onsists of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typ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 . 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PU cycles, memory space, I/O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resource typ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cess utilizes a resource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36240" y="266760"/>
            <a:ext cx="77518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Resource-Allocation Graph and  Wait-for Graph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1652400" y="5293440"/>
            <a:ext cx="29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-Allocation Grap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4815360" y="5293440"/>
            <a:ext cx="31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sponding wait-for grap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6" descr="7"/>
          <p:cNvPicPr/>
          <p:nvPr/>
        </p:nvPicPr>
        <p:blipFill>
          <a:blip r:embed="rId1"/>
          <a:stretch/>
        </p:blipFill>
        <p:spPr>
          <a:xfrm>
            <a:off x="1876320" y="1257480"/>
            <a:ext cx="5937480" cy="38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28840" y="162000"/>
            <a:ext cx="7772400" cy="62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everal Instances of a Resource Typ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82720" y="1187280"/>
            <a:ext cx="7014960" cy="38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 vector of leng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dicates the number of available resources of each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ca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rix defines the number of resources of each type currently allocated to each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rix indicates the current request  of each process.  I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que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[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proces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equestin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re instances of resource typ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86960" y="151920"/>
            <a:ext cx="78994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etection Algorith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95040" y="890640"/>
            <a:ext cx="7753320" cy="55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vectors of leng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nitializ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,2, …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ocatio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i]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= fa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otherwise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i]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n index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hat bo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=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alse   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 suc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s, go to step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ocatio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Finis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ue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o step 2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ish[i] == fa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or som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the system is in deadlock state. Moreover, i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=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dead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Algorithm requires an order of O(</a:t>
            </a: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m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x</a:t>
            </a: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 n</a:t>
            </a:r>
            <a:r>
              <a:rPr b="1" lang="en-US" sz="18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) operations to detect whether the system is in deadlocke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22400" y="213840"/>
            <a:ext cx="7664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xample of Detection Algorith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01800" y="1108080"/>
            <a:ext cx="803736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428840"/>
                <a:tab algn="ctr" pos="2338560"/>
                <a:tab algn="ctr" pos="3594240"/>
                <a:tab algn="ctr" pos="4921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ve processe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roug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resource typ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(7 instances)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 instances)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6 instan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428840"/>
                <a:tab algn="ctr" pos="2338560"/>
                <a:tab algn="ctr" pos="3594240"/>
                <a:tab algn="ctr" pos="4921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428840"/>
                <a:tab algn="ctr" pos="2338560"/>
                <a:tab algn="ctr" pos="3594240"/>
                <a:tab algn="ctr" pos="4921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apshot at tim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428840"/>
                <a:tab algn="ctr" pos="2338560"/>
                <a:tab algn="ctr" pos="3594240"/>
                <a:tab algn="ctr" pos="4921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loca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ques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428840"/>
                <a:tab algn="ctr" pos="2338560"/>
                <a:tab algn="ctr" pos="3594240"/>
                <a:tab algn="ctr" pos="4921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B C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A B C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B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428840"/>
                <a:tab algn="ctr" pos="2338560"/>
                <a:tab algn="ctr" pos="3594240"/>
                <a:tab algn="ctr" pos="4921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0 1 0       0 0 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 0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428840"/>
                <a:tab algn="ctr" pos="2338560"/>
                <a:tab algn="ctr" pos="3594240"/>
                <a:tab algn="ctr" pos="4921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0 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 0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428840"/>
                <a:tab algn="ctr" pos="2338560"/>
                <a:tab algn="ctr" pos="3594240"/>
                <a:tab algn="ctr" pos="4921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3 0 3       0 0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428840"/>
                <a:tab algn="ctr" pos="2338560"/>
                <a:tab algn="ctr" pos="3594240"/>
                <a:tab algn="ctr" pos="4921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1 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 0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428840"/>
                <a:tab algn="ctr" pos="2338560"/>
                <a:tab algn="ctr" pos="3594240"/>
                <a:tab algn="ctr" pos="4921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0 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0 0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428840"/>
                <a:tab algn="ctr" pos="2338560"/>
                <a:tab algn="ctr" pos="3594240"/>
                <a:tab algn="ctr" pos="4921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428840"/>
                <a:tab algn="ctr" pos="2338560"/>
                <a:tab algn="ctr" pos="3594240"/>
                <a:tab algn="ctr" pos="4921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&lt;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will result i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ish[i] = tru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l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428840"/>
                <a:tab algn="ctr" pos="2338560"/>
                <a:tab algn="ctr" pos="3594240"/>
                <a:tab algn="ctr" pos="4921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xample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782120" cy="50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800440"/>
                <a:tab algn="ctr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quests an additional instance of typ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800440"/>
                <a:tab algn="ctr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800440"/>
                <a:tab algn="ctr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B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800440"/>
                <a:tab algn="ctr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0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800440"/>
                <a:tab algn="ctr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0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800440"/>
                <a:tab algn="ctr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800440"/>
                <a:tab algn="ctr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0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800440"/>
                <a:tab algn="ctr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0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800440"/>
                <a:tab algn="ctr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800440"/>
                <a:tab algn="ctr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of syst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2800440"/>
                <a:tab algn="ctr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reclaim resources held by proces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insufficient resources to fulfill other processes;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2800440"/>
                <a:tab algn="ctr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lock exists, consisting of processe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00160" y="229680"/>
            <a:ext cx="75866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etection-Algorithm Usag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70120" y="1122120"/>
            <a:ext cx="7107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, and how often, to invoke depends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often a deadlock is likely to occu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processes will need to be rolled bac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for each disjoint cyc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detection algorithm is invoked arbitrarily, there may be many cycles in the resource graph and so we would not be able to tell which of the many deadlocked processes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deadl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4040" y="228600"/>
            <a:ext cx="85881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Recovery from Deadlock:  Process Termination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63720" y="1107720"/>
            <a:ext cx="7694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rt all deadlocked process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rt one process at a time until the deadlock cycle is elimina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which order should we choose to abo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ity of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long process has computed, and how much longer to comp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 the process ha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 process needs to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processes will need to be termin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process interactive or batc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7680" y="255600"/>
            <a:ext cx="80200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Recovery from Deadlock:  Resource Preemption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58600" y="1150560"/>
            <a:ext cx="68022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ing a victi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minimize co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llb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return to some safe state, restart process for that sta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v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 same process may always be picked as victim, include number of rollback in cost 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81396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End of Chapter 7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8800" y="182160"/>
            <a:ext cx="79376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eadlock Characteriz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34880" y="1541160"/>
            <a:ext cx="669132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utual exclu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only one process at a time can use a 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Hold and wa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 process holding at least one resource is waiting to acquire additional resources held by other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No preemp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 resource can be released only voluntarily by the process holding it, after that process has completed its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ircular wa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ere exists a set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of waiting processes such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waiting for a resource that is hel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waiting for a resource that is hel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–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waiting for a resource that is hel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waiting for a resource that is hel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825480" y="1048680"/>
            <a:ext cx="63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lock can arise if four conditions hold simultaneousl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02960" y="166320"/>
            <a:ext cx="76834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source-Allocation Graph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4040" y="1557000"/>
            <a:ext cx="680868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is partitioned into two typ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, the set consisting of all the processes in the syst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, the set consisting of all resource types in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quest edge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directed edg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ssignment edge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directed edg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816480" y="1034280"/>
            <a:ext cx="470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t of vertic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 set of edg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28600" y="182160"/>
            <a:ext cx="78105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source-Allocation Graph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85600" y="1137960"/>
            <a:ext cx="7343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Type with 4 in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s instanc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holding an instanc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4"/>
          <p:cNvSpPr/>
          <p:nvPr/>
        </p:nvSpPr>
        <p:spPr>
          <a:xfrm>
            <a:off x="4143240" y="1494000"/>
            <a:ext cx="495360" cy="495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3876840" y="5316480"/>
            <a:ext cx="495000" cy="4953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3860640" y="3914640"/>
            <a:ext cx="495360" cy="4953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Group 12" descr=""/>
          <p:cNvPicPr/>
          <p:nvPr/>
        </p:nvPicPr>
        <p:blipFill>
          <a:blip r:embed="rId1"/>
          <a:stretch/>
        </p:blipFill>
        <p:spPr>
          <a:xfrm>
            <a:off x="4218120" y="2852640"/>
            <a:ext cx="463320" cy="439920"/>
          </a:xfrm>
          <a:prstGeom prst="rect">
            <a:avLst/>
          </a:prstGeom>
          <a:ln w="0">
            <a:noFill/>
          </a:ln>
        </p:spPr>
      </p:pic>
      <p:pic>
        <p:nvPicPr>
          <p:cNvPr id="117" name="Group 13" descr=""/>
          <p:cNvPicPr/>
          <p:nvPr/>
        </p:nvPicPr>
        <p:blipFill>
          <a:blip r:embed="rId2"/>
          <a:stretch/>
        </p:blipFill>
        <p:spPr>
          <a:xfrm>
            <a:off x="4681440" y="3968640"/>
            <a:ext cx="463680" cy="438120"/>
          </a:xfrm>
          <a:prstGeom prst="rect">
            <a:avLst/>
          </a:prstGeom>
          <a:ln w="0">
            <a:noFill/>
          </a:ln>
        </p:spPr>
      </p:pic>
      <p:sp>
        <p:nvSpPr>
          <p:cNvPr id="118" name="Line 19"/>
          <p:cNvSpPr/>
          <p:nvPr/>
        </p:nvSpPr>
        <p:spPr>
          <a:xfrm>
            <a:off x="4365720" y="4181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4755960" y="4380120"/>
            <a:ext cx="331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Group 21" descr=""/>
          <p:cNvPicPr/>
          <p:nvPr/>
        </p:nvPicPr>
        <p:blipFill>
          <a:blip r:embed="rId3"/>
          <a:stretch/>
        </p:blipFill>
        <p:spPr>
          <a:xfrm>
            <a:off x="4657680" y="5370480"/>
            <a:ext cx="463680" cy="439920"/>
          </a:xfrm>
          <a:prstGeom prst="rect">
            <a:avLst/>
          </a:prstGeom>
          <a:ln w="0">
            <a:noFill/>
          </a:ln>
        </p:spPr>
      </p:pic>
      <p:sp>
        <p:nvSpPr>
          <p:cNvPr id="121" name="Line 27"/>
          <p:cNvSpPr/>
          <p:nvPr/>
        </p:nvSpPr>
        <p:spPr>
          <a:xfrm flipH="1">
            <a:off x="4343040" y="5526000"/>
            <a:ext cx="476280" cy="1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28"/>
          <p:cNvSpPr/>
          <p:nvPr/>
        </p:nvSpPr>
        <p:spPr>
          <a:xfrm>
            <a:off x="4724280" y="5753520"/>
            <a:ext cx="331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6040" y="208080"/>
            <a:ext cx="8150040" cy="51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Example of a Resource Allocation Graph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4" name="Picture 1032" descr=""/>
          <p:cNvPicPr/>
          <p:nvPr/>
        </p:nvPicPr>
        <p:blipFill>
          <a:blip r:embed="rId1"/>
          <a:srcRect l="25287" t="925" r="25287" b="1531"/>
          <a:stretch/>
        </p:blipFill>
        <p:spPr>
          <a:xfrm>
            <a:off x="2941560" y="1316160"/>
            <a:ext cx="27417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33560" y="272880"/>
            <a:ext cx="8378640" cy="47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Resource Allocation Graph With A Deadlock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3013200" y="1212840"/>
            <a:ext cx="278100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41280" y="304920"/>
            <a:ext cx="79552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Graph With A Cycle But No Deadlock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8" name="Picture 4" descr="7"/>
          <p:cNvPicPr/>
          <p:nvPr/>
        </p:nvPicPr>
        <p:blipFill>
          <a:blip r:embed="rId1"/>
          <a:stretch/>
        </p:blipFill>
        <p:spPr>
          <a:xfrm>
            <a:off x="3216240" y="1208160"/>
            <a:ext cx="295272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23:43:38Z</dcterms:created>
  <dc:creator>Lucent End User</dc:creator>
  <dc:description/>
  <dc:language>en-US</dc:language>
  <cp:lastModifiedBy>Dr. Yousry Taha</cp:lastModifiedBy>
  <cp:lastPrinted>2013-09-10T17:57:57Z</cp:lastPrinted>
  <dcterms:modified xsi:type="dcterms:W3CDTF">2014-05-19T20:25:37Z</dcterms:modified>
  <cp:revision>200</cp:revision>
  <dc:subject/>
  <dc:title>2.01</dc:title>
</cp:coreProperties>
</file>