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EF250EC-3636-4CDE-8F56-20030178C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E20565-5331-4E4F-A807-AE0FC6E7F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658266-06B1-46E6-9D34-9723B95BF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905964-86B1-4C76-BCD0-BDDE0829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DE6735-37EA-457C-B699-CFD9C2D10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BA9737-3B5F-4551-B54E-C1B669343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002F13-F3D9-450E-BBA0-6F100362C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E7DEE8-AFCB-4EE0-91BA-C0727166A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10ED0E-B433-46D3-AD06-EA8BB9959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98F7FB-6A16-4009-AA2C-2AD4C9A93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0248E6B-0617-450D-926D-A076B9772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EB07692-9012-412B-99A9-8DAF80ADC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E5DD35-65A9-445A-B594-4C6A384CC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3DBEDD4-472C-406E-8F81-DAB9BCA6B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81360D0-2737-4158-9623-B3BD4C018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9D790E-464D-480F-B4D9-6C35D89F9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3BD1C7-7A73-4E68-A617-C7CE1FF97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DD77594-0E8C-478A-A0C6-39CDD80F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F88362-488F-4648-BD0B-17D999A7C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6AA8A5-A346-4265-B2F8-2C85E584E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FF9F04-2368-4255-A5CE-70209356F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61662B-40C6-408E-AC63-AFE9A1461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560D0A-4AD0-40AB-B1A0-AAD26E248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0B1739-A7DA-4AE8-94A2-321906B08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9185CC-A22C-4CA6-B0B3-DFB0D74E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CED7B1-8058-463A-8C4A-DDB7698CF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B5D8512-0E27-442F-ACA2-B2E8736DC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44F046-FEE7-4CE0-8095-5ECF4DBF3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8C5C450-6EAB-42BF-B756-1C55E1C3A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BF1532-833E-4EF2-9A6D-8C90A9676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2583830-4310-4519-A96E-E51293D48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BDDC0B9-7802-435A-BC2D-42B874171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2FE0A3-85BE-4DEE-B239-2D7F43FD5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F3C96E-DDA3-47A5-8CB1-FAA1BAF31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2E22175-E927-49FD-8A79-CD3E8DC37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B95175B-72F8-4835-A61A-4C7D92BDB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FA24F7-CE6B-43A0-BEB4-3D8378D6C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3E1232-1C5A-4500-BB57-DC778027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E65CE3-8739-4445-9A20-A57D5EFED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1400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7.</a:t>
            </a:r>
            <a:fld id="{09A2064D-641D-47ED-88D1-0D3BF3C91068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440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44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1400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67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7:  Deadlock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Fac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65080" y="1217520"/>
            <a:ext cx="628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raph contains no cycl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raph contains a cyc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ly one instance per resource type, then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everal instances per resource type, possibility of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9520" y="213840"/>
            <a:ext cx="7577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thods for Handling Dead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2720" y="1198080"/>
            <a:ext cx="615312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sure that the system will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enter a deadlock st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adloc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adlock avo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ow the system to enter a deadlock state and then re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gnore the problem and pretend that deadlocks never occur in the system; used by most operating systems, including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85600" y="19800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60280" y="1633680"/>
            <a:ext cx="652284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t required for sharable resources (e.g., read-only files); must hold for non-sharabl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and 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ust guarantee that whenever a process requests a resource, it does not hold any oth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proces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and be allocated all its resources before it begins execution,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w process to request resources only when the process has none allocated 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resource utilization; starvat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28"/>
          <p:cNvSpPr/>
          <p:nvPr/>
        </p:nvSpPr>
        <p:spPr>
          <a:xfrm>
            <a:off x="855000" y="1115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ain the ways request can be m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2960" y="166320"/>
            <a:ext cx="7683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Preven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076040"/>
            <a:ext cx="670572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eem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 that is holding some resources requests another resource that cannot be immediately allocated to it, then all resources currently being held ar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ed resources are added to the list of resources for which the process i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will be restarted only when it can regain its old resources, as well as the new ones that it is requ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r 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mpose a total ordering of all resource types, and require that each process requests resources in an increasing order of enum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23760" y="198000"/>
            <a:ext cx="7763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Avoid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96800" y="1814040"/>
            <a:ext cx="662940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st and most useful model requires that each process decla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ximum numb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esources of each type that it may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adlock-avoidance algorithm dynamically examines the resource-allocation state to ensure that there can never be a circular-wai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-allo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fined by the number of available and allocated resources, and the maximum demands of th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54160" y="1098000"/>
            <a:ext cx="77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that the system has some additiona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afe Stat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8720" y="1165320"/>
            <a:ext cx="7358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requests an available resource, system must decide if immediate allocation leaves the system in a saf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s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afe stat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exists a sequence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of ALL the  processes  in the systems such that  for each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resources that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ill request can be satisfied by currently available resources + resources held by all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urce needs are not immediately available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wait until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inishe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obtain needed resources, execute, return allocated resources, and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inat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obtain its needed resources, and so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Fac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21960" y="1190520"/>
            <a:ext cx="659772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ystem is in safe st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 deadloc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ystem is in unsafe st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sibility of dead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a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sure that a system will never enter an unsafe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46000" y="150480"/>
            <a:ext cx="7840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afe, Unsafe, Deadlock State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3437" t="1570" r="13685" b="2195"/>
          <a:stretch/>
        </p:blipFill>
        <p:spPr>
          <a:xfrm>
            <a:off x="2446200" y="1308240"/>
            <a:ext cx="40230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1120" y="16632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voidance Algorith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6120" y="1171080"/>
            <a:ext cx="665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instance of a resour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resource-allocation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stances of a resour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bank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23560" y="198000"/>
            <a:ext cx="7831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source-Allocation Graph Sche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58960" y="1155240"/>
            <a:ext cx="6989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aim edg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d that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request resour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represented by a dashed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edge converts to request edge when a process requests a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edge converted to an assignment edge when the  resource is allocated 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resource is released by a process, assignment edge reconverts to a claim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must be claim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6400" y="150480"/>
            <a:ext cx="7880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7:  Dead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7560" y="1131480"/>
            <a:ext cx="758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for Handling Dead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De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from Dead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81160"/>
            <a:ext cx="8224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source-Allocation Graph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2" name="Picture 4" descr="7"/>
          <p:cNvPicPr/>
          <p:nvPr/>
        </p:nvPicPr>
        <p:blipFill>
          <a:blip r:embed="rId1"/>
          <a:stretch/>
        </p:blipFill>
        <p:spPr>
          <a:xfrm>
            <a:off x="2668680" y="1409760"/>
            <a:ext cx="36813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31840" y="260280"/>
            <a:ext cx="82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Unsafe State In Resource-Allocation Graph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4" name="Picture 4" descr="7"/>
          <p:cNvPicPr/>
          <p:nvPr/>
        </p:nvPicPr>
        <p:blipFill>
          <a:blip r:embed="rId1"/>
          <a:stretch/>
        </p:blipFill>
        <p:spPr>
          <a:xfrm>
            <a:off x="2971800" y="939960"/>
            <a:ext cx="3360600" cy="34066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596880" y="4406760"/>
            <a:ext cx="81914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uppose that proces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requests a resour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e request can be granted only if converting the request edge to an assignment edge does not result in the formation of a cycle in the resource allocation 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821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nker’s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58600" y="1128240"/>
            <a:ext cx="675612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sta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must a priori claim maximum u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requests a resource it may have to wait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gets all its resources it must return them in a finite amount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4920" y="326880"/>
            <a:ext cx="758664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Data Structures for the Banker</a:t>
            </a:r>
            <a:r>
              <a:rPr b="1" lang="ja-JP" sz="28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 Algorithm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92320" y="1654200"/>
            <a:ext cx="73706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Vector of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f available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re a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n x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rix. 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request at mo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ces of resourc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rix.  If Allocation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allocat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rix.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ne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e instanc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lete it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50400" y="1107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 of processes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number of resources typ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afety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7560" y="1157400"/>
            <a:ext cx="73724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vectors of lengt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spectively.  Initial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fal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, 1, …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bo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su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s, go to 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tr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system is in a saf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2960" y="23184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source-Request Algorithm for Process </a:t>
            </a:r>
            <a:r>
              <a:rPr b="1" i="1" lang="en-US" sz="2800" spc="-1" strike="noStrike">
                <a:solidFill>
                  <a:srgbClr val="006699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6699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114200"/>
            <a:ext cx="7642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est vector for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step 2.  Otherwise, raise error condition, since process has exceeded its maximum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o to step 3.  Otherwi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ust wait, since resources are no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nd to allocate requested resource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modifying the stat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Nee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af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esources are allocated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unsaf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wait, and the old resource-allocation state is re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22400" y="151920"/>
            <a:ext cx="76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Banker</a:t>
            </a:r>
            <a:r>
              <a:rPr b="1" lang="ja-JP" sz="32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2120" y="1360080"/>
            <a:ext cx="79232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resource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0 instances),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5instances), a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7 inst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 at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ed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A B 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A B C        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7 5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3 3 2        7 4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0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 2 2                   1 2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9 0 2                   6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 2 2                  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4 3 3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4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71600"/>
                <a:tab algn="ctr" pos="2395440"/>
                <a:tab algn="ctr" pos="3594240"/>
                <a:tab algn="ctr" pos="4805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is in a safe state since the sequenc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satisfies safety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7200" y="21384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:  </a:t>
            </a:r>
            <a:r>
              <a:rPr b="1" i="1" lang="en-US" sz="3200" spc="-1" strike="noStrike">
                <a:solidFill>
                  <a:srgbClr val="006699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66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Request (1,0,2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96400" y="1103040"/>
            <a:ext cx="776628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at Reques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vailable (that is, (1,0,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3,3,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B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7 4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 3 0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 3 3 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 0 0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3 0 2       0 2 0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1 2 2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3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ng safety algorithm shows that sequence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satisfies safet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quest for (3,3,0)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granted?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-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quest for (0,2,0)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granted?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– not saf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1544760"/>
                <a:tab algn="ctr" pos="2452680"/>
                <a:tab algn="ctr" pos="3767040"/>
                <a:tab algn="ctr" pos="5022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1200" y="198000"/>
            <a:ext cx="7421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De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1440" y="1233360"/>
            <a:ext cx="7391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ystem to enter deadlock sta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-141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ingle Instance of Each Resource Typ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173240"/>
            <a:ext cx="75852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ait-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s ar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waiting f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ally invoke an algorithm that searches for a cycle in the graph. If there is a cycle, there exists a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gorithm to detect a cycle in a graph requires an order o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, whe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umber of vertices in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stem Mode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1040" y="115848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nsists of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typ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 . 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PU cycles, memory space, I/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source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utilizes a resourc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6240" y="266760"/>
            <a:ext cx="77518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Resource-Allocation Graph and  Wait-for Graph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652400" y="52934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815360" y="529344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ing wait-for 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7"/>
          <p:cNvPicPr/>
          <p:nvPr/>
        </p:nvPicPr>
        <p:blipFill>
          <a:blip r:embed="rId1"/>
          <a:stretch/>
        </p:blipFill>
        <p:spPr>
          <a:xfrm>
            <a:off x="1876320" y="1257480"/>
            <a:ext cx="593748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8840" y="1620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veral Instances of a Resource Typ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82720" y="1187280"/>
            <a:ext cx="701496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vector of leng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e number of available resources of each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 defines the number of resources of each type currently allocated to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 indicates the current request  of each process. 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proces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quest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e instances of resource typ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86960" y="151920"/>
            <a:ext cx="7899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tection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5040" y="890640"/>
            <a:ext cx="7753320" cy="55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vectors of leng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itial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,2, …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]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otherwis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 inde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lse  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su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s, go to 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u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step 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[i] ==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or s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system is in deadlock state. Moreover,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ad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lgorithm requires an order of O(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 n</a:t>
            </a:r>
            <a:r>
              <a:rPr b="1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 operations to detect whether the system is in deadlocke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2400" y="213840"/>
            <a:ext cx="76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Detection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1800" y="1108080"/>
            <a:ext cx="803736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process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esource typ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7 instances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 instances)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6 inst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 at ti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c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que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A B 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0 1 0       0 0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0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3 0 3       0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&lt;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will result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ish[i] = 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28840"/>
                <a:tab algn="ctr" pos="2338560"/>
                <a:tab algn="ctr" pos="3594240"/>
                <a:tab algn="ctr" pos="4921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8212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n additional instance of typ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 sys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claim resources held by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insufficient resources to fulfill other processes;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800440"/>
                <a:tab algn="ctr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exists, consisting of process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00160" y="229680"/>
            <a:ext cx="7586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tection-Algorithm Usag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0120" y="1122120"/>
            <a:ext cx="7107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, and how often, to invoke depend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ften a deadlock is likely to occ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processes will need to be rolled ba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each disjoint cyc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tection algorithm is invoked arbitrarily, there may be many cycles in the resource graph and so we would not be able to tell which of the many deadlocked processe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4040" y="228600"/>
            <a:ext cx="85881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Recovery from Deadlock:  Process Termination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63720" y="1107720"/>
            <a:ext cx="769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t all deadlocked proces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t one process at a time until the deadlock cycle is elimina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ich order should we choose to ab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process has computed, and how much longer to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the process ha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process needs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processes will need to be ter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rocess interactive or bat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7680" y="255600"/>
            <a:ext cx="8020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Recovery from Deadlock:  Resource Preemption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58600" y="1150560"/>
            <a:ext cx="6802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ng a victi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inimize co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eturn to some safe state, restart process for that 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same process may always be picked as victim, include number of rollback in cost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7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8800" y="182160"/>
            <a:ext cx="7937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adlock Character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4880" y="1541160"/>
            <a:ext cx="669132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tual exclu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ly one process at a time can use a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old and 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process holding at least one resource is waiting to acquire additional resources held by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 preemp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resource can be released only voluntarily by the process holding it, after that process has completed it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ircular 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re exists a set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of waiting processes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a resource that is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25480" y="1048680"/>
            <a:ext cx="63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can arise if four conditions hold simultaneous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2960" y="166320"/>
            <a:ext cx="7683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source-Allocation Grap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4040" y="1557000"/>
            <a:ext cx="68086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is partitioned into two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the set consisting of all the processes in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the set consisting of all resource typ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quest edg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irected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signment edg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irected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16480" y="1034280"/>
            <a:ext cx="47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vertic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set of edg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28600" y="18216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source-Allocation Graph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85600" y="1137960"/>
            <a:ext cx="734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Type with 4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 insta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holding an instanc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4143240" y="1494000"/>
            <a:ext cx="495360" cy="495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876840" y="5316480"/>
            <a:ext cx="495000" cy="495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860640" y="3914640"/>
            <a:ext cx="495360" cy="495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Group 12" descr=""/>
          <p:cNvPicPr/>
          <p:nvPr/>
        </p:nvPicPr>
        <p:blipFill>
          <a:blip r:embed="rId1"/>
          <a:stretch/>
        </p:blipFill>
        <p:spPr>
          <a:xfrm>
            <a:off x="4218120" y="2852640"/>
            <a:ext cx="463320" cy="439920"/>
          </a:xfrm>
          <a:prstGeom prst="rect">
            <a:avLst/>
          </a:prstGeom>
          <a:ln w="0">
            <a:noFill/>
          </a:ln>
        </p:spPr>
      </p:pic>
      <p:pic>
        <p:nvPicPr>
          <p:cNvPr id="117" name="Group 13" descr=""/>
          <p:cNvPicPr/>
          <p:nvPr/>
        </p:nvPicPr>
        <p:blipFill>
          <a:blip r:embed="rId2"/>
          <a:stretch/>
        </p:blipFill>
        <p:spPr>
          <a:xfrm>
            <a:off x="4681440" y="3968640"/>
            <a:ext cx="463680" cy="438120"/>
          </a:xfrm>
          <a:prstGeom prst="rect">
            <a:avLst/>
          </a:prstGeom>
          <a:ln w="0">
            <a:noFill/>
          </a:ln>
        </p:spPr>
      </p:pic>
      <p:sp>
        <p:nvSpPr>
          <p:cNvPr id="118" name="Line 19"/>
          <p:cNvSpPr/>
          <p:nvPr/>
        </p:nvSpPr>
        <p:spPr>
          <a:xfrm>
            <a:off x="4365720" y="4181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755960" y="4380120"/>
            <a:ext cx="331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Group 21" descr=""/>
          <p:cNvPicPr/>
          <p:nvPr/>
        </p:nvPicPr>
        <p:blipFill>
          <a:blip r:embed="rId3"/>
          <a:stretch/>
        </p:blipFill>
        <p:spPr>
          <a:xfrm>
            <a:off x="4657680" y="5370480"/>
            <a:ext cx="463680" cy="439920"/>
          </a:xfrm>
          <a:prstGeom prst="rect">
            <a:avLst/>
          </a:prstGeom>
          <a:ln w="0">
            <a:noFill/>
          </a:ln>
        </p:spPr>
      </p:pic>
      <p:sp>
        <p:nvSpPr>
          <p:cNvPr id="121" name="Line 27"/>
          <p:cNvSpPr/>
          <p:nvPr/>
        </p:nvSpPr>
        <p:spPr>
          <a:xfrm flipH="1">
            <a:off x="4343040" y="5526000"/>
            <a:ext cx="47628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4724280" y="5753520"/>
            <a:ext cx="331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6040" y="208080"/>
            <a:ext cx="8150040" cy="5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 of a Resource Allocation Graph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4" name="Picture 1032" descr=""/>
          <p:cNvPicPr/>
          <p:nvPr/>
        </p:nvPicPr>
        <p:blipFill>
          <a:blip r:embed="rId1"/>
          <a:srcRect l="25287" t="925" r="25287" b="1531"/>
          <a:stretch/>
        </p:blipFill>
        <p:spPr>
          <a:xfrm>
            <a:off x="2941560" y="1316160"/>
            <a:ext cx="27417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33560" y="272880"/>
            <a:ext cx="8378640" cy="4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source Allocation Graph With A Deadlock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3013200" y="1212840"/>
            <a:ext cx="27810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41280" y="304920"/>
            <a:ext cx="7955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raph With A Cycle But No Deadlock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4" descr="7"/>
          <p:cNvPicPr/>
          <p:nvPr/>
        </p:nvPicPr>
        <p:blipFill>
          <a:blip r:embed="rId1"/>
          <a:stretch/>
        </p:blipFill>
        <p:spPr>
          <a:xfrm>
            <a:off x="3216240" y="1208160"/>
            <a:ext cx="29527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Dr. Yousry Taha</cp:lastModifiedBy>
  <cp:lastPrinted>2013-09-10T17:57:57Z</cp:lastPrinted>
  <dcterms:modified xsi:type="dcterms:W3CDTF">2014-05-19T20:25:37Z</dcterms:modified>
  <cp:revision>200</cp:revision>
  <dc:subject/>
  <dc:title>2.01</dc:title>
</cp:coreProperties>
</file>