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040-9025-4F61-A5A5-A5D17483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0AD-B84C-4D87-8D92-6CF4BDEB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AF8-88FB-43E4-A10D-4AB5C4F8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CF3-3081-4469-892C-EB6A04D4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00F-A87D-48FA-B1BF-1E4C6A3C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68D-D0FD-41FF-9A96-69966F79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E8A-E950-4F5A-9EEB-9D54BF2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F05-236B-4F58-BDA8-ED3013E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20A-5CED-4AF8-B165-ABC4D23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185-F6FA-45CF-A9B6-864003D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C1D-E797-458D-83F3-CAFB14E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4B4-D9FC-41AD-8812-192AA88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E97F3-C08E-4F0F-805B-9732082700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53EDF-34E9-4713-984E-4097B6D7115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29:26Z</dcterms:created>
  <dc:creator>최봉수</dc:creator>
  <dc:description/>
  <dc:language>en-US</dc:language>
  <cp:lastModifiedBy>맛있다 군만두</cp:lastModifiedBy>
  <dcterms:modified xsi:type="dcterms:W3CDTF">2023-07-13T08:58:36Z</dcterms:modified>
  <cp:revision>3</cp:revision>
  <dc:subject/>
  <dc:title>슬라이드 1</dc:title>
</cp:coreProperties>
</file>