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6278-252D-46ED-AFDF-24CE1A5A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C590-8A05-4E46-A2E7-779A7E08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91D1-548F-40DA-9185-DB426C197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059C-1280-4E72-90B3-D2F16468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B7CE-625D-4B2C-8A09-557DC262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860-A83A-49EA-8029-F0A139A3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49D3-25FC-4C88-AFB1-1B171385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E659-3BD9-4696-A869-20267BDC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1BE1-96F6-4C90-B012-83E58ABC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6965-9A4C-484D-91ED-35795777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F84D-F499-478E-8CEA-65EAB10D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59D2-2582-4377-8EC3-0C181CC7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E94BE8-F302-4B0C-B46B-1A1A94889F0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6537DE-BA38-4EA9-BDB8-99E8D36A1531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40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4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5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5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6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6:29:26Z</dcterms:created>
  <dc:creator>최봉수</dc:creator>
  <dc:description/>
  <dc:language>en-US</dc:language>
  <cp:lastModifiedBy>맛있다 군만두</cp:lastModifiedBy>
  <dcterms:modified xsi:type="dcterms:W3CDTF">2023-07-13T08:58:36Z</dcterms:modified>
  <cp:revision>3</cp:revision>
  <dc:subject/>
  <dc:title>슬라이드 1</dc:title>
</cp:coreProperties>
</file>