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9A2AA-9732-4E33-A7EA-AF54A3BD7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E871-8493-4B7B-BD3A-0FB433DD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83DFF-9DDD-4822-872F-25C7A7CE2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0B990-DFC5-43FB-862C-9635A9D0F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BF014-C4DF-4E64-A581-ADF009258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C0D6-D9CE-4934-8DAD-72FD42553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67C49-529E-440D-9DA3-83679BF33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C9D3-EF19-4972-9287-FB1C407D4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DDD9E-C85A-4B49-A05B-F99AAAA3E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9735F-C294-42A2-87D4-B695CB218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DB465-FE94-4525-BF53-9A4DC719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F3F69-B2D6-474B-8C3C-3D1BE8A0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FB51D-DF50-44A5-A344-98AA2F4E1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403FE-E1E5-439E-B04A-5FA68D95C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985C4-779D-4B7C-A519-805DFA5DB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62614-842F-4321-9AA5-C4F3B6C15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72EA5-F800-4B29-A5F1-55709C819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2285B-F4F3-4B6A-A552-58AA26B418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76CF9-2C49-44E8-8396-271ABEA8B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A7BAF-8BD0-4055-A7F7-ACC2FFE01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5F308-FA09-45C3-AC55-BBB9CE5C4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4281C-7EF9-4314-920D-87C564807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1D70C-24AC-4504-83ED-3EE43509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66D6EC-605F-4CB5-9A0D-289E69682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DB362-0005-49B7-AD38-3638E2E16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331E1-FE69-443D-834C-1562F7FB5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3C80C-506D-4C80-9FD5-1CC03FE7E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5EF7A-4AD3-4304-9354-C1A864EDD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76E0A-23FC-40B5-B6A5-A51DED775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5F13F-2464-43DE-8425-246D60F63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66E10A-6F2F-4704-BEA5-AB36C3BE6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872E2-BBC2-4A59-9084-66E25CD1E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6C7BF-BE1B-49C3-ABAD-31F3A50BA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C45B-F5FA-43CD-9056-9AD82A45D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8767E-375D-4097-9BE6-F70301B65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92EAC-9A5C-414B-9403-0C78FA453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8615A-251E-4158-866B-C195A883D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B0F13-E307-4914-BBF8-293603C35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EBCCA-4DE7-4098-AB22-9A0282C75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97DA8-72FF-45EE-AA68-5B408803E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759D1-F342-431A-891C-952B0F135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6A513F-AE7B-4A3C-BD2A-B8E407E7DF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667F14-42DE-4390-9243-47399260A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B1B8B6-690C-4011-BB68-4E607FBB4D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4C86-65B7-49E4-B533-299EB856F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C73A1-E2BC-492F-8A10-D9B7D0213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C47B2-A67C-4C61-859B-9FBD76401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0C73B-708E-4D35-867A-47E6A557C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8822A-F84F-4B3C-A48C-AC77E896A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5A1281-2E69-4FA9-AFAD-7E09D32B5F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D8083-C665-4599-A8DD-23422B293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49288-6074-43F4-BC17-596634DBE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EE3C3-5672-4CDA-B010-6173E5618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91024-5875-4606-952A-341596031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564A52-480B-43A5-935A-CDB011EAF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5BB5-FDD2-49D8-8EB9-8255E1137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B1CD74-DBA0-4251-9B5A-A0C73F8C8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9D2ACB-9B14-4BFC-9DF3-6EB97AC047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0EF52-0D6A-42A4-8287-F456207DC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FF3344-DDD6-44F6-8FF0-4914C6B98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F8509-4D52-4B33-86CC-1E467A4A0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C4F9A-55B1-4F13-8EA8-09942DD32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F676A-6AD3-487C-9958-A9F0CB7FD8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921B3-E52C-4568-B44F-128939CB8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A1C1D-2BD5-4C3D-A8F1-D01C0F5AC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F85B6-20A1-460B-BAB9-A5CA4E1DD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587A-A2AC-4D10-A40C-EC750D98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1879B-FB2B-4A70-9005-66DB3778C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13A57F-5E22-4295-A06F-3CCF313854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9CA19A-9815-4F1F-8355-2829EF848A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6797A5-6891-42F2-93D3-22CCED78AC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4F990-4040-4D74-83B5-C7101C73C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E1846-498C-4AA2-9C62-5490B6787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969D0B-B5D3-41A0-BB65-50E96EC5E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04EE5C-8D18-4CE3-8345-6BD876185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B2EBAE-E243-4522-BE71-A4E39D8CF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D61BB-25FC-4B4D-9FDC-D91458569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E546-5A45-484D-B8C0-075D551B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AE374-F035-4C8A-9ABA-3D0ACC3E6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64A28-2B94-4DC9-8A26-5EF528C3B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6AACB1-6F80-47FC-84A5-480DD0AA3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4A9773-5A29-4AC2-9BA2-395FB32A92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0BEBB2-9CAA-4CD5-B5D9-0F7C6F60FB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0354CD-AC92-4EBC-8A9A-B7F347A292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1D1CB-76BE-4CD0-B9AC-53878AD195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77E99E-2F0F-43BA-B128-03EE6EA7F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FA1B4-06AC-440C-ADD5-1A0FF48E59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B0D6C-C2A9-4C0B-94E4-CE2E19B551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5ACF-9B17-4B77-8543-24F52CE9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07955-9192-4D91-BC06-CA6A9B08D5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F2320-CC83-4F38-9752-89141E758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C532D-EE1F-486C-A0DF-0C67D9BC4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9C4DF-059A-487A-A1A2-F3CF52584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C5494-4516-47A6-9280-4E017C1B2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00CE70-D6E1-4655-A230-0988CEEDFF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B35447-85B6-4C64-B896-B47C78706F5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5321-FB52-45CC-9055-B974AF8C6F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8e0736"/>
              </a:gs>
              <a:gs pos="50000">
                <a:srgbClr val="d75379"/>
              </a:gs>
              <a:gs pos="100000">
                <a:srgbClr val="8e0736"/>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2787-3A37-4487-8F8D-0235648474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43E6-2E1B-4F05-98B3-841AEDCF48C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6AFE-DF13-4C62-AA02-697F15F972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306E-A26B-4242-9140-85D9E58095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8934-4050-4B32-BDAC-D1865742DC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C7E6-0840-49AC-80ED-A5DC11CFCE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B7D0-CC52-4FC8-B8F1-AF4BFDCC444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AutoShape 2" descr=""/>
          <p:cNvPicPr/>
          <p:nvPr/>
        </p:nvPicPr>
        <p:blipFill>
          <a:blip r:embed="rId1"/>
          <a:stretch/>
        </p:blipFill>
        <p:spPr>
          <a:xfrm>
            <a:off x="682560" y="1749600"/>
            <a:ext cx="8089920" cy="184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jiwa atau nyawa</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akal</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kehormatan atau keturunan</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harta benda</a:t>
            </a:r>
            <a:endParaRPr b="0" lang="en-US" sz="27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melihara hak dan kebebasan</a:t>
            </a:r>
            <a:endParaRPr b="0" lang="en-US" sz="2700" spc="-1" strike="noStrike">
              <a:solidFill>
                <a:srgbClr val="000000"/>
              </a:solidFill>
              <a:latin typeface="Lucida Sans Unicode"/>
            </a:endParaRPr>
          </a:p>
        </p:txBody>
      </p:sp>
      <p:pic>
        <p:nvPicPr>
          <p:cNvPr id="388" name="AutoShape 2" descr=""/>
          <p:cNvPicPr/>
          <p:nvPr/>
        </p:nvPicPr>
        <p:blipFill>
          <a:blip r:embed="rId1"/>
          <a:stretch/>
        </p:blipFill>
        <p:spPr>
          <a:xfrm>
            <a:off x="225360" y="122400"/>
            <a:ext cx="8467920" cy="134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843440"/>
          </a:xfrm>
          <a:prstGeom prst="rect">
            <a:avLst/>
          </a:prstGeom>
          <a:noFill/>
          <a:ln w="0">
            <a:noFill/>
          </a:ln>
        </p:spPr>
        <p:txBody>
          <a:bodyPr anchor="t">
            <a:normAutofit/>
          </a:bodyPr>
          <a:p>
            <a:pPr marL="609480" indent="-60948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fat-sifat tamadun Islam</a:t>
            </a:r>
            <a:endParaRPr b="0" lang="en-US" sz="27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jagat iaitu tidak terikat kepada bangsa tertentu.</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rbuka dan tidak bersifat tertutup</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panjang zaman iaitu tidak terhenti pada satu-satu masa sahaja.</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leransi terhadap sistem agama atau kepercayaan dan kebudayaaan lain.</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esatuan Dalam Kepelbagaian</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eseimbangan Antara Rohani Dan Jasmani</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bbani</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i-FI" sz="2300" spc="-1" strike="noStrike">
                <a:solidFill>
                  <a:srgbClr val="000000"/>
                </a:solidFill>
                <a:latin typeface="Lucida Sans Unicode"/>
              </a:rPr>
              <a:t>Idealistik Dan Realistik</a:t>
            </a: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990720" indent="-533520" algn="just">
              <a:spcBef>
                <a:spcPts val="326"/>
              </a:spcBef>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0" name="AutoShape 2" descr=""/>
          <p:cNvPicPr/>
          <p:nvPr/>
        </p:nvPicPr>
        <p:blipFill>
          <a:blip r:embed="rId1"/>
          <a:stretch/>
        </p:blipFill>
        <p:spPr>
          <a:xfrm>
            <a:off x="195120" y="268200"/>
            <a:ext cx="8498160" cy="115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Quran</a:t>
            </a:r>
            <a:endParaRPr b="0" lang="en-US" sz="24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Hadith</a:t>
            </a:r>
            <a:endParaRPr b="0" lang="en-US" sz="2400" spc="-1" strike="noStrike">
              <a:solidFill>
                <a:srgbClr val="000000"/>
              </a:solidFill>
              <a:latin typeface="Lucida Sans Unicode"/>
            </a:endParaRPr>
          </a:p>
          <a:p>
            <a:pPr marL="609480" indent="-60948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jtihad </a:t>
            </a:r>
            <a:endParaRPr b="0" lang="en-US" sz="2400" spc="-1" strike="noStrike">
              <a:solidFill>
                <a:srgbClr val="000000"/>
              </a:solidFill>
              <a:latin typeface="Lucida Sans Unicode"/>
            </a:endParaRPr>
          </a:p>
        </p:txBody>
      </p:sp>
      <p:pic>
        <p:nvPicPr>
          <p:cNvPr id="392" name="AutoShape 2" descr=""/>
          <p:cNvPicPr/>
          <p:nvPr/>
        </p:nvPicPr>
        <p:blipFill>
          <a:blip r:embed="rId1"/>
          <a:stretch/>
        </p:blipFill>
        <p:spPr>
          <a:xfrm>
            <a:off x="195120" y="268200"/>
            <a:ext cx="8498160" cy="1158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AutoShape 2" descr=""/>
          <p:cNvPicPr/>
          <p:nvPr/>
        </p:nvPicPr>
        <p:blipFill>
          <a:blip r:embed="rId1"/>
          <a:stretch/>
        </p:blipFill>
        <p:spPr>
          <a:xfrm>
            <a:off x="195120" y="2127240"/>
            <a:ext cx="8498160" cy="260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1481040"/>
            <a:ext cx="8229600" cy="491976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madun boleh ditakrifkan sebagai sejumlah pencapaian dan penerokaan dalam segala perlakuan, pemikiran dan penciptaan yang baik (termasuklah dalam bidang senibina dan lain-lain kemahiran), halus, sopan santun bagi pembentukan peribadi, akhlak, tatasusila, adab, tingkahlaku dan budi bahasa yang mulia bagi individu dan juga sesuatu kelompok manusia yang membentuk sebuah bangsa atau negara bangsa .</a:t>
            </a:r>
            <a:endParaRPr b="0" lang="en-US" sz="20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madun mempunyai pengertian lebih luas daripada politik, ekonomi dan teknologi. Ianya merangkumi pencapaian sesuatu bangsa dalam bidang kehidupan termasuklah seni dan nilai estetika seperti senibina, seni lukis, kesusateraan dan sebagainya adalah sebahagian daripada komponen tamadun</a:t>
            </a:r>
            <a:endParaRPr b="0" lang="en-US" sz="2000" spc="-1" strike="noStrike">
              <a:solidFill>
                <a:srgbClr val="000000"/>
              </a:solidFill>
              <a:latin typeface="Lucida Sans Unicode"/>
            </a:endParaRPr>
          </a:p>
        </p:txBody>
      </p:sp>
      <p:pic>
        <p:nvPicPr>
          <p:cNvPr id="37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ari sudut bahasa Arab- istilah madaniah, tamadun, hadharah dan umran digunakan sebagai membawa maksud kemajuan dan pembangunan.</a:t>
            </a:r>
            <a:endParaRPr b="0" lang="en-US" sz="27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mun apa yang ditekankan oleh Islam ialah kehalusan budi pekerti dan pembangunan perbandaran atau penempatan.</a:t>
            </a:r>
            <a:endParaRPr b="0" lang="en-US" sz="2700" spc="-1" strike="noStrike">
              <a:solidFill>
                <a:srgbClr val="000000"/>
              </a:solidFill>
              <a:latin typeface="Lucida Sans Unicode"/>
            </a:endParaRPr>
          </a:p>
        </p:txBody>
      </p:sp>
      <p:pic>
        <p:nvPicPr>
          <p:cNvPr id="374" name="AutoShape 2" descr=""/>
          <p:cNvPicPr/>
          <p:nvPr/>
        </p:nvPicPr>
        <p:blipFill>
          <a:blip r:embed="rId1"/>
          <a:stretch/>
        </p:blipFill>
        <p:spPr>
          <a:xfrm>
            <a:off x="195120" y="268200"/>
            <a:ext cx="8498160" cy="115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yed Muhammad Naquib Al-Attas yang mengaitkan tamadun sebagai keadaan kehidupan insan bermasyarakat yang telah mencapai taraf kehalusan tatasusila dan kebudayaan yang luhur bagi seluruh masyarakatnya.</a:t>
            </a:r>
            <a:endParaRPr b="0" lang="en-US" sz="24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bn Khaldun pula mengatakan tamadun ialah pencapaian manusia yang sudah melebihi keperluan asasi kehidupan sehingga dapat membuka jalan ke arah pemikiran dan penghasilan daya cipta yang lebih halus dan mempunyai nilai-nilai seni.</a:t>
            </a:r>
            <a:endParaRPr b="0" lang="en-US" sz="24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ara umumnya Tamadun Islam adalah cetusan daripada memartabatkan Islam sebagai Al-Din iaitu satu cara hidup yang lengkap selaras dengan fitrah manusia yang memberi penekanan kepada hubunagan manusia dengan manusia, hubungan manusia sesama manusia dan hubungan manusia dengan Alam.</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madun Islam memang berkait rapat dengan agama.</a:t>
            </a:r>
            <a:endParaRPr b="0" lang="en-US" sz="2700" spc="-1" strike="noStrike">
              <a:solidFill>
                <a:srgbClr val="000000"/>
              </a:solidFill>
              <a:latin typeface="Lucida Sans Unicode"/>
            </a:endParaRPr>
          </a:p>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ma yang menggerakkan tamadun Islam.</a:t>
            </a:r>
            <a:endParaRPr b="0" lang="en-US" sz="2700" spc="-1" strike="noStrike">
              <a:solidFill>
                <a:srgbClr val="000000"/>
              </a:solidFill>
              <a:latin typeface="Lucida Sans Unicode"/>
            </a:endParaRPr>
          </a:p>
        </p:txBody>
      </p:sp>
      <p:pic>
        <p:nvPicPr>
          <p:cNvPr id="380" name="AutoShape 2" descr=""/>
          <p:cNvPicPr/>
          <p:nvPr/>
        </p:nvPicPr>
        <p:blipFill>
          <a:blip r:embed="rId1"/>
          <a:stretch/>
        </p:blipFill>
        <p:spPr>
          <a:xfrm>
            <a:off x="268200" y="268200"/>
            <a:ext cx="8425080" cy="115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0680"/>
            <a:ext cx="8229600" cy="5224680"/>
          </a:xfrm>
          <a:prstGeom prst="rect">
            <a:avLst/>
          </a:prstGeom>
          <a:noFill/>
          <a:ln w="0">
            <a:noFill/>
          </a:ln>
        </p:spPr>
        <p:txBody>
          <a:bodyPr anchor="t">
            <a:normAutofit/>
          </a:bodyPr>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Pengabdian diri kepada Allah S.W.T di dalam seluruh kegiatan hidup</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Berorganisasi atas asas akidah yang menjamin dari sifat menyeleweng dan kezalim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Lucida Sans Unicode"/>
              </a:rPr>
              <a:t>Keagungan dan keluhuran nilai kemanusiaan berbanding dengan nilai kebenda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Lucida Sans Unicode"/>
              </a:rPr>
              <a:t>Berfungsinya nilai-nilai kemanusiaan yang menyebabkan berkembangnya sifat kemanusiaan ”manusiawi” bukan sifat ”kebinatangan”</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Kesucian dan keharmonian hidup keluarga</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Melaksanakan tugas khilafah di bumi Allah dengan mengikut panduan Allah S.W.T dan sentiasa </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Sans Unicode"/>
              </a:rPr>
              <a:t>memegang janji dan amanah Allah</a:t>
            </a:r>
            <a:endParaRPr b="0" lang="en-US" sz="20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65200" indent="-457200">
              <a:spcBef>
                <a:spcPts val="400"/>
              </a:spcBef>
              <a:buClr>
                <a:srgbClr val="b83d68"/>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65200" indent="-4572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lvl="2" marL="1371600" indent="-457200">
              <a:spcBef>
                <a:spcPts val="349"/>
              </a:spcBef>
              <a:buClr>
                <a:srgbClr val="ac66bb"/>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tlamat secara umum</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engangkat Islam sebagai cara al-Deen iaitu satu cara hidup yang lengkap dan komprehensif. Keadaan ini dapat dilihat dengan apa yang dibuat oleg RSAW dan Khalifah al-Rasyidin.</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371600" indent="-457200" algn="just">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2. Matlamat secara khusus</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tuk menjalankan hubungan manusia dengan Allah Pencipta Alam di samping mewujudkan hubungan yang baik sesama manusia dan alam sejagat.</a:t>
            </a:r>
            <a:endParaRPr b="0" lang="en-US" sz="2100" spc="-1" strike="noStrike">
              <a:solidFill>
                <a:srgbClr val="000000"/>
              </a:solidFill>
              <a:latin typeface="Lucida Sans Unicode"/>
            </a:endParaRPr>
          </a:p>
          <a:p>
            <a:pPr lvl="2" marL="1371600" indent="-457200" algn="just">
              <a:spcBef>
                <a:spcPts val="349"/>
              </a:spcBef>
              <a:buClr>
                <a:srgbClr val="ac66b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000000"/>
                </a:solidFill>
                <a:latin typeface="Lucida Sans Unicode"/>
              </a:rPr>
              <a:t>Dalam konteks pembinaan tamadun manusia, Islam menekankan aspek hubungan manusia seperi berikut :</a:t>
            </a:r>
            <a:endParaRPr b="0" lang="en-US" sz="27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Hubungan Manusia Dengan Allah </a:t>
            </a:r>
            <a:endParaRPr b="0" lang="en-US" sz="23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300" spc="-1" strike="noStrike">
                <a:solidFill>
                  <a:srgbClr val="000000"/>
                </a:solidFill>
                <a:latin typeface="Lucida Sans Unicode"/>
              </a:rPr>
              <a:t>Hubungan Manusia Sesama Manusia</a:t>
            </a:r>
            <a:endParaRPr b="0" lang="en-US" sz="2300" spc="-1" strike="noStrike">
              <a:solidFill>
                <a:srgbClr val="000000"/>
              </a:solidFill>
              <a:latin typeface="Lucida Sans Unicode"/>
            </a:endParaRPr>
          </a:p>
          <a:p>
            <a:pPr lvl="1" marL="620640" indent="-228600" algn="just">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Hubungan Manusia Dengan Alam</a:t>
            </a:r>
            <a:endParaRPr b="0" lang="en-US" sz="2300" spc="-1" strike="noStrike">
              <a:solidFill>
                <a:srgbClr val="000000"/>
              </a:solidFill>
              <a:latin typeface="Lucida Sans Unicode"/>
            </a:endParaRPr>
          </a:p>
        </p:txBody>
      </p:sp>
      <p:pic>
        <p:nvPicPr>
          <p:cNvPr id="386" name="AutoShape 2" descr=""/>
          <p:cNvPicPr/>
          <p:nvPr/>
        </p:nvPicPr>
        <p:blipFill>
          <a:blip r:embed="rId1"/>
          <a:stretch/>
        </p:blipFill>
        <p:spPr>
          <a:xfrm>
            <a:off x="115920" y="225360"/>
            <a:ext cx="8504280" cy="11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05:51:10Z</dcterms:created>
  <dc:creator>Amnah Saayah Ismail</dc:creator>
  <dc:description/>
  <dc:language>en-US</dc:language>
  <cp:lastModifiedBy>umminaqi</cp:lastModifiedBy>
  <dcterms:modified xsi:type="dcterms:W3CDTF">2009-08-10T02:02:43Z</dcterms:modified>
  <cp:revision>11</cp:revision>
  <dc:subject/>
  <dc:title>Konsep Tamadun Islam</dc:title>
</cp:coreProperties>
</file>