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BCC-A413-481C-ACE0-1E4AE78E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A34-DCBB-469F-902E-1E42E971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0BB7-C326-456F-80F6-D09E2AD1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9F70-2236-4B27-94B6-666B1A73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E27DFB-5088-4B2F-8D9C-BEE3B295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817E31-8BFA-4101-8B4F-ABE7E1E4C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1B582-A896-414B-B20B-611E4B557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85E05-2F48-49D7-916A-0D2C4605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2F7F9-49B0-4653-A776-613CD971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8E55E-0295-4DFA-9F6C-43D9F2EE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555CE-E0D3-4389-AF3F-E58E45B4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9F86-FEA0-4369-944E-6104B5D3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3718D-952D-4DE4-B938-F53FE0B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2DA79-5D5A-4F61-93C8-D45851E9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40DE0-7D3E-4CB7-8808-D99EA36D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639875-FB2B-46E7-9E1A-FAFE14EC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6C914-98EE-4D5A-A89F-DAFBC0F8F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4271-555B-4F9D-B8E6-57B37979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3080-5DF9-4264-84A7-4B3EF685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4289-C09F-44C3-A0AC-82AE9375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B2E-7020-4727-88E7-C13B2011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A570-FFFA-449E-88AB-F535FC77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9FFB-4625-4C3F-A732-5E298F7B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6F4B-4DD3-4B89-926E-B6F09876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82C5-8B7D-485C-8787-E85A3D52EF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D9B3-7CF6-46D9-BEB9-A701AC54BB8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3e3ff"/>
                </a:solidFill>
                <a:latin typeface="Arial"/>
              </a:rPr>
              <a:t>Õýë ÿðèàíû ººð÷ëºëò</a:t>
            </a:r>
            <a:r>
              <a:rPr b="0" i="1" lang="mn-Cyrl-MN" sz="3200" spc="-1" strike="noStrike">
                <a:solidFill>
                  <a:srgbClr val="e3e3ff"/>
                </a:solidFill>
                <a:latin typeface="Arial"/>
              </a:rPr>
              <a:t>үүд: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mn-Cyrl-MN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ýòãýõ¿éí ººð÷ëºëò íü õýë ÿðèàíû ººð÷ëºëòèéã äàãóóëäàã, ó÷èð íü õýë ñýòãýõ¿é ãýõ ýíý 2 îéëãîëò íÿãò óÿëäààòàé. Õýë ÿðèàíû ¿íäñýí ººð÷ëºëò¿¿äýä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/ ãàöàà áóþó çàèêàíèå /õýë ÿðèàíû òàñðàëòã¿é ¿ðãýëæëýõ óÿí õàòàí øèíæ ÷àíàð àëäàãäà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ñëàëèÿ /õýë ÿðèàíû ýðõòýíèé ¿éë àæèëëàãàà áîëîí ñîíñãîë õýâèéí ÷ íýã áóþó õýä õýäýí ¿ã ¿ñãèéã áóðóó äóóäàõ, òóõàéëáàë ð-ë, ñ-ø ãýõ ìý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èíîëàëèÿ /äóó õîîëîéí ºíãºíèé ººð÷ëºëò, ýë õàìðûí äóóäëàãà íü õýë ÿðèàíû ýðõòýíèé äåôåêò, òóõàéëáàë óðóóë òàãíàé öîîðõîé, ñýòýðõèé áàéõ òîõèîëäîëä áèé áîëíî, “ãóíøàà”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çàðòðèÿ /õýë ÿðèàíû ýðõòýíèé ¿éë àæèëëàãàà õýâèéí áóñ áàéõààñ øàëòãààëàí àâèàã çºâ äóóäàõ ÷àäâàð àëäàãäàíà, “øóëãà”, ò¿ðãýí õýëëýãèéí òóñëàìæòàé çàñàæ çàëðóóëäàã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åôëåêñû îðàëüíîãî àâòîìàòèçìà /àìíû õºíäèé áîëîí õîîëîéí òºðºëõèéí ðåôëåê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åôëåêñ-çàïðåùàþùàÿ ïîçèöèÿ /õ¿¿õäèéí áèåý ñóëëàäàã áàéð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ðîòàöèçì /”ð”-ã áóðóó äóóä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èìóëüòàíò /àíàëèç ñèíòåç íü òîäîðõîé á¿õýëëýã öîãö øèíæòý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óêöåññèâ /àíàëèç ñèíòåç íü á¿õýëëýã áóñ, õýñýã÷èëñýí äàðààëñàí øèíæòý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èãìàòèçì /ñ, ø ãýõ ìýò àâèàã àëäààòàé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îìáèíèðîâàííûé äåôåêò /òºâºãòýé, äàí ãàíö áóñ õàâñàðñàí, õàì øèíæ á¿õ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òèêî-ôîíåìàòè÷åñêîå íåäîðàçâèòèå /òºðºëõ õýëíèé àâèàã ýíä¿¿ òàøàà õ¿ðòñýíýýð áóðóó äóóäàõ, õýë ÿðèàíû õºãæëèéí ñààò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îïðÿæ¸ííàÿ ðå÷ü /õî¸ð áóþó ò¿¿íýýñ èë¿¿ õ¿ì¿¿ñ íýãýí çýðýã ¿ã ¿ñãèéã äóóäà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ñóäîðîãè /áóë÷èíãèéí çîðèóäûí àãøè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îíè÷åñêàÿ ñóäîðîãà /áóë÷èí óäààí õóãàöààãààð àãø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ðåìîð /4 ìº÷ áóþó ãàð õºë, äóó õîîëîé, õýëíèé õýìíýëò õºäºëãººí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àíàëèç ñèíòåç /¿ãèéí á¿òöýä àíàëèç ñèíòåç õè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õ¿ðòýõ¿é /àâèàã ÿëãàõ áîëîí òàíèõ, ¿ãèéí á¿òöèéã ñîíñãîëûí òóñëàìæòàé òîäîðõîéëîõ îþóí óõààíû õóâüä òºâºãòýé òóñãàé äàñãàë õèéõ, íàðèéí ìýäðýìæ á¿õèé 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åìàòèê ñîíñãîë /äóó àâèàíû ñîíñãîë äýýã¿¿ð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êñòèðïàöèÿ ãîðòàíè /õîîëîéí ìýñ çàñ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òèîëîãèÿ /ó÷èð øàëòãààí ñóä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ýõîëàëèÿ /¿ãèéã àâòîìàòààð äàâòàí äóóäà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mn-Cyrl-MN" sz="4400" spc="-1" strike="noStrike">
                <a:solidFill>
                  <a:srgbClr val="e3e3ff"/>
                </a:solidFill>
                <a:latin typeface="Arial"/>
              </a:rPr>
              <a:t>Анхаарал тавьсанд баярлала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ëàëèÿ /óðãèéí áîëîí õ¿¿õäèéí õºãæëèéí ýðò ¿å äýõ òàðõèíû ÿðèà áè÷ãèéí òºâèéí îðãàíèê ãýìòëèéí óëìààñ ¿ã ¿ñãèéã îéëãîìæã¿é áóðóó äóóäàõ, ñåíñîðíàÿ áóþó ìýäðýõ¿éí, ìîòîðíàÿ áóþó õºäºëãººíèé ãýæ àíãèëíà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ôàçèÿ /ýìãýã ñýòãýë ñóäëàëä õýë ÿðèàíû ººð÷ëºëò¿¿äèéã á¿õýëä íü àôàçèÿ ãýæ íýðëýíý, áóñäûí õýë ÿðèàã îéëãîõ áîëîí ÿðèõ ÷àäâàð õýñýã÷èëýí áîëîí á¿ðýí àëäàãäàíà, òàðõèíû ãîëîìòîò ýìãýãèéí ¿åä áèé áîëîõ õèéãýýä äàðààõ õýëáýð¿¿äòýé: 1)àêóñòèêî-ãíîòè÷åñêàÿ áóþó ñåíñîðíàÿ, ¿ã ¿ñãèéã ººð÷ëºëòòýé õ¿ðòýíý, 2)àêóñòèêî-ìíåñòè÷åñêàÿ, ñîíñãîë áîëîí õýë ÿðèàíû îé òîãòîîëòûí ººð÷ëºëò, 3)ñåìàíòèê áóþó çºâ áè÷èõ ä¿ðýì çààâàð, ëîãèê á¿òöèéã îéëãîõã¿é áàéõ, 4)àôôåðåíò-õºäºëãººíèé áóþó êèíåñòåòèê, îðàëü, àðòèêóëÿòîð àïðàêñèÿ, 5)ýôôåðåíò-õºäºëãººíèé áóþó õýë ÿðèàíû êèíåòèê òàëûí ººð÷ëºëò, 6)äèíàìèê áóþó õýë ÿðèàíû òºëºâëºëò, çîõèîí áàéãóóëàëò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èñôîíèÿ /äóó õîîëîéí ºíãº, õóðä çýðãèéí ººð÷ëºëò, àôîíèÿ-á¿ðýí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ãðàôèÿ /äèñãðàôèÿ, áè÷ãèéí õýë á¿ðýí áîëîí õýñýã÷èëýí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ðèïòîëàëèÿ /îéëãîìæã¿é óðâóó äóóäàõ, òóõàéëáàë æàðãîí, á¿ä¿¿ëýã êðèìèíàë ¿ã õýëëýã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íàðòðèÿ /õýë ÿðèà õýñýã÷èëýí áîëîí á¿ðýí õýìæýýãýýð àëäàãäàõ ïðîöåññ, äóóäàæ ÷àäà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øèçîïåäèÿ /¿ã ¿ñýã òàñàðõàé îéëãîìæã¿é áîëî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ëèãîïåäèÿ /¿ãèéí íººö áàãàñ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ôîíîïåäèÿ /äóó õîîëîé, õýë ÿðèà áîëîí àìüñãàëûí ýðõòýíèé ¿éë àæèëëàãààíä öîãö íºëººëºõ ïðîöåñ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àìíåçèÿ /òàðõèíû ãîëîìòîò ýìãýãèéí ¿åä ¿¿ñ÷ áèé áîëíî, îé òîãòîîëòûí ýìãýã, õýò èõ èë¿¿ö ç¿éë, ¿ã õýë ÿðèàã õàäãàë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îìíåçèÿ /îéã¿äýë, òîãòîîõ ÷àäâàðã¿é áîëî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áðàäèëàëèÿ /¿ãèéã õýò ñóíãàæ çººõ, óäààí ÿð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òàõèëàëèÿ /õýò õóðäàí ÿð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ò èõ îáúåìòîé ÿðè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õýò áàãà ÿðè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íýã ç¿éëèéã õýò íóðøèí îëîí ¿ãýýð òàéëáàðëà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ãðàììàòèçì /èìïðåññèâ áóþó äîòîîä, ýêñïðåññèâ áóþó ãàäààä õýëýõ¿éí ººð÷ëºëò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êàëüêóëèÿ /èõ òàðõèíû ãàäðûí çàðèì õýñãèéí ãýìòëýýñ òîî áîäîõ ÷àäâàð áóóðàõ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ëåêñèÿ /äèñëåêñèÿ, óíøèõ ïðîöåññ õýñýã÷èëýí áîëîí á¿ðýí àëäàãäàõ, ¿¿íä îéëãîõ ìºí áàãòàíà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íòèöèïàöèè /¿ð ä¿íã óðüä÷èëàí áè÷èõ, õàäãàëàõ ÷àäâàð, “îïåðåæàþùåå îòðàæåíèå” ãýæ íýðëýíý, òóõàéëáàë ¿ãèéí òºãñãºëèéí ¿å äýõ àâèàã óðüä÷èëàí òààìàãëàõ, áè÷èõ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àïðàêñèÿ /çîðèóäûí õºäºëãººí àëäàãäàõ, îíîâ÷ã¿é èë¿¿ö õºäºëãººí õèéõ, ýíý íü ïàðàëè÷ áóþó ñààæèëò, ïàðåç áóþó õýñýã áè÷èë áóë÷èíãèéí ñààæèëòòàé õîëáîîã¿é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ñòåíèÿ /ÿäàðãàà, áèå îðãàíèçìûí ñóëð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òðîôèÿ /ýä ýñèéí á¿òöèéí ººð÷ëºëò, áîäèñûí ñîëèëöîî àëäàãäàõ òîõèîëäîëä áèé áîëíî, ¿õæèëò ãýæ íýðëý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òàêñèÿ /õºäºëãººí çîõèöóóëàëò, îðîí çàéí áàðèìæàà àëäàã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óäèîãðàììà /ñîíñãîëûí ñóäàëãàà øèíæèëãýýíèé ¿ð ä¿íãèéí ãðàôèê õýëáýðòýé ¿ç¿¿ëýëò, àóäèîìåòð-ð õýìæè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àôîíèÿ /äèñôîíèÿ, äóó õîîëîé õýñýã÷èëýí áîëîí á¿ðýí àëäàãäàõ, ¿ã¿é áîëî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Áðîêèéí áóþó õýë ÿðèàíû õºäºëãººíèé òºâ, ìºí ò¿¿í÷ëýí Âåðíèêèéí áóþó ñîíñãîëûí òºâèéí ãýìòýë /äóõ, øàíàéí õýñýãò ãýìòâýë ººðèéí áîëîí áóñäûí õýë ÿðèàã îéëãîõã¿é, äóóäàæ ÷àäàõã¿é áàéõ, ÿðèõ ÷àäâàð áóóðàõ áîëîí àëäàãäàõ çýðýã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âåðáàëèçì /þìñ ¿çýãäëèéí ìºí ÷àíàð, òºñººëºë çýðýã íü ¿ãèéí óòãàòàé òîõèðî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882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26028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àêóçèÿ /áóñäûí õóâüä à÷ õîëáîãäîëã¿é õýò íàì äóó ÷èìýýíä ñîðãîã áàéõ, ñåíñîð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åìèïëåãèÿ /áèåèéí òàë õýñãèéí áóë÷èíãèéí ïàðåç áóþó ïàðàëè÷, çîðèóäûí õºäºëãººí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àììàöèçì /”ã”-ã áóðóó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åðêèíåç /çîðèóäûí áóñ îíîâ÷ã¿é èë¿¿ö õºäºëãººí¿¿ä, ìýäðýëèéí òîãòîëöîîíû òýíöâýðò áóñ áàéäëûí ¿åä èëýð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ãèïîêñèÿ /áèå ìàõáîäûí êèñëîðîäûí äóòàãä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îíòîëîãèÿ /”äåîí”-¸ñòîé ãýñýí ¿ã, òóõàéëáàë ëîãîïåä ºâ÷òºíèé îéð äîòíû õ¿ì¿¿ñ áîëîí ººðòýé íü õýðõýí êîíòàêò-ä îðîõ òàëàà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ïðèâàöèÿ /ººðèéí õýðýãöýýã á¿ðýí èëýðõèéëæ ÷àäàõã¿é áàé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åêîìïåíñàöèÿ /ÿìàð íýã ýðõòýí, ò¿¿íèé ¿éë àæèëëàãààã áóñàä íü íºõºõ, îðëîõ ÷àäâàðã¿é áàéõ, êîìïåíñàöèÿ-íºõºõ, íºõºí òºëæèõ, îðëî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àïïàöèçì /”ê”-ã áóðóó, ýíä¿¿ òàøàà äóóäà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èíåñòåòèê ìýäðýìæ /õýë ÿðèàíû ýðõòí¿¿äèéã ìýäðýõ, òóõàéëáàë çºâ áàéðëàñàí ýñýõèéã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ëîíè÷åñêàÿ ñóäîðîãà áóþó áîãèíî õóãàöààíä öóâðàõ, îëîí äàâòàãäàõ áè÷èë áóë÷èíãèéí àãøèëò, ñóíàëò, òóõàéëáàë äîîä çîâõè äýýø äîîø õºäëºõ, “òàòàõ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êîíòàìèíàöèÿ /ñàëàíãèä ¿ãñèéí ¿å¿¿äèéã íýãòãýæ äóóäàõ, õóóëáàðë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îãîïåäèÿ /ñóðãàí õ¿ì¿¿æ¿¿ëýõ óõààíû òóñãàé ñàëáàð, õýë çàñ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àìáäàöèçì /”ë”-ã áóðóó äóóäà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ëîãîððåÿ /èäýâõ ÷àðìàéëò ãàðãàí äóóäàõ îéëãîìæã¿é, óòãûí õîëáîîã¿é áàãö ¿ãñ, ñåíñîð ººð÷ëºëòèéí ¿åä èëýðíý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ìóòèçì /õàðèëöàà ¿ã¿é áîëîõ, ñýòãýöèéí ººð÷ëºëò ãýìòëèéí ¿åä áèé áîëíî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óó õîîëîéí ìóòàöè /øèëæèëòèéí /13-15/ íàñíû õ¿¿õäýä èë¿¿ àæèãëàãääàã äóó õîîëîéí ºíãºíèé ººð÷ëºëò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ìèêðîãëîññèÿ /õýëýõ¿éí ýðõòýí áîëîõ “õýë”-íèé õºãæèë õîöðîõ, ñààòàõ, ìàêðîãëîññèÿ-õýëíèé õýìæýý õýò òîì áàéõ, õºãæè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äóó õîîëîéí ìîäóëÿöè áóþó ºíãºíèé ººð÷ëºëò, èíòîíàöè-òàé õîëáîîòî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äåôåêò íü êîììóíèêàòèâ îíîëûí ¿¿äíýýñ âåðáàëü êîììóíèêàöèéí ººð÷ëºë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éðîëèíãâèñòèêà /ñýòãýë ñóäëàë, íåâðîëîãè, ëèíãâèñòèêèéí ñàëáàð óõààí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éðîîíòîãåíåç /ìýäðýëèéí òîãòîëöîîíû õºãæè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âðîïàòèÿ /êîíñòèòóöèîíàëüíàÿ íåðâíîñòü áóþó áèå ìàõáîäü, ìýäðýëèéí òîãòîëöîîíû õýò õººðëèéí áàéä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íåãàòèâèçì /íàñàíä õ¿ðýã÷äèéí øààðäëàãûã ÿìàð íýã ñýäýë õýðýãöýý, øàëòãààíã¿é ýñýðã¿¿öýõ, òàòãàëçàõ/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19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8920" y="33300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áòóðàòîð /öîîðõîé òàãíàéã òàãëàõ ç¿é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îðòîäîíòèÿ /ø¿ä ýð¿¿ ñóäëàë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ñààòàë /îáùåå íåäîðàçâèòèå ðå÷è, ÎÍ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îçîòîíè÷åñêèå ðåôëåêñû /òîëãîéí áàéðëàëààñ õàìààðàí áèåèéí áàéðëàëûí ººð÷ëºëòèéã õÿíàäàã òºðºëõèéí øèíæòýé ðåôëåêñ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àðàôàçèÿ /àìàí áîëîí áè÷ãèéí õýë ÿðèàíû ¿åä ”ëèòåðàëü” áóþó àâèàã, ìºí “âåðáàëü” áóþó ¿ã, ¿ñãèéã áóðóó äóóäñàíààð òóõàéí ººð÷ëºëò áèé áîëíî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åðñåâåðàöèÿ /¿ã ¿ñãèéí ýìãýã äàâòàëò, ¿éë àæèëëàãàà äóóñãàâàð áîëñîí ýñýõ òàëààðõ ìýäýýëýë õîæèìäîæ èðýõ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ïàòîãåíåç /ïàòîëîãèÿ áóþó ýìãýã ñóäëàëûí ñàëáàð, ýìãýã áèé áîëîõ ìåõàíèçì, øàëòãààí íºõöëèéã ñóäàëäàã ñàëáàð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õýë ÿðèàíû óðâóó õºãæèë, òàðõèíû ãîëîìòîò ýìãýãèéí ¿åä ºìíºõ ÷àäâàðûã õàÿõ, ãýý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2:32:41Z</dcterms:created>
  <dc:creator>boldoo</dc:creator>
  <dc:description/>
  <dc:language>en-US</dc:language>
  <cp:lastModifiedBy>boldoo</cp:lastModifiedBy>
  <dcterms:modified xsi:type="dcterms:W3CDTF">2009-02-12T12:46:32Z</dcterms:modified>
  <cp:revision>2</cp:revision>
  <dc:subject/>
  <dc:title>Õýë ÿðèàíû ººð÷ëºëòүүд:</dc:title>
</cp:coreProperties>
</file>