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B6A-E80E-441F-8435-87344C10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A9E-61C1-471D-A7FE-BEBC292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61F-3398-49D6-BC29-1F23786F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754-E525-4357-B5C0-BC1650F7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45C7-ACC7-4266-8650-4E6DFEEF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BD84-D0E5-414E-99F1-8569ABF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1480-1BBB-4D75-AAE0-68075C1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B95CE-7934-42FF-8CC2-032FAFB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6C4A-526D-40BA-B26F-789C6826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3726-51C0-47AD-B3C9-E597CF62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816E-1243-4866-81AC-D6B8990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BB5-C994-4CEC-8D08-EE44A724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E8A2-90C4-436B-8B5D-E7DF04A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F47F-539C-4159-BC7A-F65A410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331D9-3A84-42E9-B029-DF0FD9E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A8B8-EFC2-4106-8933-F794EC2E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E541-C7CA-4A66-B2E2-E40D550F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3BF-211B-4823-9C00-D36A13F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B54-F340-4758-8AEC-D09FB5A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463-EA2D-4555-AC0E-532FF19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EAD-7F87-4D09-BE54-3FB1E2C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CAF-D7C6-47C6-9698-FDAC9391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093-3BB8-4696-83EC-5122249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A71-32EB-4858-B49C-14FEBAC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DEE1-95C0-4597-8936-DC76426AB4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5FB-D783-4179-BE85-3E0F2F84A2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Õýë ÿðèàíû ººð÷ëºëò</a:t>
            </a:r>
            <a:r>
              <a:rPr b="0" i="1" lang="mn-Cyrl-MN" sz="3200" spc="-1" strike="noStrike">
                <a:solidFill>
                  <a:srgbClr val="e3e3ff"/>
                </a:solidFill>
                <a:latin typeface="Arial"/>
              </a:rPr>
              <a:t>үүд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mn-Cyrl-M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ýòãýõ¿éí ººð÷ëºëò íü õýë ÿðèàíû ººð÷ëºëòèéã äàãóóëäàã, ó÷èð íü õýë ñýòãýõ¿é ãýõ ýíý 2 îéëãîëò íÿãò óÿëäààòàé. Õýë ÿðèàíû ¿íäñýí ººð÷ëºëò¿¿äýä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/ ãàöàà áóþó çàèêàíèå /õýë ÿðèàíû òàñðàëòã¿é ¿ðãýëæëýõ óÿí õàòàí øèíæ ÷àíàð àëäàãäà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ñëàëèÿ /õýë ÿðèàíû ýðõòýíèé ¿éë àæèëëàãàà áîëîí ñîíñãîë õýâèéí ÷ íýã áóþó õýä õýäýí ¿ã ¿ñãèéã áóðóó äóóäàõ, òóõàéëáàë ð-ë, ñ-ø ãýõ ìý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èíîëàëèÿ /äóó õîîëîéí ºíãºíèé ººð÷ëºëò, ýë õàìðûí äóóäëàãà íü õýë ÿðèàíû ýðõòýíèé äåôåêò, òóõàéëáàë óðóóë òàãíàé öîîðõîé, ñýòýðõèé áàéõ òîõèîëäîëä áèé áîëíî, “ãóíøàà”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çàðòðèÿ /õýë ÿðèàíû ýðõòýíèé ¿éë àæèëëàãàà õýâèéí áóñ áàéõààñ øàëòãààëàí àâèàã çºâ äóóäàõ ÷àäâàð àëäàãäàíà, “øóëãà”, ò¿ðãýí õýëëýãèéí òóñëàìæòàé çàñàæ çàëðóóëäà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åôëåêñû îðàëüíîãî àâòîìàòèçìà /àìíû õºíäèé áîëîí õîîëîéí òºðºëõèéí ðåôëåê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åôëåêñ-çàïðåùàþùàÿ ïîçèöèÿ /õ¿¿õäèéí áèåý ñóëëàäàã áàéð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îòàöèçì /”ð”-ã áóðóó äóóä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èìóëüòàíò /àíàëèç ñèíòåç íü òîäîðõîé á¿õýëëýã öîãö øèíæòý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óêöåññèâ /àíàëèç ñèíòåç íü á¿õýëëýã áóñ, õýñýã÷èëñýí äàðààëñàí øèíæòý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èãìàòèçì /ñ, ø ãýõ ìýò àâèàã àëäààòàé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îìáèíèðîâàííûé äåôåêò /òºâºãòýé, äàí ãàíö áóñ õàâñàðñàí, õàì øèíæ á¿õ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òèêî-ôîíåìàòè÷åñêîå íåäîðàçâèòèå /òºðºëõ õýëíèé àâèàã ýíä¿¿ òàøàà õ¿ðòñýíýýð áóðóó äóóäàõ, õýë ÿðèàíû õºãæëèéí ñààò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îïðÿæ¸ííàÿ ðå÷ü /õî¸ð áóþó ò¿¿íýýñ èë¿¿ õ¿ì¿¿ñ íýãýí çýðýã ¿ã ¿ñãèéã äóóäà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óäîðîãè /áóë÷èíãèéí çîðèóäûí àãøè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îíè÷åñêàÿ ñóäîðîãà /áóë÷èí óäààí õóãàöààãààð àãø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ðåìîð /4 ìº÷ áóþó ãàð õºë, äóó õîîëîé, õýëíèé õýìíýëò õºäºëãººí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àíàëèç ñèíòåç /¿ãèéí á¿òöýä àíàëèç ñèíòåç õè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õ¿ðòýõ¿é /àâèàã ÿëãàõ áîëîí òàíèõ, ¿ãèéí á¿òöèéã ñîíñãîëûí òóñëàìæòàé òîäîðõîéëîõ îþóí óõààíû õóâüä òºâºãòýé òóñãàé äàñãàë õèéõ, íàðèéí ìýäðýìæ á¿õèé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ñîíñãîë /äóó àâèàíû ñîíñãîë äýýã¿¿ð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êñòèðïàöèÿ ãîðòàíè /õîîëîéí ìýñ çàñ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òèîëîãèÿ /ó÷èð øàëòãààí ñóä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õîëàëèÿ /¿ãèéã àâòîìàòààð äàâòàí äóóäà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mn-Cyrl-MN" sz="4400" spc="-1" strike="noStrike">
                <a:solidFill>
                  <a:srgbClr val="e3e3ff"/>
                </a:solidFill>
                <a:latin typeface="Arial"/>
              </a:rPr>
              <a:t>Анхаарал тавьсанд баярлала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ëàëèÿ /óðãèéí áîëîí õ¿¿õäèéí õºãæëèéí ýðò ¿å äýõ òàðõèíû ÿðèà áè÷ãèéí òºâèéí îðãàíèê ãýìòëèéí óëìààñ ¿ã ¿ñãèéã îéëãîìæã¿é áóðóó äóóäàõ, ñåíñîðíàÿ áóþó ìýäðýõ¿éí, ìîòîðíàÿ áóþó õºäºëãººíèé ãýæ àíãèë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ôàçèÿ /ýìãýã ñýòãýë ñóäëàëä õýë ÿðèàíû ººð÷ëºëò¿¿äèéã á¿õýëä íü àôàçèÿ ãýæ íýðëýíý, áóñäûí õýë ÿðèàã îéëãîõ áîëîí ÿðèõ ÷àäâàð õýñýã÷èëýí áîëîí á¿ðýí àëäàãäàíà, òàðõèíû ãîëîìòîò ýìãýãèéí ¿åä áèé áîëîõ õèéãýýä äàðààõ õýëáýð¿¿äòýé: 1)àêóñòèêî-ãíîòè÷åñêàÿ áóþó ñåíñîðíàÿ, ¿ã ¿ñãèéã ººð÷ëºëòòýé õ¿ðòýíý, 2)àêóñòèêî-ìíåñòè÷åñêàÿ, ñîíñãîë áîëîí õýë ÿðèàíû îé òîãòîîëòûí ººð÷ëºëò, 3)ñåìàíòèê áóþó çºâ áè÷èõ ä¿ðýì çààâàð, ëîãèê á¿òöèéã îéëãîõã¿é áàéõ, 4)àôôåðåíò-õºäºëãººíèé áóþó êèíåñòåòèê, îðàëü, àðòèêóëÿòîð àïðàêñèÿ, 5)ýôôåðåíò-õºäºëãººíèé áóþó õýë ÿðèàíû êèíåòèê òàëûí ººð÷ëºëò, 6)äèíàìèê áóþó õýë ÿðèàíû òºëºâëºëò, çîõèîí áàéãóóëàëò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ñôîíèÿ /äóó õîîëîéí ºíãº, õóðä çýðãèéí ººð÷ëºëò, àôîíèÿ-á¿ðýí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ãðàôèÿ /äèñãðàôèÿ, áè÷ãèéí õýë á¿ðýí áîëîí õýñýã÷èëýí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ðèïòîëàëèÿ /îéëãîìæã¿é óðâóó äóóäàõ, òóõàéëáàë æàðãîí, á¿ä¿¿ëýã êðèìèíàë ¿ã õýëëýã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íàðòðèÿ /õýë ÿðèà õýñýã÷èëýí áîëîí á¿ðýí õýìæýýãýýð àëäàãäàõ ïðîöåññ, äóóäàæ ÷àäà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øèçîïåäèÿ /¿ã ¿ñýã òàñàðõàé îéëãîìæã¿é áîëî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ëèãîïåäèÿ /¿ãèéí íººö áàãàñ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îïåäèÿ /äóó õîîëîé, õýë ÿðèà áîëîí àìüñãàëûí ýðõòýíèé ¿éë àæèëëàãààíä öîãö íºëººëº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àìíåçèÿ /òàðõèíû ãîëîìòîò ýìãýãèéí ¿åä ¿¿ñ÷ áèé áîëíî, îé òîãòîîëòûí ýìãýã, õýò èõ èë¿¿ö ç¿éë, ¿ã õýë ÿðèàã õàäãàë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îìíåçèÿ /îéã¿äýë, òîãòîîõ ÷àäâàðã¿é áîëî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áðàäèëàëèÿ /¿ãèéã õýò ñóíãàæ çººõ, óäààí ÿð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àõèëàëèÿ /õýò õóðäàí ÿð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ò èõ îáúåìòîé ÿðè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õýò áàãà ÿðè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íýã ç¿éëèéã õýò íóðøèí îëîí ¿ãýýð òàéëáàðëà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ãðàììàòèçì /èìïðåññèâ áóþó äîòîîä, ýêñïðåññèâ áóþó ãàäààä õýëýõ¿éí ººð÷ëºëò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êàëüêóëèÿ /èõ òàðõèíû ãàäðûí çàðèì õýñãèéí ãýìòëýýñ òîî áîäîõ ÷àäâàð áóóðàõ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ëåêñèÿ /äèñëåêñèÿ, óíøèõ ïðîöåññ õýñýã÷èëýí áîëîí á¿ðýí àëäàãäàõ, ¿¿íä îéëãîõ ìºí áàãòàíà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íòèöèïàöèè /¿ð ä¿íã óðüä÷èëàí áè÷èõ, õàäãàëàõ ÷àäâàð, “îïåðåæàþùåå îòðàæåíèå” ãýæ íýðëýíý, òóõàéëáàë ¿ãèéí òºãñãºëèéí ¿å äýõ àâèàã óðüä÷èëàí òààìàãëàõ, áè÷èõ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ïðàêñèÿ /çîðèóäûí õºäºëãººí àëäàãäàõ, îíîâ÷ã¿é èë¿¿ö õºäºëãººí õèéõ, ýíý íü ïàðàëè÷ áóþó ñààæèëò, ïàðåç áóþó õýñýã áè÷èë áóë÷èíãèéí ñààæèëòòàé õîëáîîã¿é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ñòåíèÿ /ÿäàðãàà, áèå îðãàíèçìûí ñóëð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òðîôèÿ /ýä ýñèéí á¿òöèéí ººð÷ëºëò, áîäèñûí ñîëèëöîî àëäàãäàõ òîõèîëäîëä áèé áîëíî, ¿õæèëò ãýæ íýðëý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òàêñèÿ /õºäºëãººí çîõèöóóëàëò, îðîí çàéí áàðèìæàà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óäèîãðàììà /ñîíñãîëûí ñóäàëãàà øèíæèëãýýíèé ¿ð ä¿íãèéí ãðàôèê õýëáýðòýé ¿ç¿¿ëýëò, àóäèîìåòð-ð õýìæè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ôîíèÿ /äèñôîíèÿ, äóó õîîëîé õýñýã÷èëýí áîëîí á¿ðýí àëäàãäàõ, ¿ã¿é áîëî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Áðîêèéí áóþó õýë ÿðèàíû õºäºëãººíèé òºâ, ìºí ò¿¿í÷ëýí Âåðíèêèéí áóþó ñîíñãîëûí òºâèéí ãýìòýë /äóõ, øàíàéí õýñýãò ãýìòâýë ººðèéí áîëîí áóñäûí õýë ÿðèàã îéëãîõã¿é, äóóäàæ ÷àäàõã¿é áàéõ, ÿðèõ ÷àäâàð áóóðàõ áîëîí àëäàãäàõ çýðýã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âåðáàëèçì /þìñ ¿çýãäëèéí ìºí ÷àíàð, òºñººëºë çýðýã íü ¿ãèéí óòãàòàé òîõèðî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àêóçèÿ /áóñäûí õóâüä à÷ õîëáîãäîëã¿é õýò íàì äóó ÷èìýýíä ñîðãîã áàéõ, ñåíñîð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åìèïëåãèÿ /áèåèéí òàë õýñãèéí áóë÷èíãèéí ïàðåç áóþó ïàðàëè÷, çîðèóäûí õºäºëãººí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àììàöèçì /”ã”-ã áóðóó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êèíåç /çîðèóäûí áóñ îíîâ÷ã¿é èë¿¿ö õºäºëãººí¿¿ä, ìýäðýëèéí òîãòîëöîîíû òýíöâýðò áóñ áàéäëûí ¿åä èëýð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îêñèÿ /áèå ìàõáîäûí êèñëîðîäûí äóòàãä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îíòîëîãèÿ /”äåîí”-¸ñòîé ãýñýí ¿ã, òóõàéëáàë ëîãîïåä ºâ÷òºíèé îéð äîòíû õ¿ì¿¿ñ áîëîí ººðòýé íü õýðõýí êîíòàêò-ä îðîõ òàëàà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ïðèâàöèÿ /ººðèéí õýðýãöýýã á¿ðýí èëýðõèéëæ ÷àäà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êîìïåíñàöèÿ /ÿìàð íýã ýðõòýí, ò¿¿íèé ¿éë àæèëëàãààã áóñàä íü íºõºõ, îðëîõ ÷àäâàðã¿é áàéõ, êîìïåíñàöèÿ-íºõºõ, íºõºí òºëæèõ, îðëî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àïïàöèçì /”ê”-ã áóðóó, ýíä¿¿ òàøàà äóóäà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èíåñòåòèê ìýäðýìæ /õýë ÿðèàíû ýðõòí¿¿äèéã ìýäðýõ, òóõàéëáàë çºâ áàéðëàñàí ýñýõèéã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ëîíè÷åñêàÿ ñóäîðîãà áóþó áîãèíî õóãàöààíä öóâðàõ, îëîí äàâòàãäàõ áè÷èë áóë÷èíãèéí àãøèëò, ñóíàëò, òóõàéëáàë äîîä çîâõè äýýø äîîø õºäëºõ, “òàòà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îíòàìèíàöèÿ /ñàëàíãèä ¿ãñèéí ¿å¿¿äèéã íýãòãýæ äóóäàõ, õóóëáàðë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îãîïåäèÿ /ñóðãàí õ¿ì¿¿æ¿¿ëýõ óõààíû òóñãàé ñàëáàð, õýë çàñ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àìáäàöèçì /”ë”-ã áóðóó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îãîððåÿ /èäýâõ ÷àðìàéëò ãàðãàí äóóäàõ îéëãîìæã¿é, óòãûí õîëáîîã¿é áàãö ¿ãñ, ñåíñîð ººð÷ëºëòèéí ¿åä èëýð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ìóòèçì /õàðèëöàà ¿ã¿é áîëîõ, ñýòãýöèéí ººð÷ëºëò ãýìòëèéí ¿åä áèé áîëíî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óó õîîëîéí ìóòàöè /øèëæèëòèéí /13-15/ íàñíû õ¿¿õäýä èë¿¿ àæèãëàãääàã äóó õîîëîéí ºíãºí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ìèêðîãëîññèÿ /õýëýõ¿éí ýðõòýí áîëîõ “õýë”-íèé õºãæèë õîöðîõ, ñààòàõ, ìàêðîãëîññèÿ-õýëíèé õýìæýý õýò òîì áàéõ, õºãæ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óó õîîëîéí ìîäóëÿöè áóþó ºíãºíèé ººð÷ëºëò, èíòîíàöè-òàé õîëáîîòî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äåôåêò íü êîììóíèêàòèâ îíîëûí ¿¿äíýýñ âåðáàëü êîììóíèêàöèéí ººð÷ëºë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éðîëèíãâèñòèêà /ñýòãýë ñóäëàë, íåâðîëîãè, ëèíãâèñòèêèéí ñàëáàð óõààí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éðîîíòîãåíåç /ìýäðýëèéí òîãòîëöîîíû õºãæè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âðîïàòèÿ /êîíñòèòóöèîíàëüíàÿ íåðâíîñòü áóþó áèå ìàõáîäü, ìýäðýëèéí òîãòîëöîîíû õýò õººðëèéí áàéä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ãàòèâèçì /íàñàíä õ¿ðýã÷äèéí øààðäëàãûã ÿìàð íýã ñýäýë õýðýãöýý, øàëòãààíã¿é ýñýðã¿¿öýõ, òàòãàëçà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áòóðàòîð /öîîðõîé òàãíàéã òàãëàõ ç¿é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ðòîäîíòèÿ /ø¿ä ýð¿¿ ñóä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ñààòàë /îáùåå íåäîðàçâèòèå ðå÷è, ÎÍ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îçîòîíè÷åñêèå ðåôëåêñû /òîëãîéí áàéðëàëààñ õàìààðàí áèåèéí áàéðëàëûí ººð÷ëºëòèéã õÿíàäàã òºðºëõèéí øèíæòýé ðåôëåê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àðàôàçèÿ /àìàí áîëîí áè÷ãèéí õýë ÿðèàíû ¿åä ”ëèòåðàëü” áóþó àâèàã, ìºí “âåðáàëü” áóþó ¿ã, ¿ñãèéã áóðóó äóóäñàíààð òóõàéí ººð÷ëºëò áèé áîëíî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åðñåâåðàöèÿ /¿ã ¿ñãèéí ýìãýã äàâòàëò, ¿éë àæèëëàãàà äóóñãàâàð áîëñîí ýñýõ òàëààðõ ìýäýýëýë õîæèìäîæ èðý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àòîãåíåç /ïàòîëîãèÿ áóþó ýìãýã ñóäëàëûí ñàëáàð, ýìãýã áèé áîëîõ ìåõàíèçì, øàëòãààí íºõöëèéã ñóäàëäàã ñàëáà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óðâóó õºãæèë, òàðõèíû ãîëîìòîò ýìãýãèéí ¿åä ºìíºõ ÷àäâàðûã õàÿõ, ãýý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2:32:41Z</dcterms:created>
  <dc:creator>boldoo</dc:creator>
  <dc:description/>
  <dc:language>en-US</dc:language>
  <cp:lastModifiedBy>boldoo</cp:lastModifiedBy>
  <dcterms:modified xsi:type="dcterms:W3CDTF">2009-02-12T12:46:32Z</dcterms:modified>
  <cp:revision>2</cp:revision>
  <dc:subject/>
  <dc:title>Õýë ÿðèàíû ººð÷ëºëòүүд:</dc:title>
</cp:coreProperties>
</file>