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9CA-634F-4D43-AE30-D2935BDE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234-14F8-416C-BA09-E911ABC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793-B66C-479E-9DFF-5CCDBB31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A72-CE6E-4A8E-9E6F-B7C8FCB9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67921-EA4F-44F4-9FEE-24FE40F8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9008-B71F-4787-BC13-1FD2F77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2E4A-9D85-4D8E-8B2A-F6B47BB3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92899-D655-414D-8E44-EB56E478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84D50-DE88-4858-953D-83B6BFCA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47FED-23F5-447A-B95A-E39A32E2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28C4-7B21-4DF5-9D66-5214768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999-71E8-41ED-B6BF-E7996B4E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0022-EDE8-43E3-A8DA-0ACF350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0E0D4-7D36-4DCA-BDF1-64B8EB0B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9E874-7E44-4F2F-9DF8-3B4C130F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E25ED-F19D-44A6-B7C8-3A6CDF61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763B8-3873-4F77-BA7A-B9CA5BC4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CDF7-EC6A-46C7-AA10-3AB93946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D8E8-8E48-452F-BA63-99A8170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5B28-E5AF-44DF-BC2D-1EF8273E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7CBB-9C3A-43A7-B6DB-C53DA2D2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E3E2-9B20-42B0-ACFB-C3BCE32A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13C-170B-4B9C-BFE9-5AF0D074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960A-C9F4-4CE9-9899-666FF017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AED7-5141-4661-AEDF-5E10014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5852-D56A-4D89-8B74-1E54320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A7F0-345C-42EF-B0FB-F1E0BC1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D538-4D20-4A37-B2D1-C07D26A4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C455-366A-4ADC-AAA9-AC34252B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D3B6-5C1F-4CAA-9CDC-38CD192D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6322-AD86-42E4-AA53-313C7F1E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1EFF-CF0D-4FA8-8A60-E742F402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ACC3-F354-4882-A929-8CEFCA6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1F8-4D34-4ADC-B1F9-D68C840E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DD8E-9CBB-4AA8-BCF6-CAF33C0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25B1C-143D-4C5D-A5C0-D11C2FAD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9946-5CFE-4B48-B3E6-57EA56A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5459-2109-44E5-BE8D-3F6EAF5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E01C-A618-45EF-B995-4ACCDA8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A6136-2BAE-4F38-ABD1-F0D82C0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05600-DA66-448A-9116-BE5F7BD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8CC1-B4A3-401A-A12C-EC8AF9C3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ACB1-3538-433C-90B5-A37F1E1C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4DA-4EC2-4F5B-8E60-04A4031D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751-1248-4CEF-B483-3884A89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45E-B772-4C6B-92B1-6F23EF2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4D3-FB5C-49D5-85D3-91540ECE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430-E208-40BE-B5EC-84CD4E2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E97E-F558-4AD4-9381-C5820252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A3EB-5A30-4BB2-B158-82C99DA0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D5D-EA18-428F-A1F6-9B4259FC5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15E4-0C76-4F24-A3DA-23E279CA3C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Er was eens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Een man die in z’n dromen geloof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Hij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Leeft waar golven nooit ruise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voel to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jou hartje brui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hartenwensen uit m’n dr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tov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vlinders die beko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zwevend naar de kust, enkel ru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op de roos die ji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ku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iep heeft ze hem in z’n dromen gevoer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aar warmte hem innerlijk beroe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ij vertelde wat hij voelde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ahoma"/>
              </a:rPr>
              <a:t>Liefde op eerste zic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bronnen van verlan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rijvende in jou o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openbaarde zich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e stille taal der liefde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een wereld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ie draait en draait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waar tijd jaagt op ieder uur,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ink ik tijdloos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de ontastbare diepte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van je blik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tense meren va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onuitgesproke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gevoelens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oekende naar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ntwoorden in mijn o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van wat ik voelde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één hartslag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voor jou mooie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kijkers gezwicht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de openbloeiende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kracht van liefde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op het eerste zich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e droom werd mooier en ster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gevoelens nog inten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.. tot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76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erfst heeft stil doen versag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e winter betrad het dromenland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Een gevoel van eenzaamheid gesl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bij het zachtjes ontw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2556000" y="3402000"/>
            <a:ext cx="4095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Maar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Wat echt warm en koesterend leeft in het har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kan overwinnen de mindere d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Geloof en vertrouwe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Is ook als hoop, als licht en warmte, een houvast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Al lijkt het soms niets om vast te kunnen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toch kun je er op bouwen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28195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ant alleen met jou zou ik graag samen zwe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2562480" cy="235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 rot="1562400">
            <a:off x="4427280" y="2204640"/>
            <a:ext cx="2781360" cy="27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3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e schoonheid van het leven bele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samen het ruisen van de golven aanho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Ik zou heel graag zijn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jou vergeet me niet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Van het engeltje uit m’n dr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een meisje op blote voeten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at ik steeds zal blijven zoek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3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30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estere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Als de zon aan westereinder slapen ga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ze nog heel even straalt in m’n gela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roept ze telkens mijn naam van ginds ver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voor een zoektocht naar m’n liefste st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lokt me zwevend in warmzach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handen met zich mee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tot aan de gelukspoort van de ze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aar waar de einder het lichaam v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e golven in vurig rood bemin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room ik van het mooiste zeeënkin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raag de fluisterwoorden van m’n har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oor de stilte van de nach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O westenwind, tot daar waar zij zich bevind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waai m’n stem tot diep in haar warme har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zodat ze weet, in de schittering v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e nacht, ik voor altijd op haar wach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tijdloos zullen m’n ogen blijven zoeken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e gloed van ‘t meisje op blote voeten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van zij die ik ooit zoals in een sprookje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als de liefde uit m’n dromen ontmoette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330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aar je ook bent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en als ik je ooit mag vind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aar je ook gaat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Ik schenk aan jou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Tahoma"/>
              </a:rPr>
              <a:t>Maar soms in grijze dagen.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BE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BE" sz="1400" spc="-1" strike="noStrike">
                <a:solidFill>
                  <a:srgbClr val="ffffff"/>
                </a:solidFill>
                <a:latin typeface="Tahoma"/>
              </a:rPr>
              <a:t>Zo van die dag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r zijn zo van die da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t je liever niet uit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bed wou kom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gen van je alléén te voel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waarin de dag geen einde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lijkt beschor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o van die da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r zijn zo van die da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t je liever wou verdwijn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gen dat tranen weer opwell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n herinnerin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an betere tijden najag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beelden die als scherve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uit je hart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keer op keer verschijnen 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o van die da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r zijn zo van die da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fvragend waarom je hier bent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n vandaag had ik weer zo een dag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en dag waarin een tedere knuffel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niet binnen handbereik lag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9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Mijn woo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Ik geef ze in handen van een ranke zeewind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Aan de dauw in ‘t gras en aan klaproz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ik reik ze aan een meeuw die naar verten klimt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ik geef ze aan de zon in ‘t ochtendglor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laat mijn woorden als op vleugels reizen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gedragen zoals in de zachte armen van een kind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breng ze daar waar mijn liefste zich bevindt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vertel haar dat mijn liefde altijd bij zal blijv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dat alleen zij in m’n levensad’ren kan stromen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langs meren, over bergen en sted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kathedralen zal ik overal voor je bouw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tot in de weides van verlangen uit je drom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maar alleen van jou aanblik zal ik altijd houden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klimmend naar het dak van de wereld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ingend dat ik jou altijd al heb bemind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vertel ik de goden van de bloem en de bij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en dat ik aan jou mijn jawoord wil gev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fluistert het windekind zo zachtjes erbij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mijn liefde voor jou zal eeuwig blijven lev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oals een bij zijn heerlijkste nectar ontwaart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oals een vlinder zijn lentebloem de mooiste vindt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o blijf, en heb ik jou altijd al bemin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600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1908000" y="2781360"/>
            <a:ext cx="51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"/>
              </a:rPr>
              <a:t>Westenwinden nemen z’n fluisterwoorden met zich mee en zullen jou vertellen.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771640" y="2637000"/>
            <a:ext cx="424836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k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250920" y="765000"/>
            <a:ext cx="8582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room van jou.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3573360"/>
            <a:ext cx="74898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efs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8172360" y="6308640"/>
            <a:ext cx="7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99"/>
                </a:solidFill>
                <a:latin typeface="Arial"/>
              </a:rPr>
              <a:t>Ric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Toch droomde ook hij van blauwe einder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3009960"/>
            <a:ext cx="341964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Tahoma"/>
              </a:rPr>
              <a:t>Op zoek naar een sprookjespri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Oeverloze verbondenheid beleven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Samen naar ware liefde streven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2562120" cy="23526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278136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Opnieuw liefde verlan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k zi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schrev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je ogen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anker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je har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oor neve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an ang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vangen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ou lichaam naa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prechte liefd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lange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hoedzaa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reek je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ng voor reed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leden pijn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een voor ste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 mur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 je hee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ikende na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et licht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smelt het intens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lang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an jij en ik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ns naar sam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liefde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één eenheid zijn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ij droomde van een engeltje aan de einder.. en hij voelde dat het dit keer anders was, ze deed z’n hart heel wat sneller sla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Voor haar wou hij gaan, en dacht na over innerlijk verlangen en bestaan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ahoma"/>
              </a:rPr>
              <a:t>Ji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j doet me echt wel wat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 manier waarop je z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ralend naar me lac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sschien wist je da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angzaam maar zek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warmt jou glimlach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jn hart dat eenzaam wa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het leven van alledag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nd in hand met open og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ou ik met jou willen wegdrom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an elkaar geniete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nder het licht van de ma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ou ik voor altijd met jou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ver het pad der liefde willen gaa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urfde ik je dit maar te vertelle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sschien zouden sterren ook d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oekomst kunnen voorspellen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k kan het alleen maar hop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at het jou liefde is die me toelach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urfde ik jou dit maar te vrag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nt jij…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sschien wist je dat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j doet me echt wel wa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Ze konden samen dromen als geen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ander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162240" y="2505240"/>
            <a:ext cx="2819520" cy="1847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ij dacht na over hartewensen, verlangend naar een sprookje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23:29:44Z</dcterms:created>
  <dc:creator/>
  <dc:description/>
  <dc:language>en-US</dc:language>
  <cp:lastModifiedBy/>
  <dcterms:modified xsi:type="dcterms:W3CDTF">2008-09-06T07:02:28Z</dcterms:modified>
  <cp:revision>135</cp:revision>
  <dc:subject/>
  <dc:title>Er was eens..</dc:title>
</cp:coreProperties>
</file>