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22D-B01D-4701-9B8E-65B720C0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3B5-6A47-4E7F-A3E0-C91E4397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E67-34BA-48DF-B862-D75DE10B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8BF-14CC-4933-A7C9-38259B61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7BF51-8C00-46D7-A33B-A87973DA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490E2-3AA5-493B-8010-8C4749A8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655F3-6557-4ABD-863D-1E2D62A7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6DE51-2F76-48F1-B2D6-99629634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080D5-B751-46EE-8274-9AAB465A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AF1B2-FE13-4675-A367-05FBBE4C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42895-4782-4817-8048-11E8A07D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844-2051-4E50-94B1-AE503750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553CA-625E-4267-A29A-CF23B717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24275-C8D3-4023-9981-A4EA0D10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49A97-6AED-4929-BDDE-634B5566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EFEAA-315E-44E8-9859-AD2A88C4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AD2DC-E8D3-470C-AA6D-0698AEC8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392D7-5B6F-425A-A265-451370E1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3397D-0BD7-4ACA-8186-78CB618D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9E822-AE09-42F5-A2ED-3058FCA6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1059-4B2A-4401-A4FF-40325FF7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0522F-9994-4670-BC5D-AD5242FA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E34-C316-42EC-BA7E-0294CC94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C1B3-DC81-45F3-BEB8-48EAE684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A274D-124C-45C1-AB34-A6D6E720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93D6-DB68-44C9-BA4B-2ADA091F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07DF1-6527-47A3-B3C2-AF842198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D299-E393-446D-90A0-9AD3DA21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B38F7-13F1-48D6-99C5-B281734A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8181-43FF-4AA8-8597-E86C82A3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07875-56B7-4195-81FB-4CD3010C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BF048-72AC-4C39-B106-81BE15F0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861C6-5DA9-48DA-BD93-50B716A5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B16-1CBE-4091-B5F8-4BFC1D41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57639-1BC7-41D4-ACAE-F911D91B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A19F3-A1A1-4E17-9AFD-7027F8A6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B1155-A228-44D9-98DC-A5B6D402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11B0B-A255-406F-83B2-2AC6EBB1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5598C-E16E-4ADF-9E1D-CA98F065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2E4CC-8882-4D29-B7DF-B5A5B666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CDEFB-7D49-4BA2-907D-01EF5A8F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521C9-AF78-417A-A730-9A9C1CE8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7E2E2-3090-4530-A808-16CDA2C4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B4C-BBF2-498B-AECC-AE010FFF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41D-9CF5-4D05-A594-D81216E3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80C-6A7A-43EF-A93B-C931A652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C1E-F862-492A-A550-19FCF266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97D-E308-49FB-82CF-E506198A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FE7B-C843-43E9-99A9-F39DBEB9C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0AF1-7F6D-47A4-8CCC-65BA3EB26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4FB7-4DBD-4356-99BA-EB5336504A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92EE-F324-4F3C-8B53-6E5D53C5ABB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ahoma"/>
              </a:rPr>
              <a:t>Er was eens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Een man die in z’n dromen geloof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42764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ahoma"/>
              </a:rPr>
              <a:t>Hij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Leeft waar golven nooit ruise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voel to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jou hartje brui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hartenwensen uit m’n dr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tov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vlinders die beko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zwevend naar de kust, enkel ru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op de roos die ji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ku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Diep heeft ze hem in z’n dromen gevoerd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haar warmte hem innerlijk beroe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Hij vertelde wat hij voelde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Tahoma"/>
              </a:rPr>
              <a:t>Liefde op eerste zich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In bronnen van verlangen,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drijvende in jou ogen,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openbaarde zich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de stille taal der liefde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in een wereld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die draait en draait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waar tijd jaagt op ieder uur,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zink ik tijdloos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in de ontastbare diepten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van je blik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intense meren van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onuitgesproken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gevoelens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zoekende naar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antwoorden in mijn ogen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van wat ik voelde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in één hartslag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voor jou mooie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kijkers gezwicht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in de openbloeiende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kracht van liefde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op het eerste zicht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De droom werd mooier en ster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gevoelens nog inten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.. tot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76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Herfst heeft stil doen versage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de winter betrad het dromenland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Een gevoel van eenzaamheid gesla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bij het zachtjes ontw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2556000" y="3402000"/>
            <a:ext cx="4095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ahoma"/>
              </a:rPr>
              <a:t>Maar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Wat echt warm en koesterend leeft in het hart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kan overwinnen de mindere da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Geloof en vertrouwe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Is ook als hoop, als licht en warmte, een houvast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Al lijkt het soms niets om vast te kunnen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toch kun je er op bouwen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28195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Want alleen met jou zou ik graag samen zwe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1908000" y="2492280"/>
            <a:ext cx="2562480" cy="23526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 rot="1562400">
            <a:off x="4427280" y="2204640"/>
            <a:ext cx="2781360" cy="27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3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De schoonheid van het leven bele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samen het ruisen van de golven aanho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Ik zou heel graag zijn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jou vergeet me niet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Van het engeltje uit m’n dro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een meisje op blote voeten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dat ik steeds zal blijven zoek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30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30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3000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3000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Westerein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Als de zon aan westereinder slapen ga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ze nog heel even straalt in m’n gela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roept ze telkens mijn naam van ginds ver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voor een zoektocht naar m’n liefste st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lokt me zwevend in warmzach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handen met zich mee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tot aan de gelukspoort van de ze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daar waar de einder het lichaam va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de golven in vurig rood bemin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droom ik van het mooiste zeeënkin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draag de fluisterwoorden van m’n har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door de stilte van de nacht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O westenwind, tot daar waar zij zich bevind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waai m’n stem tot diep in haar warme har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zodat ze weet, in de schittering va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de nacht, ik voor altijd op haar wach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tijdloos zullen m’n ogen blijven zoeken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de gloed van ‘t meisje op blote voeten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van zij die ik ooit zoals in een sprookje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als de liefde uit m’n dromen ontmoette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330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Waar je ook bent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en als ik je ooit mag vinde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waar je ook gaat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Ik schenk aan jou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40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cc"/>
                </a:solidFill>
                <a:latin typeface="Tahoma"/>
              </a:rPr>
              <a:t>Maar soms in grijze dagen.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nl-BE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BE" sz="1400" spc="-1" strike="noStrike">
                <a:solidFill>
                  <a:srgbClr val="ffffff"/>
                </a:solidFill>
                <a:latin typeface="Tahoma"/>
              </a:rPr>
              <a:t>Zo van die dage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Er zijn zo van die dagen,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dat je liever niet uit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bed wou komen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Dagen van je alléén te voelen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waarin de dag geen einde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lijkt beschoren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Zo van die dagen,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er zijn zo van die dagen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dat je liever wou verdwijnen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Dagen dat tranen weer opwellen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en herinneringen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aan betere tijden najagen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beelden die als scherven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uit je hart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keer op keer verschijnen 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Zo van die dagen,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er zijn zo van die dagen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afvragend waarom je hier bent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En vandaag had ik weer zo een dag,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een dag waarin een tedere knuffel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niet binnen handbereik lag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9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Mijn woo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Ik geef ze in handen van een ranke zeewind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Aan de dauw in ‘t gras en aan klaprozen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ik reik ze aan een meeuw die naar verten klimt,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ik geef ze aan de zon in ‘t ochtendgloren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laat mijn woorden als op vleugels reizen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gedragen zoals in de zachte armen van een kind,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breng ze daar waar mijn liefste zich bevindt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vertel haar dat mijn liefde altijd bij zal blijven,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dat alleen zij in m’n levensad’ren kan stromen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langs meren, over bergen en steden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kathedralen zal ik overal voor je bouwen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tot in de weides van verlangen uit je dromen,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maar alleen van jou aanblik zal ik altijd houden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klimmend naar het dak van de wereld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zingend dat ik jou altijd al heb bemind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vertel ik de goden van de bloem en de bij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en dat ik aan jou mijn jawoord wil geven,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fluistert het windekind zo zachtjes erbij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mijn liefde voor jou zal eeuwig blijven leven,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zoals een bij zijn heerlijkste nectar ontwaart,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zoals een vlinder zijn lentebloem de mooiste vindt,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Tahoma"/>
              </a:rPr>
              <a:t>Zo blijf, en heb ik jou altijd al bemin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600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"/>
          <p:cNvSpPr/>
          <p:nvPr/>
        </p:nvSpPr>
        <p:spPr>
          <a:xfrm>
            <a:off x="1908000" y="2781360"/>
            <a:ext cx="51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"/>
              </a:rPr>
              <a:t>Westenwinden nemen z’n fluisterwoorden met zich mee en zullen jou vertellen.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2771640" y="2637000"/>
            <a:ext cx="424836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k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250920" y="765000"/>
            <a:ext cx="8582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room van jou..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900000" y="3573360"/>
            <a:ext cx="74898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iefs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1" name=""/>
          <p:cNvSpPr/>
          <p:nvPr/>
        </p:nvSpPr>
        <p:spPr>
          <a:xfrm>
            <a:off x="8172360" y="6308640"/>
            <a:ext cx="7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99"/>
                </a:solidFill>
                <a:latin typeface="Arial"/>
              </a:rPr>
              <a:t>Ric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Toch droomde ook hij van blauwe einder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3009960"/>
            <a:ext cx="341964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Tahoma"/>
              </a:rPr>
              <a:t>Op zoek naar een sprookjespri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Oeverloze verbondenheid beleven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Samen naar ware liefde streven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1692360" y="2637000"/>
            <a:ext cx="2562120" cy="23526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211640" y="2637000"/>
            <a:ext cx="2781360" cy="27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Opnieuw liefde verlan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k zie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schrev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 je ogen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ankerd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 je har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oor nevel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an ang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evangen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ou lichaam naar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prechte liefd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lange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ehoedzaam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reek je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ang voor reed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leden pijn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een voor ste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 mur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m je hee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ikende na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et licht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smelt het intens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lang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an jij en ik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ns naar sam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 liefde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één eenheid zijn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Hij droomde van een engeltje aan de einder.. en hij voelde dat het dit keer anders was, ze deed z’n hart heel wat sneller sla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Voor haar wou hij gaan, en dacht na over innerlijk verlangen en bestaan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Tahoma"/>
              </a:rPr>
              <a:t>Jij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ij doet me echt wel wat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 manier waarop je zo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ralend naar me lach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isschien wist je da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angzaam maar zek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warmt jou glimlach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ijn hart dat eenzaam wa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 het leven van alledag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and in hand met open og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ou ik met jou willen wegdrom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an elkaar genietend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nder het licht van de ma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ou ik voor altijd met jou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ver het pad der liefde willen gaa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urfde ik je dit maar te vertelle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isschien zouden sterren ook d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oekomst kunnen voorspellen?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k kan het alleen maar hop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at het jou liefde is die me toelach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urfde ik jou dit maar te vrage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ant jij…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isschien wist je dat?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ij doet me echt wel wat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Ze konden samen dromen als geen</a:t>
            </a: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ander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3162240" y="2505240"/>
            <a:ext cx="2819520" cy="1847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Hij dacht na over hartewensen, verlangend naar een sprookje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23:29:44Z</dcterms:created>
  <dc:creator/>
  <dc:description/>
  <dc:language>en-US</dc:language>
  <cp:lastModifiedBy/>
  <dcterms:modified xsi:type="dcterms:W3CDTF">2008-09-06T07:02:28Z</dcterms:modified>
  <cp:revision>135</cp:revision>
  <dc:subject/>
  <dc:title>Er was eens..</dc:title>
</cp:coreProperties>
</file>