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5C13-2B8E-4C7F-81A2-B5CAF68CDCB9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5E3A-2862-49FC-AB29-C8151C21922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F795-3984-43A9-8097-17FAFD36B415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INT.jpg"/>
          <p:cNvPicPr/>
          <p:nvPr/>
        </p:nvPicPr>
        <p:blipFill>
          <a:blip r:embed="rId2"/>
          <a:stretch/>
        </p:blipFill>
        <p:spPr>
          <a:xfrm>
            <a:off x="304920" y="5657760"/>
            <a:ext cx="2361960" cy="120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D:\LE HAVRE DÉVELOPPEMENT\141004 - Charte Powerpoint\- SOURCES -\LogoLHD.gif"/>
          <p:cNvPicPr/>
          <p:nvPr/>
        </p:nvPicPr>
        <p:blipFill>
          <a:blip r:embed="rId3"/>
          <a:stretch/>
        </p:blipFill>
        <p:spPr>
          <a:xfrm>
            <a:off x="727200" y="304920"/>
            <a:ext cx="1863720" cy="1137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3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2666880" y="5867280"/>
            <a:ext cx="6477120" cy="990720"/>
          </a:xfrm>
          <a:prstGeom prst="rect">
            <a:avLst/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5"/>
          <p:cNvSpPr/>
          <p:nvPr/>
        </p:nvSpPr>
        <p:spPr>
          <a:xfrm>
            <a:off x="685800" y="518148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7" descr="COUV.jpg"/>
          <p:cNvPicPr/>
          <p:nvPr/>
        </p:nvPicPr>
        <p:blipFill>
          <a:blip r:embed="rId1"/>
          <a:stretch/>
        </p:blipFill>
        <p:spPr>
          <a:xfrm>
            <a:off x="304920" y="1835280"/>
            <a:ext cx="2895480" cy="5022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40"/>
          <p:cNvSpPr/>
          <p:nvPr/>
        </p:nvSpPr>
        <p:spPr>
          <a:xfrm>
            <a:off x="685800" y="1600200"/>
            <a:ext cx="2362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304920" y="0"/>
            <a:ext cx="28954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3200400" y="76320"/>
            <a:ext cx="5029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3"/>
          <p:cNvSpPr/>
          <p:nvPr/>
        </p:nvSpPr>
        <p:spPr>
          <a:xfrm>
            <a:off x="7848720" y="0"/>
            <a:ext cx="3808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200400" y="2286000"/>
            <a:ext cx="5943600" cy="4572000"/>
          </a:xfrm>
          <a:prstGeom prst="rect">
            <a:avLst/>
          </a:prstGeom>
          <a:solidFill>
            <a:srgbClr val="216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4" descr="LogoLHD"/>
          <p:cNvPicPr/>
          <p:nvPr/>
        </p:nvPicPr>
        <p:blipFill>
          <a:blip r:embed="rId2"/>
          <a:stretch/>
        </p:blipFill>
        <p:spPr>
          <a:xfrm>
            <a:off x="727200" y="304920"/>
            <a:ext cx="2092320" cy="1277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8"/>
          <p:cNvSpPr/>
          <p:nvPr/>
        </p:nvSpPr>
        <p:spPr>
          <a:xfrm>
            <a:off x="3492360" y="1839960"/>
            <a:ext cx="540072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65ad"/>
                </a:solidFill>
                <a:latin typeface="Arial"/>
              </a:rPr>
              <a:t>Forum TH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62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Le transport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62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de marchandises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62"/>
              </a:lnSpc>
              <a:spcBef>
                <a:spcPts val="18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en site urbain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1"/>
          <p:cNvSpPr/>
          <p:nvPr/>
        </p:nvSpPr>
        <p:spPr>
          <a:xfrm>
            <a:off x="2057400" y="17524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2"/>
          <p:cNvSpPr/>
          <p:nvPr/>
        </p:nvSpPr>
        <p:spPr>
          <a:xfrm>
            <a:off x="380880" y="1889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165ad"/>
                </a:solidFill>
                <a:latin typeface="Arial"/>
              </a:rPr>
              <a:t>LE HAVRE REG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3"/>
          <p:cNvSpPr/>
          <p:nvPr/>
        </p:nvSpPr>
        <p:spPr>
          <a:xfrm>
            <a:off x="609480" y="205740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165ad"/>
                </a:solidFill>
                <a:latin typeface="Arial"/>
              </a:rPr>
              <a:t>ECONOMIC DEVELOPMENT AGENC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5"/>
          <p:cNvSpPr/>
          <p:nvPr/>
        </p:nvSpPr>
        <p:spPr>
          <a:xfrm>
            <a:off x="3200400" y="5867280"/>
            <a:ext cx="5943600" cy="990720"/>
          </a:xfrm>
          <a:prstGeom prst="rect">
            <a:avLst/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8"/>
          <p:cNvSpPr/>
          <p:nvPr/>
        </p:nvSpPr>
        <p:spPr>
          <a:xfrm>
            <a:off x="7010280" y="-152280"/>
            <a:ext cx="2286000" cy="495360"/>
          </a:xfrm>
          <a:prstGeom prst="roundRect">
            <a:avLst>
              <a:gd name="adj" fmla="val 16667"/>
            </a:avLst>
          </a:prstGeom>
          <a:solidFill>
            <a:srgbClr val="008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3680280" y="2209680"/>
            <a:ext cx="49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hanghai – Université de Tongj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entre Franco-chinois – 11/14 novembre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62120" y="1828800"/>
            <a:ext cx="838188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Vers de nouveaux service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Véhicules propres, boutiques services, consigne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Outils télématiques : téléphones portables, Internet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Portage A Domic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imitation des déplacements en véhicules particuliers (&gt; 50% des flux de logistique urbai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762120" y="1828800"/>
            <a:ext cx="83818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Contex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e9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8e9b"/>
                </a:solidFill>
                <a:latin typeface="Arial"/>
              </a:rPr>
              <a:t>Présence d’un grand port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=&gt; le trafic maritime est un point fort de l’activité logistique havrai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Trafic maritime : 79Mt en 2007 / +26% (2006-2007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1</a:t>
            </a:r>
            <a:r>
              <a:rPr b="1" lang="fr-FR" sz="2200" spc="-1" strike="noStrike" baseline="30000">
                <a:solidFill>
                  <a:srgbClr val="2165ad"/>
                </a:solidFill>
                <a:latin typeface="Arial"/>
              </a:rPr>
              <a:t>er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port français pour le commerce extérie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Trafic conteneurs : doublement en 8 ans / 2,7 millions EVP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Le Havre, port d’approvisionnement de Par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8e9b"/>
                </a:solidFill>
                <a:latin typeface="Arial"/>
              </a:rPr>
              <a:t>=&gt; Un trafic routier dense </a:t>
            </a:r>
            <a:r>
              <a:rPr b="1" lang="fr-FR" sz="2000" spc="-1" strike="noStrike">
                <a:solidFill>
                  <a:srgbClr val="008e9b"/>
                </a:solidFill>
                <a:latin typeface="Arial"/>
              </a:rPr>
              <a:t>(87% des EVP acheminés par la rou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8e9b"/>
                </a:solidFill>
                <a:latin typeface="Arial"/>
              </a:rPr>
              <a:t>=&gt; La Seine : un potentiel modal f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e9b"/>
          </a:solidFill>
          <a:ln w="9360">
            <a:solidFill>
              <a:srgbClr val="008e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59436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rt of Le Hav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 7" descr="PORT 2000HD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2120" y="1828800"/>
            <a:ext cx="83818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Enjeux moda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aire face au fort développement du trafic contene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luidifier un trafic routier croissa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Limiter ses impacts (CO</a:t>
            </a:r>
            <a:r>
              <a:rPr b="1" lang="fr-FR" sz="2400" spc="-1" strike="noStrike" baseline="-25000">
                <a:solidFill>
                  <a:srgbClr val="2165ad"/>
                </a:solidFill>
                <a:latin typeface="Arial"/>
              </a:rPr>
              <a:t>2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avoriser les transports alternatifs et multimoda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62120" y="1828800"/>
            <a:ext cx="83818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Enjeux structur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Offrir une alternative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à l’unique voie ferrée de desserte du territo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Organiser le transport des marchandises maritimes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ébarquées hors des secteurs urbanisés / urbanis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Définir les conditions de développement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’une offre de transport multimodale performante et massifié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62120" y="1828800"/>
            <a:ext cx="8381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s priorités havra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Grâce à de nouveaux réseaux de transport performants,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développer le tissu local d’industries de trans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Eviter un engorgement routier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prévi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=&gt; Encourager l’augmentation des capacités fluvial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=&gt; Développer les infrastructures ferroviai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62120" y="1828800"/>
            <a:ext cx="838188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Transport fluvial : prolongement du Grand ca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e9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Résolution des points de conflit (po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Gains de fluidité des transports sur la zone portuai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éveloppement économique de la partie Est de la zone portu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Transport fluvial : écluse fluviale de Port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Une connexion directe des terminaux à conteneurs  au réseau fluv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762120" y="1828800"/>
            <a:ext cx="838188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Transport routier : contournement routier N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ésengorgement de l’unique accès à la vi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Création d’une nouvelle entrée de ville (voie expres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Liaison rapide avec deux projets de zones d’activit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165ad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Interconnexion avec le réseau de transport en commun ferroviai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62120" y="1828800"/>
            <a:ext cx="83818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Transport routier : problématiques en zone portu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luidité essentielle pour des dessertes performa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Optimisation des carrefours de flux portuaires, industriels et de trajets domicile / trav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Points sensibles 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Accès à l’interface ville-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Raccordements aux autorout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2165ad"/>
                </a:solidFill>
                <a:latin typeface="Arial"/>
              </a:rPr>
              <a:t>Points de franchissement de la Se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762120" y="1828800"/>
            <a:ext cx="8381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e9b"/>
                </a:solidFill>
                <a:latin typeface="Arial"/>
              </a:rPr>
              <a:t>Transport ferroviaire : enjeux en zone portuaire (fr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Des atouts évidents : sécurité, fiabilité, coût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Un enjeu de compétitivité des dessertes du 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Objectifs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Emergence d’un service de traction inter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Création d’un réseau ferré portua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La modernisation des infrastructures : un moteur pour l’innov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routi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Un mode de transport prépondér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62120" y="1981080"/>
            <a:ext cx="79246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Forte sollicitation par les activités urbaines </a:t>
            </a:r>
            <a:r>
              <a:rPr b="0" lang="fr-FR" sz="2400" spc="-1" strike="noStrike">
                <a:solidFill>
                  <a:srgbClr val="2165ad"/>
                </a:solidFill>
                <a:latin typeface="Arial"/>
              </a:rPr>
              <a:t>(transport de personnes, de marchandises, flux en transit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Souplesse inégalée sans rupture de char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165ad"/>
                </a:solidFill>
                <a:latin typeface="Arial"/>
              </a:rPr>
              <a:t>(door to door) pour les transports urbains et les liaisons moyennes / longues dista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1828800"/>
            <a:ext cx="83818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e9b"/>
                </a:solidFill>
                <a:latin typeface="Arial"/>
              </a:rPr>
              <a:t>Transport multimodal : création d’une plateforme dédié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Facilite les transferts de marchandises entre m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Embranchement fer / fleuve / autoro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Optimisation de la massification des flu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Réduction des émissions de CO</a:t>
            </a:r>
            <a:r>
              <a:rPr b="1" lang="en-US" sz="2400" spc="-1" strike="noStrike" baseline="-25000">
                <a:solidFill>
                  <a:srgbClr val="2165a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666880" y="90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Flux de transit : exemple de la région havra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62120" y="1828800"/>
            <a:ext cx="8381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e9b"/>
                </a:solidFill>
                <a:latin typeface="Arial"/>
              </a:rPr>
              <a:t>Transport multimodal : 3</a:t>
            </a:r>
            <a:r>
              <a:rPr b="1" lang="en-US" sz="2400" spc="-1" strike="noStrike" baseline="30000">
                <a:solidFill>
                  <a:srgbClr val="008e9b"/>
                </a:solidFill>
                <a:latin typeface="Arial"/>
              </a:rPr>
              <a:t>ème</a:t>
            </a:r>
            <a:r>
              <a:rPr b="1" lang="en-US" sz="2400" spc="-1" strike="noStrike">
                <a:solidFill>
                  <a:srgbClr val="008e9b"/>
                </a:solidFill>
                <a:latin typeface="Arial"/>
              </a:rPr>
              <a:t> franchissement de la Se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Anticipation de la croissance du trafic portuaire  et des faibles disponibilités foncières logistiq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Ouverture de l’hinterland : Europe Centrale et du S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Projet de traversée ferroviaire fret et voyage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Fret : dessertes des plateformes de la rive S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165ad"/>
                </a:solidFill>
                <a:latin typeface="Arial"/>
              </a:rPr>
              <a:t>Voyageurs : renforcement de la métropole normande Caen – Rouen - Le Hav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Queen Mary II"/>
          <p:cNvPicPr/>
          <p:nvPr/>
        </p:nvPicPr>
        <p:blipFill>
          <a:blip r:embed="rId1"/>
          <a:stretch/>
        </p:blipFill>
        <p:spPr>
          <a:xfrm>
            <a:off x="0" y="1933560"/>
            <a:ext cx="9144000" cy="3678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goLHD"/>
          <p:cNvPicPr/>
          <p:nvPr/>
        </p:nvPicPr>
        <p:blipFill>
          <a:blip r:embed="rId2"/>
          <a:stretch/>
        </p:blipFill>
        <p:spPr>
          <a:xfrm>
            <a:off x="3348000" y="333360"/>
            <a:ext cx="2092320" cy="127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650160" y="1989000"/>
            <a:ext cx="81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762560" y="5646600"/>
            <a:ext cx="56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"/>
              </a:rPr>
              <a:t>www.havre-developpement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routi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préférence réaffirmée des entrepr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2120" y="1828800"/>
            <a:ext cx="79246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 mode de transport favorisé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par les nouvelles modalités de ges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e réponse aux problématiques de productivité et d’optimisation des cycles de production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 =&gt; forte intégration aux activités de p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 mode de transport d’excellence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es flux en « just-in-time 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62120" y="1828800"/>
            <a:ext cx="82296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s nuisances du trafic rout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Pollution (air, saleté, bruit, encombrement…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Impact environnemental et sanitaire au sein de fortes densités de popul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Nuisances sonores à chaque étape de la livrais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Insécurité routière (messageries expres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100" spc="-1" strike="noStrike">
                <a:solidFill>
                  <a:srgbClr val="2165ad"/>
                </a:solidFill>
                <a:latin typeface="Arial"/>
              </a:rPr>
              <a:t>Dégradation des infrastructure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8e9b"/>
                </a:solidFill>
                <a:latin typeface="Arial"/>
              </a:rPr>
              <a:t> 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Multiplication des actions en faveur du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développement de modes alternatifs de livrai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62120" y="1828800"/>
            <a:ext cx="838188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’expérience des Centres de Distribution Urbains (CD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Contexte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 : des livraisons en ville soumises à des contraintes réglementaires de plus en plus for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 CDU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 : une expérience menée par plusieurs agglomérations frança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e plateforme urbaine de distribution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coordonnée   et optimisée des marchandises en vi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762120" y="1828800"/>
            <a:ext cx="838188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Principaux avantages d’un C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Limitation des poids lourds en centre-vi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Diminution des nuis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Fluidification du tra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Amélioration de la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Optimisation des activités du centre-vi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 centre-ville plus attract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ne logistique optimisé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762120" y="1828800"/>
            <a:ext cx="838188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Avantages logistique d’un C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Massification des flux de marchand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Optimisation des tournées urba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Utilisation de véhicules adaptés (gabarit, pollu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’exemple de La Roche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’exemple du Hav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2120" y="1828800"/>
            <a:ext cx="7772400" cy="35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e Centre de Distribution Urbain de La Roche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Réglementation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 : interdiction aux véhicules &gt;3,5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Utilisateurs du CDU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: transporteurs ayant une distance d’approche importante (massification indispensable par poids lour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Dépose des marchandises sur le CDU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, en limite de zone réglementé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2666880" y="457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e9b"/>
                </a:solidFill>
                <a:latin typeface="Arial"/>
              </a:rPr>
              <a:t>Transport en site urb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666880" y="90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65ad"/>
                </a:solidFill>
                <a:latin typeface="Arial"/>
              </a:rPr>
              <a:t>La gestion du dernier kilomèt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62120" y="1828800"/>
            <a:ext cx="77724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e9b"/>
                </a:solidFill>
                <a:latin typeface="Arial"/>
              </a:rPr>
              <a:t>La dispositif Opti10 au Hav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Un système organisationnel innovant  en faveur de l’optimisation de la distribution des lots de tailles hétérogè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Un enjeu d’attractivité économ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e9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2165ad"/>
                </a:solidFill>
                <a:latin typeface="Arial"/>
              </a:rPr>
              <a:t>La réalisation des objectifs de développement du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6:39:26Z</dcterms:created>
  <dc:creator>Administrateur</dc:creator>
  <dc:description/>
  <dc:language>en-US</dc:language>
  <cp:lastModifiedBy>Michael Hufschmitt</cp:lastModifiedBy>
  <dcterms:modified xsi:type="dcterms:W3CDTF">2008-10-23T08:39:30Z</dcterms:modified>
  <cp:revision>58</cp:revision>
  <dc:subject/>
  <dc:title>Présentation PowerPoint</dc:title>
</cp:coreProperties>
</file>