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596E-9D58-4A2A-ABBF-1065E002EB44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6304-5BB5-4859-B342-715187CD03CC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8BFC-274D-4DF0-A17A-BC5FB4F25883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INT.jpg"/>
          <p:cNvPicPr/>
          <p:nvPr/>
        </p:nvPicPr>
        <p:blipFill>
          <a:blip r:embed="rId2"/>
          <a:stretch/>
        </p:blipFill>
        <p:spPr>
          <a:xfrm>
            <a:off x="304920" y="5657760"/>
            <a:ext cx="2361960" cy="1200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D:\LE HAVRE DÉVELOPPEMENT\141004 - Charte Powerpoint\- SOURCES -\LogoLHD.gif"/>
          <p:cNvPicPr/>
          <p:nvPr/>
        </p:nvPicPr>
        <p:blipFill>
          <a:blip r:embed="rId3"/>
          <a:stretch/>
        </p:blipFill>
        <p:spPr>
          <a:xfrm>
            <a:off x="727200" y="304920"/>
            <a:ext cx="1863720" cy="11379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3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008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2666880" y="5867280"/>
            <a:ext cx="6477120" cy="990720"/>
          </a:xfrm>
          <a:prstGeom prst="rect">
            <a:avLst/>
          </a:prstGeom>
          <a:solidFill>
            <a:srgbClr val="008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15"/>
          <p:cNvSpPr/>
          <p:nvPr/>
        </p:nvSpPr>
        <p:spPr>
          <a:xfrm>
            <a:off x="685800" y="5181480"/>
            <a:ext cx="2362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17" descr="COUV.jpg"/>
          <p:cNvPicPr/>
          <p:nvPr/>
        </p:nvPicPr>
        <p:blipFill>
          <a:blip r:embed="rId1"/>
          <a:stretch/>
        </p:blipFill>
        <p:spPr>
          <a:xfrm>
            <a:off x="304920" y="1835280"/>
            <a:ext cx="2895480" cy="502272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40"/>
          <p:cNvSpPr/>
          <p:nvPr/>
        </p:nvSpPr>
        <p:spPr>
          <a:xfrm>
            <a:off x="685800" y="1600200"/>
            <a:ext cx="2362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9"/>
          <p:cNvSpPr/>
          <p:nvPr/>
        </p:nvSpPr>
        <p:spPr>
          <a:xfrm>
            <a:off x="304920" y="0"/>
            <a:ext cx="289548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7"/>
          <p:cNvSpPr/>
          <p:nvPr/>
        </p:nvSpPr>
        <p:spPr>
          <a:xfrm>
            <a:off x="3200400" y="76320"/>
            <a:ext cx="50292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3"/>
          <p:cNvSpPr/>
          <p:nvPr/>
        </p:nvSpPr>
        <p:spPr>
          <a:xfrm>
            <a:off x="7848720" y="0"/>
            <a:ext cx="38088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3200400" y="2286000"/>
            <a:ext cx="5943600" cy="4572000"/>
          </a:xfrm>
          <a:prstGeom prst="rect">
            <a:avLst/>
          </a:prstGeom>
          <a:solidFill>
            <a:srgbClr val="216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008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4" descr="LogoLHD"/>
          <p:cNvPicPr/>
          <p:nvPr/>
        </p:nvPicPr>
        <p:blipFill>
          <a:blip r:embed="rId2"/>
          <a:stretch/>
        </p:blipFill>
        <p:spPr>
          <a:xfrm>
            <a:off x="727200" y="304920"/>
            <a:ext cx="2092320" cy="1277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8"/>
          <p:cNvSpPr/>
          <p:nvPr/>
        </p:nvSpPr>
        <p:spPr>
          <a:xfrm>
            <a:off x="3492360" y="1839960"/>
            <a:ext cx="5400720" cy="34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65ad"/>
                </a:solidFill>
                <a:latin typeface="Arial"/>
              </a:rPr>
              <a:t>Forum TH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762"/>
              </a:lnSpc>
              <a:spcBef>
                <a:spcPts val="18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Le transport</a:t>
            </a:r>
            <a:endParaRPr b="1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762"/>
              </a:lnSpc>
              <a:spcBef>
                <a:spcPts val="18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de marchandises</a:t>
            </a:r>
            <a:endParaRPr b="1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762"/>
              </a:lnSpc>
              <a:spcBef>
                <a:spcPts val="18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en site urbain</a:t>
            </a:r>
            <a:endParaRPr b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1"/>
          <p:cNvSpPr/>
          <p:nvPr/>
        </p:nvSpPr>
        <p:spPr>
          <a:xfrm>
            <a:off x="2057400" y="1752480"/>
            <a:ext cx="1143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2"/>
          <p:cNvSpPr/>
          <p:nvPr/>
        </p:nvSpPr>
        <p:spPr>
          <a:xfrm>
            <a:off x="380880" y="188928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2165ad"/>
                </a:solidFill>
                <a:latin typeface="Arial"/>
              </a:rPr>
              <a:t>LE HAVRE REG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3"/>
          <p:cNvSpPr/>
          <p:nvPr/>
        </p:nvSpPr>
        <p:spPr>
          <a:xfrm>
            <a:off x="609480" y="205740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2165ad"/>
                </a:solidFill>
                <a:latin typeface="Arial"/>
              </a:rPr>
              <a:t>ECONOMIC DEVELOPMENT AGENC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5"/>
          <p:cNvSpPr/>
          <p:nvPr/>
        </p:nvSpPr>
        <p:spPr>
          <a:xfrm>
            <a:off x="3200400" y="5867280"/>
            <a:ext cx="5943600" cy="990720"/>
          </a:xfrm>
          <a:prstGeom prst="rect">
            <a:avLst/>
          </a:prstGeom>
          <a:solidFill>
            <a:srgbClr val="008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8"/>
          <p:cNvSpPr/>
          <p:nvPr/>
        </p:nvSpPr>
        <p:spPr>
          <a:xfrm>
            <a:off x="7010280" y="-152280"/>
            <a:ext cx="2286000" cy="495360"/>
          </a:xfrm>
          <a:prstGeom prst="roundRect">
            <a:avLst>
              <a:gd name="adj" fmla="val 16667"/>
            </a:avLst>
          </a:prstGeom>
          <a:solidFill>
            <a:srgbClr val="008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3680280" y="2209680"/>
            <a:ext cx="49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hanghai – Université de Tongj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entre Franco-chinois – 11/14 novembre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666880" y="907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La gestion du dernier kilomèt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762120" y="1828800"/>
            <a:ext cx="838188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Vers de nouveaux service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Véhicules propres, boutiques services, consigne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Outils télématiques : téléphones portables, Internet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Portage A Domic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Limitation des déplacements en véhicules particuliers (&gt; 50% des flux de logistique urbain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2666880" y="90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Flux de transit : exemple de la région havra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762120" y="1828800"/>
            <a:ext cx="838188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Contex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8e9b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8e9b"/>
                </a:solidFill>
                <a:latin typeface="Arial"/>
              </a:rPr>
              <a:t>Présence d’un grand port </a:t>
            </a: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=&gt; le trafic maritime est un point fort de l’activité logistique havrai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Trafic maritime : 79Mt en 2007 / +26% (2006-2007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1</a:t>
            </a:r>
            <a:r>
              <a:rPr b="1" lang="fr-FR" sz="2200" spc="-1" strike="noStrike" baseline="30000">
                <a:solidFill>
                  <a:srgbClr val="2165ad"/>
                </a:solidFill>
                <a:latin typeface="Arial"/>
              </a:rPr>
              <a:t>er</a:t>
            </a: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 port français pour le commerce extérie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Trafic conteneurs : doublement en 8 ans / 2,7 millions EVP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Le Havre, port d’approvisionnement de Par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8e9b"/>
                </a:solidFill>
                <a:latin typeface="Arial"/>
              </a:rPr>
              <a:t>=&gt; Un trafic routier dense </a:t>
            </a:r>
            <a:r>
              <a:rPr b="1" lang="fr-FR" sz="2000" spc="-1" strike="noStrike">
                <a:solidFill>
                  <a:srgbClr val="008e9b"/>
                </a:solidFill>
                <a:latin typeface="Arial"/>
              </a:rPr>
              <a:t>(87% des EVP acheminés par la rou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8e9b"/>
                </a:solidFill>
                <a:latin typeface="Arial"/>
              </a:rPr>
              <a:t>=&gt; La Seine : un potentiel modal fo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e9b"/>
          </a:solidFill>
          <a:ln w="9360">
            <a:solidFill>
              <a:srgbClr val="008e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6320" y="594360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rt of Le Hav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 7" descr="PORT 2000HD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666880" y="90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Flux de transit : exemple de la région havra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762120" y="1828800"/>
            <a:ext cx="838188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Enjeux modau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Faire face au fort développement du trafic conteneu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Fluidifier un trafic routier croissa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Limiter ses impacts (CO</a:t>
            </a:r>
            <a:r>
              <a:rPr b="1" lang="fr-FR" sz="2400" spc="-1" strike="noStrike" baseline="-25000">
                <a:solidFill>
                  <a:srgbClr val="2165ad"/>
                </a:solidFill>
                <a:latin typeface="Arial"/>
              </a:rPr>
              <a:t>2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, etc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Favoriser les transports alternatifs et multimodau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666880" y="90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Flux de transit : exemple de la région havra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62120" y="1828800"/>
            <a:ext cx="838188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Enjeux structur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Offrir une alternative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à l’unique voie ferrée de desserte du territoi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Organiser le transport des marchandises maritimes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débarquées hors des secteurs urbanisés / urbanis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Définir les conditions de développement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d’une offre de transport multimodale performante et massifié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666880" y="90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Flux de transit : exemple de la région havra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762120" y="1828800"/>
            <a:ext cx="8381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Les priorités havrai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Grâce à de nouveaux réseaux de transport performants,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développer le tissu local d’industries de trans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Eviter un engorgement routier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prévi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=&gt; Encourager l’augmentation des capacités fluvial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=&gt; Développer les infrastructures ferroviai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666880" y="90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Flux de transit : exemple de la région havra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62120" y="1828800"/>
            <a:ext cx="838188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Transport fluvial : prolongement du Grand ca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8e9b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Résolution des points de conflit (pon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Gains de fluidité des transports sur la zone portuai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Développement économique de la partie Est de la zone portuai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Transport fluvial : écluse fluviale de Port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Une connexion directe des terminaux à conteneurs  au réseau fluv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666880" y="90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Flux de transit : exemple de la région havra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762120" y="1828800"/>
            <a:ext cx="838188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Transport routier : contournement routier N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Désengorgement de l’unique accès à la vil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Création d’une nouvelle entrée de ville (voie expres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Liaison rapide avec deux projets de zones d’activit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2165ad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Interconnexion avec le réseau de transport en commun ferroviai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2666880" y="90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Flux de transit : exemple de la région havra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762120" y="1828800"/>
            <a:ext cx="838188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Transport routier : problématiques en zone portuai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Fluidité essentielle pour des dessertes performan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Optimisation des carrefours de flux portuaires, industriels et de trajets domicile / trav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Points sensibles 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Accès à l’interface ville-po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Raccordements aux autoroute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Points de franchissement de la Sein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666880" y="90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Flux de transit : exemple de la région havra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762120" y="1828800"/>
            <a:ext cx="83818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e9b"/>
                </a:solidFill>
                <a:latin typeface="Arial"/>
              </a:rPr>
              <a:t>Transport ferroviaire : enjeux en zone portuaire (fre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Des atouts évidents : sécurité, fiabilité, coût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Un enjeu de compétitivité des dessertes du 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Objectifs 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Emergence d’un service de traction inter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Création d’un réseau ferré portuai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La modernisation des infrastructures : un moteur pour l’innov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routi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2666880" y="907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Un mode de transport prépondér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762120" y="1981080"/>
            <a:ext cx="79246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Forte sollicitation par les activités urbaines </a:t>
            </a:r>
            <a:r>
              <a:rPr b="0" lang="fr-FR" sz="2400" spc="-1" strike="noStrike">
                <a:solidFill>
                  <a:srgbClr val="2165ad"/>
                </a:solidFill>
                <a:latin typeface="Arial"/>
              </a:rPr>
              <a:t>(transport de personnes, de marchandises, flux en transit, etc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Souplesse inégalée sans rupture de char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165ad"/>
                </a:solidFill>
                <a:latin typeface="Arial"/>
              </a:rPr>
              <a:t>(door to door) pour les transports urbains et les liaisons moyennes / longues distanc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666880" y="90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Flux de transit : exemple de la région havra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762120" y="1828800"/>
            <a:ext cx="838188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e9b"/>
                </a:solidFill>
                <a:latin typeface="Arial"/>
              </a:rPr>
              <a:t>Transport multimodal : création d’une plateforme dédié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Facilite les transferts de marchandises entre mo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Embranchement fer / fleuve / autorou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Optimisation de la massification des flu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Réduction des émissions de CO</a:t>
            </a:r>
            <a:r>
              <a:rPr b="1" lang="en-US" sz="2400" spc="-1" strike="noStrike" baseline="-25000">
                <a:solidFill>
                  <a:srgbClr val="2165a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666880" y="90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Flux de transit : exemple de la région havra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762120" y="1828800"/>
            <a:ext cx="83818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e9b"/>
                </a:solidFill>
                <a:latin typeface="Arial"/>
              </a:rPr>
              <a:t>Transport multimodal : 3</a:t>
            </a:r>
            <a:r>
              <a:rPr b="1" lang="en-US" sz="2400" spc="-1" strike="noStrike" baseline="30000">
                <a:solidFill>
                  <a:srgbClr val="008e9b"/>
                </a:solidFill>
                <a:latin typeface="Arial"/>
              </a:rPr>
              <a:t>ème</a:t>
            </a:r>
            <a:r>
              <a:rPr b="1" lang="en-US" sz="2400" spc="-1" strike="noStrike">
                <a:solidFill>
                  <a:srgbClr val="008e9b"/>
                </a:solidFill>
                <a:latin typeface="Arial"/>
              </a:rPr>
              <a:t> franchissement de la Se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Anticipation de la croissance du trafic portuaire  et des faibles disponibilités foncières logistiqu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Ouverture de l’hinterland : Europe Centrale et du Su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Projet de traversée ferroviaire fret et voyageu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Fret : dessertes des plateformes de la rive Su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Voyageurs : renforcement de la métropole normande Caen – Rouen - Le Hav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Queen Mary II"/>
          <p:cNvPicPr/>
          <p:nvPr/>
        </p:nvPicPr>
        <p:blipFill>
          <a:blip r:embed="rId1"/>
          <a:stretch/>
        </p:blipFill>
        <p:spPr>
          <a:xfrm>
            <a:off x="0" y="1933560"/>
            <a:ext cx="9144000" cy="3678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LogoLHD"/>
          <p:cNvPicPr/>
          <p:nvPr/>
        </p:nvPicPr>
        <p:blipFill>
          <a:blip r:embed="rId2"/>
          <a:stretch/>
        </p:blipFill>
        <p:spPr>
          <a:xfrm>
            <a:off x="3348000" y="333360"/>
            <a:ext cx="2092320" cy="127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8"/>
          <p:cNvSpPr/>
          <p:nvPr/>
        </p:nvSpPr>
        <p:spPr>
          <a:xfrm>
            <a:off x="650160" y="1989000"/>
            <a:ext cx="818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762560" y="5646600"/>
            <a:ext cx="56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Arial"/>
              </a:rPr>
              <a:t>www.havre-developpement.c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routi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666880" y="907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La préférence réaffirmée des entrepri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762120" y="1828800"/>
            <a:ext cx="79246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Un mode de transport favorisé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par les nouvelles modalités de ges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Une réponse aux problématiques de productivité et d’optimisation des cycles de production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 =&gt; forte intégration aux activités de p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Le mode de transport d’excellence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des flux en « just-in-time 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666880" y="907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La gestion du dernier kilomèt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762120" y="1828800"/>
            <a:ext cx="8229600" cy="39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Les nuisances du trafic routi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100" spc="-1" strike="noStrike">
                <a:solidFill>
                  <a:srgbClr val="2165ad"/>
                </a:solidFill>
                <a:latin typeface="Arial"/>
              </a:rPr>
              <a:t>Pollution (air, saleté, bruit, encombrement…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100" spc="-1" strike="noStrike">
                <a:solidFill>
                  <a:srgbClr val="2165ad"/>
                </a:solidFill>
                <a:latin typeface="Arial"/>
              </a:rPr>
              <a:t>Impact environnemental et sanitaire au sein de fortes densités de popula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100" spc="-1" strike="noStrike">
                <a:solidFill>
                  <a:srgbClr val="2165ad"/>
                </a:solidFill>
                <a:latin typeface="Arial"/>
              </a:rPr>
              <a:t>Nuisances sonores à chaque étape de la livrais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100" spc="-1" strike="noStrike">
                <a:solidFill>
                  <a:srgbClr val="2165ad"/>
                </a:solidFill>
                <a:latin typeface="Arial"/>
              </a:rPr>
              <a:t>Insécurité routière (messageries express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100" spc="-1" strike="noStrike">
                <a:solidFill>
                  <a:srgbClr val="2165ad"/>
                </a:solidFill>
                <a:latin typeface="Arial"/>
              </a:rPr>
              <a:t>Dégradation des infrastructures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8e9b"/>
                </a:solidFill>
                <a:latin typeface="Arial"/>
              </a:rPr>
              <a:t> 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Multiplication des actions en faveur du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développement de modes alternatifs de livrai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2666880" y="907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La gestion du dernier kilomèt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62120" y="1828800"/>
            <a:ext cx="838188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L’expérience des Centres de Distribution Urbains (CDU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Contexte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 : des livraisons en ville soumises à des contraintes réglementaires de plus en plus for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Le CDU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 : une expérience menée par plusieurs agglomérations françai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Une plateforme urbaine de distribution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coordonnée   et optimisée des marchandises en vil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666880" y="907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La gestion du dernier kilomèt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762120" y="1828800"/>
            <a:ext cx="838188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Principaux avantages d’un C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Limitation des poids lourds en centre-vil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Diminution des nuis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Fluidification du traf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Amélioration de la distrib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Optimisation des activités du centre-vil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un centre-ville plus attract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une logistique optimisé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2666880" y="907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La gestion du dernier kilomèt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762120" y="1828800"/>
            <a:ext cx="838188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Avantages logistique d’un C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Massification des flux de marchandi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Optimisation des tournées urba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Utilisation de véhicules adaptés (gabarit, pollu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L’exemple de La Rochel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L’exemple du Hav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666880" y="907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La gestion du dernier kilomèt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62120" y="1828800"/>
            <a:ext cx="7772400" cy="35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Le Centre de Distribution Urbain de La Rochel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Réglementation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 : interdiction aux véhicules &gt;3,5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Utilisateurs du CDU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: transporteurs ayant une distance d’approche importante (massification indispensable par poids lourd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Dépose des marchandises sur le CDU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, en limite de zone réglementé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666880" y="907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La gestion du dernier kilomèt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762120" y="1828800"/>
            <a:ext cx="77724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La dispositif Opti10 au Hav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Un système organisationnel innovant  en faveur de l’optimisation de la distribution des lots de tailles hétérogè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Un enjeu d’attractivité économi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La réalisation des objectifs de développement dur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06:39:26Z</dcterms:created>
  <dc:creator>Administrateur</dc:creator>
  <dc:description/>
  <dc:language>en-US</dc:language>
  <cp:lastModifiedBy>Michael Hufschmitt</cp:lastModifiedBy>
  <dcterms:modified xsi:type="dcterms:W3CDTF">2008-10-23T08:39:30Z</dcterms:modified>
  <cp:revision>58</cp:revision>
  <dc:subject/>
  <dc:title>Présentation PowerPoint</dc:title>
</cp:coreProperties>
</file>