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applause.wav" ContentType="audio/x-wav"/>
  <Override PartName="/ppt/media/image1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9640" y="189000"/>
            <a:ext cx="8353440" cy="640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ndy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ndy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3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5.png"/><Relationship Id="rId22" Type="http://schemas.openxmlformats.org/officeDocument/2006/relationships/image" Target="../media/image2.png"/><Relationship Id="rId23" Type="http://schemas.openxmlformats.org/officeDocument/2006/relationships/image" Target="../media/image3.png"/><Relationship Id="rId24" Type="http://schemas.openxmlformats.org/officeDocument/2006/relationships/image" Target="../media/image5.png"/><Relationship Id="rId25" Type="http://schemas.openxmlformats.org/officeDocument/2006/relationships/image" Target="../media/image2.png"/><Relationship Id="rId26" Type="http://schemas.openxmlformats.org/officeDocument/2006/relationships/image" Target="../media/image3.png"/><Relationship Id="rId27" Type="http://schemas.openxmlformats.org/officeDocument/2006/relationships/image" Target="../media/image4.png"/><Relationship Id="rId28" Type="http://schemas.openxmlformats.org/officeDocument/2006/relationships/image" Target="../media/image5.png"/><Relationship Id="rId29" Type="http://schemas.openxmlformats.org/officeDocument/2006/relationships/image" Target="../media/image2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2.png"/><Relationship Id="rId34" Type="http://schemas.openxmlformats.org/officeDocument/2006/relationships/image" Target="../media/image3.png"/><Relationship Id="rId35" Type="http://schemas.openxmlformats.org/officeDocument/2006/relationships/image" Target="../media/image2.png"/><Relationship Id="rId36" Type="http://schemas.openxmlformats.org/officeDocument/2006/relationships/image" Target="../media/image3.png"/><Relationship Id="rId37" Type="http://schemas.openxmlformats.org/officeDocument/2006/relationships/image" Target="../media/image4.png"/><Relationship Id="rId38" Type="http://schemas.openxmlformats.org/officeDocument/2006/relationships/image" Target="../media/image5.png"/><Relationship Id="rId39" Type="http://schemas.openxmlformats.org/officeDocument/2006/relationships/image" Target="../media/image2.png"/><Relationship Id="rId40" Type="http://schemas.openxmlformats.org/officeDocument/2006/relationships/image" Target="../media/image3.png"/><Relationship Id="rId41" Type="http://schemas.openxmlformats.org/officeDocument/2006/relationships/image" Target="../media/image4.png"/><Relationship Id="rId42" Type="http://schemas.openxmlformats.org/officeDocument/2006/relationships/image" Target="../media/image5.png"/><Relationship Id="rId43" Type="http://schemas.openxmlformats.org/officeDocument/2006/relationships/image" Target="../media/image3.png"/><Relationship Id="rId44" Type="http://schemas.openxmlformats.org/officeDocument/2006/relationships/image" Target="../media/image4.png"/><Relationship Id="rId45" Type="http://schemas.openxmlformats.org/officeDocument/2006/relationships/image" Target="../media/image3.png"/><Relationship Id="rId4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116000" y="692280"/>
            <a:ext cx="7272360" cy="5400720"/>
          </a:xfrm>
          <a:prstGeom prst="rect">
            <a:avLst/>
          </a:prstGeom>
          <a:solidFill>
            <a:srgbClr val="ff33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403280" y="1268280"/>
            <a:ext cx="6481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alisto MT"/>
              </a:rPr>
              <a:t>Vamos aprender as</a:t>
            </a:r>
            <a:endParaRPr b="1" lang="en-US" sz="32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32000" y="3429000"/>
            <a:ext cx="684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alisto MT"/>
              </a:rPr>
              <a:t>Regras de trânsito</a:t>
            </a:r>
            <a:endParaRPr b="1" lang="en-US" sz="32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971640" y="549360"/>
            <a:ext cx="75610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93120" y="5661000"/>
            <a:ext cx="2957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Elaborado por: Mamã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28760" y="7920"/>
            <a:ext cx="8524440" cy="6805440"/>
            <a:chOff x="428760" y="7920"/>
            <a:chExt cx="8524440" cy="680544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1857240" y="18720"/>
              <a:ext cx="56016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1188000" y="18720"/>
              <a:ext cx="55980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2527920" y="18720"/>
              <a:ext cx="55980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3867840" y="59760"/>
              <a:ext cx="457200" cy="4647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0" name="" descr=""/>
            <p:cNvPicPr/>
            <p:nvPr/>
          </p:nvPicPr>
          <p:blipFill>
            <a:blip r:embed="rId6"/>
            <a:stretch/>
          </p:blipFill>
          <p:spPr>
            <a:xfrm>
              <a:off x="4434480" y="18720"/>
              <a:ext cx="55980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1" name="" descr=""/>
            <p:cNvPicPr/>
            <p:nvPr/>
          </p:nvPicPr>
          <p:blipFill>
            <a:blip r:embed="rId7"/>
            <a:stretch/>
          </p:blipFill>
          <p:spPr>
            <a:xfrm>
              <a:off x="3197160" y="18720"/>
              <a:ext cx="55980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2" name="" descr=""/>
            <p:cNvPicPr/>
            <p:nvPr/>
          </p:nvPicPr>
          <p:blipFill>
            <a:blip r:embed="rId8"/>
            <a:stretch/>
          </p:blipFill>
          <p:spPr>
            <a:xfrm>
              <a:off x="5104800" y="18720"/>
              <a:ext cx="56016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3" name="" descr=""/>
            <p:cNvPicPr/>
            <p:nvPr/>
          </p:nvPicPr>
          <p:blipFill>
            <a:blip r:embed="rId9"/>
            <a:stretch/>
          </p:blipFill>
          <p:spPr>
            <a:xfrm>
              <a:off x="6445080" y="59760"/>
              <a:ext cx="457200" cy="4647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4" name="" descr=""/>
            <p:cNvPicPr/>
            <p:nvPr/>
          </p:nvPicPr>
          <p:blipFill>
            <a:blip r:embed="rId10"/>
            <a:stretch/>
          </p:blipFill>
          <p:spPr>
            <a:xfrm>
              <a:off x="5774040" y="18720"/>
              <a:ext cx="56016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5" name="" descr=""/>
            <p:cNvPicPr/>
            <p:nvPr/>
          </p:nvPicPr>
          <p:blipFill>
            <a:blip r:embed="rId11"/>
            <a:stretch/>
          </p:blipFill>
          <p:spPr>
            <a:xfrm>
              <a:off x="7011360" y="18720"/>
              <a:ext cx="56016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6" name="" descr=""/>
            <p:cNvPicPr/>
            <p:nvPr/>
          </p:nvPicPr>
          <p:blipFill>
            <a:blip r:embed="rId12"/>
            <a:stretch/>
          </p:blipFill>
          <p:spPr>
            <a:xfrm>
              <a:off x="7682040" y="18720"/>
              <a:ext cx="55980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7" name="" descr=""/>
            <p:cNvPicPr/>
            <p:nvPr/>
          </p:nvPicPr>
          <p:blipFill>
            <a:blip r:embed="rId13"/>
            <a:stretch/>
          </p:blipFill>
          <p:spPr>
            <a:xfrm>
              <a:off x="480240" y="1307160"/>
              <a:ext cx="457200" cy="4644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8" name="" descr=""/>
            <p:cNvPicPr/>
            <p:nvPr/>
          </p:nvPicPr>
          <p:blipFill>
            <a:blip r:embed="rId14"/>
            <a:stretch/>
          </p:blipFill>
          <p:spPr>
            <a:xfrm>
              <a:off x="428760" y="7920"/>
              <a:ext cx="56016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59" name="" descr=""/>
            <p:cNvPicPr/>
            <p:nvPr/>
          </p:nvPicPr>
          <p:blipFill>
            <a:blip r:embed="rId15"/>
            <a:stretch/>
          </p:blipFill>
          <p:spPr>
            <a:xfrm>
              <a:off x="428760" y="657360"/>
              <a:ext cx="56016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0" name="" descr=""/>
            <p:cNvPicPr/>
            <p:nvPr/>
          </p:nvPicPr>
          <p:blipFill>
            <a:blip r:embed="rId16"/>
            <a:stretch/>
          </p:blipFill>
          <p:spPr>
            <a:xfrm>
              <a:off x="428760" y="1872720"/>
              <a:ext cx="560160" cy="548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1" name="" descr=""/>
            <p:cNvPicPr/>
            <p:nvPr/>
          </p:nvPicPr>
          <p:blipFill>
            <a:blip r:embed="rId17"/>
            <a:stretch/>
          </p:blipFill>
          <p:spPr>
            <a:xfrm>
              <a:off x="480240" y="3171960"/>
              <a:ext cx="457200" cy="4647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2" name="" descr=""/>
            <p:cNvPicPr/>
            <p:nvPr/>
          </p:nvPicPr>
          <p:blipFill>
            <a:blip r:embed="rId18"/>
            <a:stretch/>
          </p:blipFill>
          <p:spPr>
            <a:xfrm>
              <a:off x="428760" y="3737880"/>
              <a:ext cx="56016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3" name="" descr=""/>
            <p:cNvPicPr/>
            <p:nvPr/>
          </p:nvPicPr>
          <p:blipFill>
            <a:blip r:embed="rId19"/>
            <a:stretch/>
          </p:blipFill>
          <p:spPr>
            <a:xfrm>
              <a:off x="428760" y="2522520"/>
              <a:ext cx="56016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4" name="" descr=""/>
            <p:cNvPicPr/>
            <p:nvPr/>
          </p:nvPicPr>
          <p:blipFill>
            <a:blip r:embed="rId20"/>
            <a:stretch/>
          </p:blipFill>
          <p:spPr>
            <a:xfrm>
              <a:off x="428760" y="4387320"/>
              <a:ext cx="56016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5" name="" descr=""/>
            <p:cNvPicPr/>
            <p:nvPr/>
          </p:nvPicPr>
          <p:blipFill>
            <a:blip r:embed="rId21"/>
            <a:stretch/>
          </p:blipFill>
          <p:spPr>
            <a:xfrm>
              <a:off x="480240" y="5686560"/>
              <a:ext cx="457200" cy="4644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6" name="" descr=""/>
            <p:cNvPicPr/>
            <p:nvPr/>
          </p:nvPicPr>
          <p:blipFill>
            <a:blip r:embed="rId22"/>
            <a:stretch/>
          </p:blipFill>
          <p:spPr>
            <a:xfrm>
              <a:off x="428760" y="6253920"/>
              <a:ext cx="56016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7" name="" descr=""/>
            <p:cNvPicPr/>
            <p:nvPr/>
          </p:nvPicPr>
          <p:blipFill>
            <a:blip r:embed="rId23"/>
            <a:stretch/>
          </p:blipFill>
          <p:spPr>
            <a:xfrm>
              <a:off x="428760" y="5037120"/>
              <a:ext cx="56016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8" name="" descr=""/>
            <p:cNvPicPr/>
            <p:nvPr/>
          </p:nvPicPr>
          <p:blipFill>
            <a:blip r:embed="rId24"/>
            <a:stretch/>
          </p:blipFill>
          <p:spPr>
            <a:xfrm>
              <a:off x="8444880" y="1311840"/>
              <a:ext cx="457200" cy="4644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9" name="" descr=""/>
            <p:cNvPicPr/>
            <p:nvPr/>
          </p:nvPicPr>
          <p:blipFill>
            <a:blip r:embed="rId25"/>
            <a:stretch/>
          </p:blipFill>
          <p:spPr>
            <a:xfrm>
              <a:off x="8393400" y="12240"/>
              <a:ext cx="55980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0" name="" descr=""/>
            <p:cNvPicPr/>
            <p:nvPr/>
          </p:nvPicPr>
          <p:blipFill>
            <a:blip r:embed="rId26"/>
            <a:stretch/>
          </p:blipFill>
          <p:spPr>
            <a:xfrm>
              <a:off x="8393400" y="662040"/>
              <a:ext cx="559800" cy="548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1" name="" descr=""/>
            <p:cNvPicPr/>
            <p:nvPr/>
          </p:nvPicPr>
          <p:blipFill>
            <a:blip r:embed="rId27"/>
            <a:stretch/>
          </p:blipFill>
          <p:spPr>
            <a:xfrm>
              <a:off x="8393400" y="1877760"/>
              <a:ext cx="55980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2" name="" descr=""/>
            <p:cNvPicPr/>
            <p:nvPr/>
          </p:nvPicPr>
          <p:blipFill>
            <a:blip r:embed="rId28"/>
            <a:stretch/>
          </p:blipFill>
          <p:spPr>
            <a:xfrm>
              <a:off x="8444880" y="3176640"/>
              <a:ext cx="457200" cy="4647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3" name="" descr=""/>
            <p:cNvPicPr/>
            <p:nvPr/>
          </p:nvPicPr>
          <p:blipFill>
            <a:blip r:embed="rId29"/>
            <a:stretch/>
          </p:blipFill>
          <p:spPr>
            <a:xfrm>
              <a:off x="8393400" y="3742560"/>
              <a:ext cx="55980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4" name="" descr=""/>
            <p:cNvPicPr/>
            <p:nvPr/>
          </p:nvPicPr>
          <p:blipFill>
            <a:blip r:embed="rId30"/>
            <a:stretch/>
          </p:blipFill>
          <p:spPr>
            <a:xfrm>
              <a:off x="8393400" y="2527200"/>
              <a:ext cx="55980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5" name="" descr=""/>
            <p:cNvPicPr/>
            <p:nvPr/>
          </p:nvPicPr>
          <p:blipFill>
            <a:blip r:embed="rId31"/>
            <a:stretch/>
          </p:blipFill>
          <p:spPr>
            <a:xfrm>
              <a:off x="8393400" y="4392000"/>
              <a:ext cx="559800" cy="548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6" name="" descr=""/>
            <p:cNvPicPr/>
            <p:nvPr/>
          </p:nvPicPr>
          <p:blipFill>
            <a:blip r:embed="rId32"/>
            <a:stretch/>
          </p:blipFill>
          <p:spPr>
            <a:xfrm>
              <a:off x="8444880" y="5691240"/>
              <a:ext cx="457200" cy="4647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7" name="" descr=""/>
            <p:cNvPicPr/>
            <p:nvPr/>
          </p:nvPicPr>
          <p:blipFill>
            <a:blip r:embed="rId33"/>
            <a:stretch/>
          </p:blipFill>
          <p:spPr>
            <a:xfrm>
              <a:off x="8393400" y="6258600"/>
              <a:ext cx="55980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8" name="" descr=""/>
            <p:cNvPicPr/>
            <p:nvPr/>
          </p:nvPicPr>
          <p:blipFill>
            <a:blip r:embed="rId34"/>
            <a:stretch/>
          </p:blipFill>
          <p:spPr>
            <a:xfrm>
              <a:off x="8393400" y="5041800"/>
              <a:ext cx="55980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9" name="" descr=""/>
            <p:cNvPicPr/>
            <p:nvPr/>
          </p:nvPicPr>
          <p:blipFill>
            <a:blip r:embed="rId35"/>
            <a:stretch/>
          </p:blipFill>
          <p:spPr>
            <a:xfrm>
              <a:off x="1879200" y="6265080"/>
              <a:ext cx="55980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80" name="" descr=""/>
            <p:cNvPicPr/>
            <p:nvPr/>
          </p:nvPicPr>
          <p:blipFill>
            <a:blip r:embed="rId36"/>
            <a:stretch/>
          </p:blipFill>
          <p:spPr>
            <a:xfrm>
              <a:off x="1209960" y="6265080"/>
              <a:ext cx="55980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81" name="" descr=""/>
            <p:cNvPicPr/>
            <p:nvPr/>
          </p:nvPicPr>
          <p:blipFill>
            <a:blip r:embed="rId37"/>
            <a:stretch/>
          </p:blipFill>
          <p:spPr>
            <a:xfrm>
              <a:off x="2549520" y="6265080"/>
              <a:ext cx="56016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82" name="" descr=""/>
            <p:cNvPicPr/>
            <p:nvPr/>
          </p:nvPicPr>
          <p:blipFill>
            <a:blip r:embed="rId38"/>
            <a:stretch/>
          </p:blipFill>
          <p:spPr>
            <a:xfrm>
              <a:off x="3889440" y="6306480"/>
              <a:ext cx="457560" cy="4644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83" name="" descr=""/>
            <p:cNvPicPr/>
            <p:nvPr/>
          </p:nvPicPr>
          <p:blipFill>
            <a:blip r:embed="rId39"/>
            <a:stretch/>
          </p:blipFill>
          <p:spPr>
            <a:xfrm>
              <a:off x="4456080" y="6265080"/>
              <a:ext cx="56016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84" name="" descr=""/>
            <p:cNvPicPr/>
            <p:nvPr/>
          </p:nvPicPr>
          <p:blipFill>
            <a:blip r:embed="rId40"/>
            <a:stretch/>
          </p:blipFill>
          <p:spPr>
            <a:xfrm>
              <a:off x="3219120" y="6265080"/>
              <a:ext cx="55980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85" name="" descr=""/>
            <p:cNvPicPr/>
            <p:nvPr/>
          </p:nvPicPr>
          <p:blipFill>
            <a:blip r:embed="rId41"/>
            <a:stretch/>
          </p:blipFill>
          <p:spPr>
            <a:xfrm>
              <a:off x="5126760" y="6265080"/>
              <a:ext cx="55980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86" name="" descr=""/>
            <p:cNvPicPr/>
            <p:nvPr/>
          </p:nvPicPr>
          <p:blipFill>
            <a:blip r:embed="rId42"/>
            <a:stretch/>
          </p:blipFill>
          <p:spPr>
            <a:xfrm>
              <a:off x="6466680" y="6306480"/>
              <a:ext cx="457200" cy="4644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87" name="" descr=""/>
            <p:cNvPicPr/>
            <p:nvPr/>
          </p:nvPicPr>
          <p:blipFill>
            <a:blip r:embed="rId43"/>
            <a:stretch/>
          </p:blipFill>
          <p:spPr>
            <a:xfrm>
              <a:off x="5796000" y="6265080"/>
              <a:ext cx="56016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88" name="" descr=""/>
            <p:cNvPicPr/>
            <p:nvPr/>
          </p:nvPicPr>
          <p:blipFill>
            <a:blip r:embed="rId44"/>
            <a:stretch/>
          </p:blipFill>
          <p:spPr>
            <a:xfrm>
              <a:off x="7033320" y="6265080"/>
              <a:ext cx="55980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89" name="" descr=""/>
            <p:cNvPicPr/>
            <p:nvPr/>
          </p:nvPicPr>
          <p:blipFill>
            <a:blip r:embed="rId45"/>
            <a:stretch/>
          </p:blipFill>
          <p:spPr>
            <a:xfrm>
              <a:off x="7703640" y="6265080"/>
              <a:ext cx="560160" cy="548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32000" y="1268280"/>
            <a:ext cx="6840360" cy="76428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Quando andares a pé deves caminhar pelo passe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975040" y="2708280"/>
            <a:ext cx="3192480" cy="288144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47" name=""/>
          <p:cNvSpPr txBox="1"/>
          <p:nvPr/>
        </p:nvSpPr>
        <p:spPr>
          <a:xfrm>
            <a:off x="3048120" y="687240"/>
            <a:ext cx="3014640" cy="4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alisto MT"/>
              </a:rPr>
              <a:t>Regras de trânsito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alisto MT"/>
              <a:ea typeface="Calisto MT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1116000" y="981000"/>
            <a:ext cx="756144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32000" y="1268280"/>
            <a:ext cx="6840360" cy="76428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Antes de atravessares a rua deves olhar para os dois 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258920" y="2997360"/>
            <a:ext cx="3170160" cy="157140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692600" y="2997360"/>
            <a:ext cx="3408480" cy="156672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4" name=""/>
          <p:cNvSpPr txBox="1"/>
          <p:nvPr/>
        </p:nvSpPr>
        <p:spPr>
          <a:xfrm>
            <a:off x="3048120" y="687240"/>
            <a:ext cx="3014640" cy="4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alisto MT"/>
              </a:rPr>
              <a:t>Regras de trânsito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alisto MT"/>
              <a:ea typeface="Calisto MT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971640" y="692280"/>
            <a:ext cx="75610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32000" y="1268280"/>
            <a:ext cx="6840360" cy="76428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Quando atravessares a rua não deves correr pois podes cair e um carro atropelar-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098800" y="2781360"/>
            <a:ext cx="4944960" cy="278280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0" name=""/>
          <p:cNvSpPr txBox="1"/>
          <p:nvPr/>
        </p:nvSpPr>
        <p:spPr>
          <a:xfrm>
            <a:off x="3048120" y="687240"/>
            <a:ext cx="3014640" cy="4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alisto MT"/>
              </a:rPr>
              <a:t>Regras de trânsito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alisto MT"/>
              <a:ea typeface="Calisto MT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971640" y="907920"/>
            <a:ext cx="75610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rcRect l="11019" t="13355" r="16104" b="14557"/>
          <a:stretch/>
        </p:blipFill>
        <p:spPr>
          <a:xfrm>
            <a:off x="2390760" y="2852640"/>
            <a:ext cx="4336920" cy="272268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5" name=""/>
          <p:cNvSpPr/>
          <p:nvPr/>
        </p:nvSpPr>
        <p:spPr>
          <a:xfrm>
            <a:off x="1258920" y="1268280"/>
            <a:ext cx="6913440" cy="109944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Quando não houver passeios deves caminhar junto à berma, de frente para o trânsito para os condutores te puderem v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8120" y="687240"/>
            <a:ext cx="3014640" cy="4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alisto MT"/>
              </a:rPr>
              <a:t>Regras de trânsito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alisto MT"/>
              <a:ea typeface="Calisto MT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971640" y="907920"/>
            <a:ext cx="75610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290680" y="2852640"/>
            <a:ext cx="4538880" cy="272124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1" name=""/>
          <p:cNvSpPr/>
          <p:nvPr/>
        </p:nvSpPr>
        <p:spPr>
          <a:xfrm>
            <a:off x="1332000" y="1268280"/>
            <a:ext cx="6840360" cy="109944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Não deves usar o passeio para brincar. Brinca no jardim ou no parque, onde não há carros a pass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8120" y="687240"/>
            <a:ext cx="3014640" cy="4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alisto MT"/>
              </a:rPr>
              <a:t>Regras de trânsito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alisto MT"/>
              <a:ea typeface="Calisto MT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971640" y="907920"/>
            <a:ext cx="75610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440080" y="3035160"/>
            <a:ext cx="4232160" cy="252432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7" name=""/>
          <p:cNvSpPr/>
          <p:nvPr/>
        </p:nvSpPr>
        <p:spPr>
          <a:xfrm>
            <a:off x="1332000" y="1268280"/>
            <a:ext cx="6840360" cy="76428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Quando andares de carro deves ir sentado no banco de trás e deves colocar o ci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8120" y="687240"/>
            <a:ext cx="3014640" cy="4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alisto MT"/>
              </a:rPr>
              <a:t>Regras de trânsito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alisto MT"/>
              <a:ea typeface="Calisto MT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971640" y="836640"/>
            <a:ext cx="75610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411280" y="2998800"/>
            <a:ext cx="4321440" cy="261288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3" name=""/>
          <p:cNvSpPr/>
          <p:nvPr/>
        </p:nvSpPr>
        <p:spPr>
          <a:xfrm>
            <a:off x="1332000" y="1268280"/>
            <a:ext cx="6840360" cy="76428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Ao saíres do carro deves fazê-lo pela porta do lado direi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8120" y="687240"/>
            <a:ext cx="3014640" cy="4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alisto MT"/>
              </a:rPr>
              <a:t>Regras de trânsito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alisto MT"/>
              <a:ea typeface="Calisto MT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971640" y="907920"/>
            <a:ext cx="75610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046240" y="2747880"/>
            <a:ext cx="5041800" cy="282600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9" name=""/>
          <p:cNvSpPr/>
          <p:nvPr/>
        </p:nvSpPr>
        <p:spPr>
          <a:xfrm>
            <a:off x="1332000" y="1268280"/>
            <a:ext cx="6840360" cy="76428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Se andares de autocarro, ao sair, deves deixá-lo afastar-se e só depois atravessares a r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8120" y="687240"/>
            <a:ext cx="3014640" cy="4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alisto MT"/>
              </a:rPr>
              <a:t>Regras de trânsito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alisto MT"/>
              <a:ea typeface="Calisto MT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971640" y="622440"/>
            <a:ext cx="75610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046240" y="2770200"/>
            <a:ext cx="5038920" cy="281952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95" name=""/>
          <p:cNvSpPr/>
          <p:nvPr/>
        </p:nvSpPr>
        <p:spPr>
          <a:xfrm>
            <a:off x="1332000" y="1268280"/>
            <a:ext cx="6840360" cy="76428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Quando andas de bicicleta deves circular junto à ber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8120" y="687240"/>
            <a:ext cx="3014640" cy="4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alisto MT"/>
              </a:rPr>
              <a:t>Regras de trânsito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alisto MT"/>
              <a:ea typeface="Calisto MT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971640" y="907920"/>
            <a:ext cx="75610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095560" y="2565360"/>
            <a:ext cx="4944960" cy="302580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1" name=""/>
          <p:cNvSpPr/>
          <p:nvPr/>
        </p:nvSpPr>
        <p:spPr>
          <a:xfrm>
            <a:off x="1332000" y="1268280"/>
            <a:ext cx="6840360" cy="76428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Não deves transportar ninguém na tua bicicleta e deves ter o cuidado de usar sempre o capac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8120" y="687240"/>
            <a:ext cx="3014640" cy="4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alisto MT"/>
              </a:rPr>
              <a:t>Regras de trânsito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alisto MT"/>
              <a:ea typeface="Calisto MT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971640" y="907920"/>
            <a:ext cx="75610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16000" y="692280"/>
            <a:ext cx="7272360" cy="23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98560" y="979560"/>
            <a:ext cx="57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alisto MT"/>
              </a:rPr>
              <a:t>Vamos aprender as</a:t>
            </a:r>
            <a:endParaRPr b="1" lang="en-US" sz="32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46360" y="1843200"/>
            <a:ext cx="58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alisto MT"/>
              </a:rPr>
              <a:t>regras de trânsito</a:t>
            </a:r>
            <a:endParaRPr b="1" lang="en-US" sz="32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92360" y="3211560"/>
            <a:ext cx="460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Calisto MT"/>
              </a:rPr>
              <a:t>* Sinais de trânsito</a:t>
            </a:r>
            <a:endParaRPr b="0" lang="en-US" sz="12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Calisto MT"/>
              <a:ea typeface="Calisto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92360" y="4221000"/>
            <a:ext cx="475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Calisto MT"/>
              </a:rPr>
              <a:t>* Regras de trânsito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Calisto MT"/>
              <a:ea typeface="Calisto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92360" y="5229360"/>
            <a:ext cx="424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latin typeface="Calisto MT"/>
              </a:rPr>
              <a:t>* Vamos jogar ?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99cc00">
                  <a:alpha val="50000"/>
                </a:srgbClr>
              </a:solidFill>
              <a:latin typeface="Calisto MT"/>
              <a:ea typeface="Calisto MT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001960" y="2759040"/>
            <a:ext cx="5138640" cy="281952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7" name=""/>
          <p:cNvSpPr/>
          <p:nvPr/>
        </p:nvSpPr>
        <p:spPr>
          <a:xfrm>
            <a:off x="1403280" y="1268280"/>
            <a:ext cx="6769080" cy="76428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Quando fores passear, pede a um adulto para te acompanh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8120" y="687240"/>
            <a:ext cx="3014640" cy="4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alisto MT"/>
              </a:rPr>
              <a:t>Regras de trânsito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alisto MT"/>
              <a:ea typeface="Calisto MT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971640" y="549360"/>
            <a:ext cx="75610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847880" y="2852640"/>
            <a:ext cx="5448240" cy="271944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13" name=""/>
          <p:cNvSpPr/>
          <p:nvPr/>
        </p:nvSpPr>
        <p:spPr>
          <a:xfrm>
            <a:off x="1332000" y="1268280"/>
            <a:ext cx="6840360" cy="76428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Quando quiseres atravessar a rua deves usar sempre a passadei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8120" y="687240"/>
            <a:ext cx="3014640" cy="4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alisto MT"/>
              </a:rPr>
              <a:t>Regras de trânsito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alisto MT"/>
              <a:ea typeface="Calisto MT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971640" y="836640"/>
            <a:ext cx="75610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692360" y="3211560"/>
            <a:ext cx="460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Calisto MT"/>
              </a:rPr>
              <a:t>* Sinais de trânsito</a:t>
            </a:r>
            <a:endParaRPr b="0" lang="en-US" sz="12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Calisto MT"/>
              <a:ea typeface="Calisto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92360" y="4221000"/>
            <a:ext cx="475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Calisto MT"/>
              </a:rPr>
              <a:t>* Regras de trânsito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Calisto MT"/>
              <a:ea typeface="Calisto M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692360" y="5229360"/>
            <a:ext cx="424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99cc00"/>
                </a:solidFill>
                <a:latin typeface="Calisto MT"/>
              </a:rPr>
              <a:t>* Vamos jogar ?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99cc00"/>
              </a:solidFill>
              <a:latin typeface="Calisto MT"/>
              <a:ea typeface="Calisto MT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692280"/>
            <a:ext cx="7272360" cy="23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798560" y="979560"/>
            <a:ext cx="57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alisto MT"/>
              </a:rPr>
              <a:t>Vamos aprender as</a:t>
            </a:r>
            <a:endParaRPr b="1" lang="en-US" sz="32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46360" y="1843200"/>
            <a:ext cx="58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alisto MT"/>
              </a:rPr>
              <a:t>regras de trânsito</a:t>
            </a:r>
            <a:endParaRPr b="1" lang="en-US" sz="32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771640" y="4076640"/>
            <a:ext cx="3600720" cy="2160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692360" y="1268280"/>
            <a:ext cx="5759280" cy="109944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O menino quer atravessar a r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Achas que o menino pode passar com o sinal vermelh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124000" y="2708280"/>
            <a:ext cx="1735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ccff99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im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ccff99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292720" y="2708280"/>
            <a:ext cx="1735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cc99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ão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cc99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932200" y="698400"/>
            <a:ext cx="3384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99cc00"/>
                </a:solidFill>
                <a:latin typeface="Calisto MT"/>
              </a:rPr>
              <a:t>Vamos jogar ?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99cc00"/>
              </a:solidFill>
              <a:latin typeface="Calisto MT"/>
              <a:ea typeface="Calisto MT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727280" y="1125360"/>
            <a:ext cx="568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ff00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Calisto MT"/>
              </a:rPr>
              <a:t>Tenta de novo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ff0000"/>
                  </a:gs>
                  <a:gs pos="100000">
                    <a:srgbClr val="009900"/>
                  </a:gs>
                </a:gsLst>
                <a:lin ang="5400000"/>
              </a:gradFill>
              <a:latin typeface="Calisto MT"/>
              <a:ea typeface="Calisto MT"/>
            </a:endParaRPr>
          </a:p>
        </p:txBody>
      </p:sp>
      <p:sp>
        <p:nvSpPr>
          <p:cNvPr id="234" name=""/>
          <p:cNvSpPr/>
          <p:nvPr/>
        </p:nvSpPr>
        <p:spPr>
          <a:xfrm>
            <a:off x="2916360" y="2708280"/>
            <a:ext cx="3311280" cy="316872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009900"/>
              </a:gs>
              <a:gs pos="50000">
                <a:srgbClr val="ff00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971640" y="549360"/>
            <a:ext cx="748800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27280" y="1125360"/>
            <a:ext cx="568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ccff99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Calisto MT"/>
              </a:rPr>
              <a:t>BOA !</a:t>
            </a:r>
            <a:endParaRPr b="1" lang="en-US" sz="4000" spc="1" strike="noStrike">
              <a:ln w="255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ccff99"/>
                  </a:gs>
                  <a:gs pos="100000">
                    <a:srgbClr val="3399ff"/>
                  </a:gs>
                </a:gsLst>
                <a:lin ang="5400000"/>
              </a:gradFill>
              <a:latin typeface="Calisto MT"/>
              <a:ea typeface="Calisto MT"/>
            </a:endParaRPr>
          </a:p>
        </p:txBody>
      </p:sp>
      <p:sp>
        <p:nvSpPr>
          <p:cNvPr id="239" name=""/>
          <p:cNvSpPr/>
          <p:nvPr/>
        </p:nvSpPr>
        <p:spPr>
          <a:xfrm>
            <a:off x="2916360" y="2708280"/>
            <a:ext cx="3311280" cy="31687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3399ff"/>
              </a:gs>
              <a:gs pos="50000">
                <a:srgbClr val="ccff99"/>
              </a:gs>
              <a:gs pos="100000">
                <a:srgbClr val="3399ff"/>
              </a:gs>
            </a:gsLst>
            <a:lin ang="5400000"/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971640" y="549360"/>
            <a:ext cx="748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838600" y="4105440"/>
            <a:ext cx="3457440" cy="2151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692360" y="1268280"/>
            <a:ext cx="5759280" cy="76428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A menina vai na bicicle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Deve parar quando chegar ao sina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24000" y="2708280"/>
            <a:ext cx="1735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ccff99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im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ccff99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292720" y="2708280"/>
            <a:ext cx="1735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cc99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ão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cc99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932200" y="698400"/>
            <a:ext cx="3384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99cc00"/>
                </a:solidFill>
                <a:latin typeface="Calisto MT"/>
              </a:rPr>
              <a:t>Vamos jogar ?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99cc00"/>
              </a:solidFill>
              <a:latin typeface="Calisto MT"/>
              <a:ea typeface="Calisto MT"/>
            </a:endParaRPr>
          </a:p>
        </p:txBody>
      </p:sp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727280" y="1125360"/>
            <a:ext cx="568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ff00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Calisto MT"/>
              </a:rPr>
              <a:t>Tenta de novo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ff0000"/>
                  </a:gs>
                  <a:gs pos="100000">
                    <a:srgbClr val="009900"/>
                  </a:gs>
                </a:gsLst>
                <a:lin ang="5400000"/>
              </a:gradFill>
              <a:latin typeface="Calisto MT"/>
              <a:ea typeface="Calisto MT"/>
            </a:endParaRPr>
          </a:p>
        </p:txBody>
      </p:sp>
      <p:sp>
        <p:nvSpPr>
          <p:cNvPr id="251" name=""/>
          <p:cNvSpPr/>
          <p:nvPr/>
        </p:nvSpPr>
        <p:spPr>
          <a:xfrm>
            <a:off x="2916360" y="2708280"/>
            <a:ext cx="3311280" cy="316872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009900"/>
              </a:gs>
              <a:gs pos="50000">
                <a:srgbClr val="ff00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971640" y="549360"/>
            <a:ext cx="748800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916360" y="2708280"/>
            <a:ext cx="3311280" cy="31687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3399ff"/>
              </a:gs>
              <a:gs pos="50000">
                <a:srgbClr val="ccff99"/>
              </a:gs>
              <a:gs pos="100000">
                <a:srgbClr val="3399ff"/>
              </a:gs>
            </a:gsLst>
            <a:lin ang="5400000"/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727280" y="1125360"/>
            <a:ext cx="568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ccff99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Calisto MT"/>
              </a:rPr>
              <a:t>BOA !</a:t>
            </a:r>
            <a:endParaRPr b="1" lang="en-US" sz="4000" spc="1" strike="noStrike">
              <a:ln w="255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ccff99"/>
                  </a:gs>
                  <a:gs pos="100000">
                    <a:srgbClr val="3399ff"/>
                  </a:gs>
                </a:gsLst>
                <a:lin ang="5400000"/>
              </a:gradFill>
              <a:latin typeface="Calisto MT"/>
              <a:ea typeface="Calisto MT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971640" y="549360"/>
            <a:ext cx="748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760840" y="4076640"/>
            <a:ext cx="3601800" cy="2160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692360" y="1268280"/>
            <a:ext cx="5759280" cy="76428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O menino está a andar de bicicle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O menino deveria usar o capace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124000" y="2708280"/>
            <a:ext cx="1735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ccff99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im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ccff99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292720" y="2708280"/>
            <a:ext cx="1735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cc99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ão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cc99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932200" y="698400"/>
            <a:ext cx="3384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99cc00"/>
                </a:solidFill>
                <a:latin typeface="Calisto MT"/>
              </a:rPr>
              <a:t>Vamos jogar ?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99cc00"/>
              </a:solidFill>
              <a:latin typeface="Calisto MT"/>
              <a:ea typeface="Calisto MT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32000" y="1268280"/>
            <a:ext cx="6840360" cy="82548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o andares de bicicleta, se encontrares este sinal quer dizer que tens de pa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060720" y="2565360"/>
            <a:ext cx="3022560" cy="302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048120" y="730080"/>
            <a:ext cx="302400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Calisto MT"/>
              </a:rPr>
              <a:t>Sinais de trânsito</a:t>
            </a:r>
            <a:endParaRPr b="0" lang="en-US" sz="12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Calisto MT"/>
              <a:ea typeface="Calisto MT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971640" y="907920"/>
            <a:ext cx="75610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727280" y="1125360"/>
            <a:ext cx="568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ff00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Calisto MT"/>
              </a:rPr>
              <a:t>Tenta de novo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ff0000"/>
                  </a:gs>
                  <a:gs pos="100000">
                    <a:srgbClr val="009900"/>
                  </a:gs>
                </a:gsLst>
                <a:lin ang="5400000"/>
              </a:gradFill>
              <a:latin typeface="Calisto MT"/>
              <a:ea typeface="Calisto MT"/>
            </a:endParaRPr>
          </a:p>
        </p:txBody>
      </p:sp>
      <p:sp>
        <p:nvSpPr>
          <p:cNvPr id="268" name=""/>
          <p:cNvSpPr/>
          <p:nvPr/>
        </p:nvSpPr>
        <p:spPr>
          <a:xfrm>
            <a:off x="2916360" y="2708280"/>
            <a:ext cx="3311280" cy="316872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009900"/>
              </a:gs>
              <a:gs pos="50000">
                <a:srgbClr val="ff00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971640" y="549360"/>
            <a:ext cx="748800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916360" y="2708280"/>
            <a:ext cx="3311280" cy="31687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3399ff"/>
              </a:gs>
              <a:gs pos="50000">
                <a:srgbClr val="ccff99"/>
              </a:gs>
              <a:gs pos="100000">
                <a:srgbClr val="3399ff"/>
              </a:gs>
            </a:gsLst>
            <a:lin ang="5400000"/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727280" y="1125360"/>
            <a:ext cx="568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ccff99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Calisto MT"/>
              </a:rPr>
              <a:t>BOA !</a:t>
            </a:r>
            <a:endParaRPr b="1" lang="en-US" sz="4000" spc="1" strike="noStrike">
              <a:ln w="255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ccff99"/>
                  </a:gs>
                  <a:gs pos="100000">
                    <a:srgbClr val="3399ff"/>
                  </a:gs>
                </a:gsLst>
                <a:lin ang="5400000"/>
              </a:gradFill>
              <a:latin typeface="Calisto MT"/>
              <a:ea typeface="Calisto MT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971640" y="549360"/>
            <a:ext cx="748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692360" y="1268280"/>
            <a:ext cx="575928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Arial"/>
              </a:rPr>
              <a:t>Achas que a menina viaja em seguranç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876400" y="4003560"/>
            <a:ext cx="3384720" cy="2222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2124000" y="2708280"/>
            <a:ext cx="1735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ccff99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im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ccff99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292720" y="2708280"/>
            <a:ext cx="1735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cc99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ão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cc99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932200" y="698400"/>
            <a:ext cx="3384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99cc00"/>
                </a:solidFill>
                <a:latin typeface="Calisto MT"/>
              </a:rPr>
              <a:t>Vamos jogar ?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99cc00"/>
              </a:solidFill>
              <a:latin typeface="Calisto MT"/>
              <a:ea typeface="Calisto MT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727280" y="1125360"/>
            <a:ext cx="568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ff00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Calisto MT"/>
              </a:rPr>
              <a:t>Tenta de novo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ff0000"/>
                  </a:gs>
                  <a:gs pos="100000">
                    <a:srgbClr val="009900"/>
                  </a:gs>
                </a:gsLst>
                <a:lin ang="5400000"/>
              </a:gradFill>
              <a:latin typeface="Calisto MT"/>
              <a:ea typeface="Calisto MT"/>
            </a:endParaRPr>
          </a:p>
        </p:txBody>
      </p:sp>
      <p:sp>
        <p:nvSpPr>
          <p:cNvPr id="285" name=""/>
          <p:cNvSpPr/>
          <p:nvPr/>
        </p:nvSpPr>
        <p:spPr>
          <a:xfrm>
            <a:off x="2916360" y="2708280"/>
            <a:ext cx="3311280" cy="316872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009900"/>
              </a:gs>
              <a:gs pos="50000">
                <a:srgbClr val="ff00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971640" y="549360"/>
            <a:ext cx="748800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916360" y="2708280"/>
            <a:ext cx="3311280" cy="31687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3399ff"/>
              </a:gs>
              <a:gs pos="50000">
                <a:srgbClr val="33cc33"/>
              </a:gs>
              <a:gs pos="100000">
                <a:srgbClr val="3399ff"/>
              </a:gs>
            </a:gsLst>
            <a:lin ang="5400000"/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76360" y="981000"/>
            <a:ext cx="640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33cc33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Calisto MT"/>
              </a:rPr>
              <a:t>Parabéns !</a:t>
            </a:r>
            <a:endParaRPr b="1" lang="en-US" sz="4000" spc="1" strike="noStrike">
              <a:ln w="255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33cc33"/>
                  </a:gs>
                  <a:gs pos="100000">
                    <a:srgbClr val="3399ff"/>
                  </a:gs>
                </a:gsLst>
                <a:lin ang="5400000"/>
              </a:gradFill>
              <a:latin typeface="Calisto MT"/>
              <a:ea typeface="Calisto MT"/>
            </a:endParaRPr>
          </a:p>
        </p:txBody>
      </p:sp>
      <p:sp>
        <p:nvSpPr>
          <p:cNvPr id="293" name="">
            <a:hlinkClick r:id="" action="ppaction://hlinkshowjump?jump=endshow"/>
          </p:cNvPr>
          <p:cNvSpPr/>
          <p:nvPr/>
        </p:nvSpPr>
        <p:spPr>
          <a:xfrm>
            <a:off x="971640" y="549360"/>
            <a:ext cx="748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971640" y="549360"/>
            <a:ext cx="748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16000" y="692280"/>
            <a:ext cx="7272360" cy="5400720"/>
          </a:xfrm>
          <a:prstGeom prst="rect">
            <a:avLst/>
          </a:prstGeom>
          <a:solidFill>
            <a:srgbClr val="ff33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187280" y="1344600"/>
            <a:ext cx="7058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alisto MT"/>
              </a:rPr>
              <a:t>Segue estes conselhos,</a:t>
            </a:r>
            <a:endParaRPr b="1" lang="en-US" sz="32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271520" y="2382840"/>
            <a:ext cx="691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alisto MT"/>
              </a:rPr>
              <a:t>porque não deves brincar</a:t>
            </a:r>
            <a:endParaRPr b="1" lang="en-US" sz="32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06720" y="3422520"/>
            <a:ext cx="3241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alisto MT"/>
              </a:rPr>
              <a:t>com a tua </a:t>
            </a:r>
            <a:endParaRPr b="1" lang="en-US" sz="32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352520" y="4729320"/>
            <a:ext cx="684216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alisto MT"/>
              </a:rPr>
              <a:t>SEGURANÇA !</a:t>
            </a:r>
            <a:endParaRPr b="1" lang="en-US" sz="32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32000" y="1268280"/>
            <a:ext cx="6840360" cy="82548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Quando quiseres atravessar, procura este sinal e, nesse local, podes pas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998800" y="2565360"/>
            <a:ext cx="3144960" cy="3035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048120" y="730080"/>
            <a:ext cx="302400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Calisto MT"/>
              </a:rPr>
              <a:t>Sinais de trânsito</a:t>
            </a:r>
            <a:endParaRPr b="0" lang="en-US" sz="12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Calisto MT"/>
              <a:ea typeface="Calisto MT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971640" y="981000"/>
            <a:ext cx="75610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32000" y="1268280"/>
            <a:ext cx="6840360" cy="82548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Quando encontrares este sinal na rua quer dizer que não podes andar de bicicl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52640" y="2255760"/>
            <a:ext cx="3425760" cy="3305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048120" y="730080"/>
            <a:ext cx="302400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Calisto MT"/>
              </a:rPr>
              <a:t>Sinais de trânsito</a:t>
            </a:r>
            <a:endParaRPr b="0" lang="en-US" sz="12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Calisto MT"/>
              <a:ea typeface="Calisto MT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971640" y="765000"/>
            <a:ext cx="75610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42920" y="1125360"/>
            <a:ext cx="7345440" cy="114480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ffffff"/>
                </a:solidFill>
                <a:latin typeface="Arial"/>
              </a:rPr>
              <a:t>Este sinal significa que tens de atravessar com cuidado. A qualquer momento o comboio pode passa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852640" y="2428920"/>
            <a:ext cx="3425760" cy="33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048120" y="730080"/>
            <a:ext cx="302400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Calisto MT"/>
              </a:rPr>
              <a:t>Sinais de trânsito</a:t>
            </a:r>
            <a:endParaRPr b="0" lang="en-US" sz="12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Calisto MT"/>
              <a:ea typeface="Calisto MT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971640" y="549360"/>
            <a:ext cx="75610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03280" y="1268280"/>
            <a:ext cx="6647040" cy="82548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o encontrares este sinal olha com aten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248292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8000"/>
                </a:solidFill>
                <a:latin typeface="Arial"/>
              </a:rPr>
              <a:t>Com boneco 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8000"/>
                </a:solidFill>
                <a:latin typeface="Arial"/>
              </a:rPr>
              <a:t>podes pas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4714920"/>
            <a:ext cx="48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Com boneco vermel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tens de es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62156" t="10613" r="14331" b="59581"/>
          <a:stretch/>
        </p:blipFill>
        <p:spPr>
          <a:xfrm>
            <a:off x="6443640" y="4498920"/>
            <a:ext cx="1008000" cy="1008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13449" t="49021" r="63046" b="21173"/>
          <a:stretch/>
        </p:blipFill>
        <p:spPr>
          <a:xfrm>
            <a:off x="6443640" y="2338560"/>
            <a:ext cx="1008000" cy="10080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7" name=""/>
          <p:cNvSpPr txBox="1"/>
          <p:nvPr/>
        </p:nvSpPr>
        <p:spPr>
          <a:xfrm>
            <a:off x="3048120" y="730080"/>
            <a:ext cx="302400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Calisto MT"/>
              </a:rPr>
              <a:t>Sinais de trânsito</a:t>
            </a:r>
            <a:endParaRPr b="0" lang="en-US" sz="12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Calisto MT"/>
              <a:ea typeface="Calisto MT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971640" y="549360"/>
            <a:ext cx="75610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27080" y="1268280"/>
            <a:ext cx="7201080" cy="1144800"/>
          </a:xfrm>
          <a:prstGeom prst="rect">
            <a:avLst/>
          </a:prstGeom>
          <a:solidFill>
            <a:srgbClr val="ff33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ffffff"/>
                </a:solidFill>
                <a:latin typeface="Arial"/>
              </a:rPr>
              <a:t>Se gostas de andar de bicicleta encontra este sinal que te indica que estás no sitio próprio para o faze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852640" y="2571840"/>
            <a:ext cx="3425760" cy="3305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048120" y="730080"/>
            <a:ext cx="302400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Calisto MT"/>
              </a:rPr>
              <a:t>Sinais de trânsito</a:t>
            </a:r>
            <a:endParaRPr b="0" lang="en-US" sz="12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Calisto MT"/>
              <a:ea typeface="Calisto MT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900000" y="836640"/>
            <a:ext cx="756144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692360" y="3211560"/>
            <a:ext cx="460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Calisto MT"/>
              </a:rPr>
              <a:t>* Sinais de trânsito</a:t>
            </a:r>
            <a:endParaRPr b="0" lang="en-US" sz="12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Calisto MT"/>
              <a:ea typeface="Calisto M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92360" y="4221000"/>
            <a:ext cx="475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alisto MT"/>
              </a:rPr>
              <a:t>* Regras de trânsito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alisto MT"/>
              <a:ea typeface="Calisto M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692360" y="5229360"/>
            <a:ext cx="424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latin typeface="Calisto MT"/>
              </a:rPr>
              <a:t>* Vamos jogar ?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99cc00">
                  <a:alpha val="50000"/>
                </a:srgbClr>
              </a:solidFill>
              <a:latin typeface="Calisto MT"/>
              <a:ea typeface="Calisto MT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692280"/>
            <a:ext cx="7272360" cy="23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798560" y="979560"/>
            <a:ext cx="57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alisto MT"/>
              </a:rPr>
              <a:t>Vamos aprender as</a:t>
            </a:r>
            <a:endParaRPr b="1" lang="en-US" sz="32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46360" y="1843200"/>
            <a:ext cx="58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alisto MT"/>
              </a:rPr>
              <a:t>regras de trânsito</a:t>
            </a:r>
            <a:endParaRPr b="1" lang="en-US" sz="32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46280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endshow"/>
          </p:cNvPr>
          <p:cNvSpPr/>
          <p:nvPr/>
        </p:nvSpPr>
        <p:spPr>
          <a:xfrm>
            <a:off x="7951680" y="567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5:37:55Z</dcterms:created>
  <dc:creator>iies-consultor590</dc:creator>
  <dc:description/>
  <dc:language>en-US</dc:language>
  <cp:lastModifiedBy>iies-consultor590</cp:lastModifiedBy>
  <dcterms:modified xsi:type="dcterms:W3CDTF">2008-05-20T14:56:11Z</dcterms:modified>
  <cp:revision>14</cp:revision>
  <dc:subject/>
  <dc:title>Notebook Backgrounds</dc:title>
</cp:coreProperties>
</file>