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442-5394-466F-B59D-714A76FB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D34-B4B3-484C-A003-13AEF2E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FF9-A693-42F6-9E9F-F3009BAE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E42-FB36-4E8E-8C25-1D6BB214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B50-1578-4BD8-B23A-33E33A06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BD4-ECCC-46D4-B7B4-2E4C44A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69D-4283-4547-A478-AF85A75F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F21-B093-4E17-8D10-C753644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8E8-1B7D-4324-A5A2-4C75427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926-D2BB-46E9-A497-5F5E0EBF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882-F09F-4FBE-A06D-0682C9E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331-13C7-47F7-89CA-A61034E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AD12-7A41-45C9-B0CD-F54A8640BC4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1-01T00:09:24Z</dcterms:modified>
  <cp:revision>26</cp:revision>
  <dc:subject/>
  <dc:title>슬라이드 1</dc:title>
</cp:coreProperties>
</file>