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CEA-F5CA-40CB-ADC3-E3F4207D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E28-B7F7-437D-AE9B-60488159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EAF-A1F8-472C-824D-A3AA4F5A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9F2-3FA5-43DB-950A-D615F499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51C-41F9-4DE6-8688-382B47B4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70D-865E-43F7-B3EA-02453EAC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E58-424E-44C6-AF7E-A7BF142F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7DF-EDB5-4A91-A47B-6A1EA8E0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C08-56D9-466A-B0FF-1FF6D2E2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178-3648-4196-9301-8C10C460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A3E-7C88-45D5-BCF5-29A5B510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00E-E387-4C90-9A56-19CBCB20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0042-E3E0-4184-B3FA-3DB3F92D11A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1-01T00:09:24Z</dcterms:modified>
  <cp:revision>26</cp:revision>
  <dc:subject/>
  <dc:title>슬라이드 1</dc:title>
</cp:coreProperties>
</file>