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06A-F87B-4C81-8B05-274D9925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129-AE6D-432E-92DA-196AA0C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1F1-1ACC-44A6-8299-13047AC1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D79-1A59-4FAB-B08F-71D9150F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3E71-1A6A-4ED4-A813-9D6A3DA2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CFDA-D76F-4482-92B6-594D9AC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D1C1-7D00-4B5E-AC36-C5FD1EDB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A18-8A57-4307-A931-62C9ACB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7C5-9111-49A0-9D0F-7FC6C1F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BE58-AC98-4EBE-B966-4D8096B9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66C-FFCE-43F1-A34B-993B414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CC8-D6A0-4045-AB9E-1A5F58ED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388-010D-42C4-B2E9-F750455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2C3-6066-49DA-891C-A9FFCD8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3D35-991A-4DD2-998B-CCBE5CE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DD8A-1133-4656-A10E-E6A5CADB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936C-0610-4465-B6C4-4B425688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AFBB-B781-41C8-8EBC-A51BD5E8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7912-4576-4F41-9E6F-66600F2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A402-12E9-4739-9AB8-84F3BD5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7536-B98B-4F4F-B70F-CDEFE0C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F759-60A3-4958-AB1A-BAAD276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96A-708A-40F0-BE76-17C4651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B14F-9232-4196-BCE2-B0DE1E5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CC82-2D91-4EF9-AE91-18D8EBB6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90AE-AC36-409D-857F-DE44218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D932-0DA2-42C4-9657-3A66B1F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62E6-BC8E-4350-889C-09F737F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C831-AF50-4AB2-9CDA-5C4A2962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2564-050D-4532-83F1-58D824CD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DFC7-C554-4B88-86E9-8F7C9969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FF36-5627-42BC-9FB0-365A08C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18E4-AE53-428F-8CCE-B7964115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1F3-D61B-47F3-82C5-09EDFFDC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4CC5-7E26-4B04-BB96-9B83B3B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82EF-2477-4431-B40E-A03AC98E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C182-665D-4A38-B670-738108A3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5960-B8EB-4717-A77C-D237090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037A-5A14-41C1-BCD6-66707F1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214E-0A04-4D0C-A1F8-A143EB9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DE5E-D7B9-4884-968F-E26EF30A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544F-BCC9-410F-93C8-7EC1EFFC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E831-0E68-42AD-852B-B38CF69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534-AB69-43E7-A7A6-E787138C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7FD-76AC-422C-8A62-D75720A4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D0E-3867-4EA4-8CF3-ACD3505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34A-372A-44D8-80C1-A02E964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857-65BE-4590-BCAA-D43ABE4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3EFC-D470-4B2A-BEAB-A27E98AD76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FFC-64CD-4F29-8D70-064CC0198E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005B-5957-4013-BC10-F2F7B5BFDB1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E5E4-F7ED-45C9-BD5D-780F8FE1BE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STANDAR SEBUAH LEMBAGA PENDIDIKA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D. KETENTUAN SARANA DAN PRASAR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D/MI sekurang-kurangnya memiliki prasarana sebagai berikut 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. ruang k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 ruang perpustaka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Laboratorium IP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ruang pimpin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. ruang gu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 tempat beribadah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. ruang U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. jamban/kamar keci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. guda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. ruang sirkula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1. tempat bermain/berolah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Ruang Kel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gsi ruang ke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umlah ruang kelas sama dengan jumlah romb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apasitas maksimum ruang kelas 28 sisw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asio minimum ruang kelas adalah 2 m persegi/sisw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cukup cahay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memiliki pintu yang sesu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dilengkapi sarana, sebagi berikut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rana Ruang Ke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1600200"/>
          <a:ext cx="7848360" cy="4410000"/>
        </p:xfrm>
        <a:graphic>
          <a:graphicData uri="http://schemas.openxmlformats.org/drawingml/2006/table">
            <a:tbl>
              <a:tblPr/>
              <a:tblGrid>
                <a:gridCol w="761760"/>
                <a:gridCol w="2057400"/>
                <a:gridCol w="213372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J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kri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a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rsi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 oleh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ja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 oleh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rsi 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ja 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m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emad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k hasil karya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emad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57200" y="762120"/>
          <a:ext cx="8229600" cy="541944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1676520"/>
                <a:gridCol w="3809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J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kri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pan panj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inimal 60 cm x 12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alatan Pendidi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at Per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suai sarana Lab I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edia Pendidi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pan Tu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inimal 90 cm x 20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lengkapan 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mpat samp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mpat cuci t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m di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ket listr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Ruang Perpustaka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gsi ruang perpustaka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uas ruang perpustakaan, minimal sama dengan ruang ke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lengkapi jendela, cukup cahaya dan penerang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dah dicap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i Ruang Perpustaka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uk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teks pelajar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panduan Pendidi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Pengaya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Referens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Belajar la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Perab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k buku, Rak majalah, Rak surat kabar, Meja baca, Kursi baca, Kursi kerja,  Meja kerja, Lemari katalog, Lemari penyimpanan, Papan pengumuman, Meja multi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3. Media Pendidik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alatan multi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. Inventar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Perlengkapan l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Tempat samp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Soket listr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Jam di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Laboratorium I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alat bantu kegiatan dalam bentuk percoba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Ruang Pimpi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tempat pengelolaan sekolah, pertemuan dengan sejumlah guru, orang tua siswa, komite sekolah, petugas dinas pendidikan, tamu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dah diakses oleh guru dan tamu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Ruang Gu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guru bekerja , beristirahat, menerima tamu peserta didik dan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Tempat Beribad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Ruang U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penanganan dini peserta didik yang mengalami gangguan kesehatan di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. Jamban/Kamar ke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. Gud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menyimpan alat pembelajaran diluar kela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 Ruang Sirkul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penghubung antar ruang dalam gedung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 Tempat bermain/Berolahra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S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ATURAN MENDIKNAS RI NOMOR 24 TAHUN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NT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 SARANA DAN PRASARANA UNTUK SEKOLAH DASAR/MADRASAH IBTIDAIYAH (SD/MI), SEKOLAH MENENGAH PERTAMA/MADRASAH TSANAWIYAH (SMP/MTs),  DAN SEKOLAH MENENGAH ATAS/MADRASAH ALIYAH (SMA/M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DANG PENDIDIKAN DAS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laksanakan Tugas Dinas Pendidikan di Bidang Pendidikan Dasar, dipimpin oleh Kepala Bidang Pendidikan Das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BIDANG PENDIDIKAN DASAR, MELIPU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Sarana dan Prasar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Kurikulum dan Pembina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Kesiswa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KSI SARANA DAN PRASARAN PENDIDIKAN DAS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EKSI SARANA DAN PRASARANA PENDIDIKAN DASA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laksanakan tugas Kepala Bidang Pendidikan Das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nyusunan rencana program dan juknis terkait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laksanaan program dan juknis terkait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koordinasi dengan lembaga dan instansi lain yang berhubungan dengan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ngawasan dan pengendalian di bidang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evaluasi dan pelaporan pelaksanaan Sarpr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URUSAN SARANA DAN PRASARANA SEKOLAH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ASAR :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ERMENDIKNAS 19 TAHUN 2007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ENTANG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NDAR PENGELOLA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ENJABARAN TUGAS 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gas pokok dan tanggung jawab urusan sar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prasarana adalah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rencana kebutuhan sarana dan prasarana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program kebersihan, keindahan, dan keamanan lingkungan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atur pengadaan denah sekolah, organigram, papan data, kohor, atribut, label, dan lain-lain yang berhubungan dengan keperluan sekola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atur dan atau mengkoordinasikan pelaksanaan pembangunan dan atau rehabilitasi gedung, ruangan, halaman, kebun , meubeler, sarana prasarana sekolah lain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laksanakan pemeriksaan rutin terhadap sarana sekolah ( barang habis pakai / barang tidak habis pakai, ) serta peningkatan ketertiban administrasi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impanan barang-barang inventaris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uat tata tertib dan mengatur pemanfaatan sarana prasar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dan merencanakan kebutuhan sarana prasarana untuk menunjang proses belajar mengaj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dan menyiapkan tempat dan peralatan untuk rapat yang diselenggarakan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iapan peralatan untu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aca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uat laporan Inventarisasi bara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iap semes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usunan lapor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laksanaan kegiatan sarana prasaran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ara berka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I. STANDAR SARANA DAN PRASARANA 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  SEKOLAH DASAR/MADRASAH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  IBTIDAIYAH ( SD/MI 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ATUAN PENDIDIKA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1. Satu SD/MI memiliki minimal  6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rombel, maksimal 24 rombe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2. Satu SD/MI dengan 6 rombe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melayani maksimal 2000 jiwa/pendudu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Satu kelurahan minimal dilayani oleh 1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D/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catatan (inventarisasi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pengadministrasian data barang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ng inventaris, antara lain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K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Laboratorium IP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Laboratorium Kompu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Gu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Kepala Sekola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Tata Usah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Kebersihan dan Ta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Elektronika dan Sound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pu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Olah 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penerang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n Media Pembelajar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n Sarana kegiatan Ibada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hab Ruang Kel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1.JPG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ontent Placeholder 4" descr="IMG_4343.JPG"/>
          <p:cNvPicPr/>
          <p:nvPr/>
        </p:nvPicPr>
        <p:blipFill>
          <a:blip r:embed="rId1"/>
          <a:stretch/>
        </p:blipFill>
        <p:spPr>
          <a:xfrm>
            <a:off x="1066680" y="1066680"/>
            <a:ext cx="73152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RIMA KASI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. L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Ketentuan lahan untuk satu SD/MI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09480" y="2209680"/>
          <a:ext cx="8001000" cy="3813120"/>
        </p:xfrm>
        <a:graphic>
          <a:graphicData uri="http://schemas.openxmlformats.org/drawingml/2006/table">
            <a:tbl>
              <a:tblPr/>
              <a:tblGrid>
                <a:gridCol w="800280"/>
                <a:gridCol w="1301760"/>
                <a:gridCol w="2100240"/>
                <a:gridCol w="1536480"/>
                <a:gridCol w="22622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om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asio minimal luas lantai bangunan terhadap peserta didik (M2/peserta didik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tu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a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ga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1066680"/>
            <a:ext cx="82296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uas lahan dimaksud adalah luas lahan yang efektif untuk membangun prasarana sekolah berupa gedung dan tempat bermain/berolah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Lahan terhindar dari potensi bahaya kesehatan dan keselamatan, serta punya akses penyelamatan dalam kondisi darur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Kemiringan lahan kurang dari 15%, tidak dalam garis sempadan sungai dan jalur kerata ap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erhindar dari gangguan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. Pencemaran air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. Kebising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. Pencemaran udar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Lahan sesuai peruntukan loka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. Lahan memiliki status yang j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. GEDU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Luas minimum lantai bangu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2362320"/>
          <a:ext cx="7772400" cy="3504960"/>
        </p:xfrm>
        <a:graphic>
          <a:graphicData uri="http://schemas.openxmlformats.org/drawingml/2006/table">
            <a:tbl>
              <a:tblPr/>
              <a:tblGrid>
                <a:gridCol w="777960"/>
                <a:gridCol w="1844640"/>
                <a:gridCol w="1717920"/>
                <a:gridCol w="1715760"/>
                <a:gridCol w="1716120"/>
              </a:tblGrid>
              <a:tr h="63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om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Luas minimum lantai bangunan (M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tu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a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ga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angunan gedung memenuhi ketentuan tata bangun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Bangunan gedung memiliki persyaratan keselamat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Bangunan gedung memiliki persyaratan kesehat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. Bangunan gedung menyediakan fasilitas dan aksesibilitas yang mudah, aman dan nya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Bangunan gedung dilengkapi sistem keaman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angunan gedung diengkapi instalasi listrik, daya minimum 900 watt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. Bangunan gedung minimal permanen kelas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. Pemeliharaan gedung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. Pemeliharaan ring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. Pemeliharaan ber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. Bangunan gedung memiliki ijin bangunan dan ijin pengguna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06:18:34Z</dcterms:created>
  <dc:creator>Guest</dc:creator>
  <dc:description/>
  <dc:language>en-US</dc:language>
  <cp:lastModifiedBy>thussy apriliyandari</cp:lastModifiedBy>
  <dcterms:modified xsi:type="dcterms:W3CDTF">2012-12-27T10:37:27Z</dcterms:modified>
  <cp:revision>161</cp:revision>
  <dc:subject/>
  <dc:title>Slide 1</dc:title>
</cp:coreProperties>
</file>