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417-68FE-4A82-9649-B0832C51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32D-BD5A-497D-9420-A805686D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38C-690C-44EA-8922-102FAC7D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3CC-E9CE-49EB-A8C8-8347A32D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4711-5126-48A5-8EFC-99C55757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3BC0-1040-4151-8CE4-FEF6F502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187A-C261-4EBB-9EC5-C5CEC51F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4104-1721-4E95-A811-BDFD2431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C0EB-61BD-4168-AA86-95BD5042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0113-3CC9-4179-B93D-BAA3922E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7BAE-B182-44D2-9CC4-1A2EFBAD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C0F-ED3E-4420-8040-A72392FF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F878-8D97-4168-A004-9599E77A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01B5-ABE0-4319-8B89-2FF97937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E865-9FFC-419E-81F5-C95F6F73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CCEC-7328-4BC0-A23B-C7E9EF1B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49A2-1547-4286-ACE9-0DEE9F52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A9D3B-DF2F-4E6E-B15A-2DF36D87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411A6-1EFE-4C79-A9A6-C1A40409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AB5D1-F9E8-4C15-9C5D-2957CC04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B4823-0B13-4F97-9D91-3653EFAA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887B7-9C16-4C09-B6AA-DF7BCE74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6DCE-BF36-4488-ACB4-631EC2BA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F5ED3-4736-43BC-AED2-5D3526BD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E5231-BF17-4FAB-A222-3D1141BD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B9638-6611-4A06-81BD-4C3902A7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2CF55-6FA3-4219-887C-D1C898E0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31892-A59D-48E8-A7F3-B4493324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EF47A-3633-4222-9B0C-58EBFDAE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573F9-6E2F-420B-8C0E-664A9DD0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7A19B-8BB3-4322-B4C7-33B089A3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4D39F-A53C-42C7-845E-58421622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2574B-C5DE-44A1-8BAA-5C9D47E2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96E5-EC8F-4E27-8076-D1DBA62F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38DEA-0143-4E75-B11B-0E1B88D1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63C57-4A45-4D91-A101-C530347C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318E3-F7EF-4E31-9E9A-C3B940D6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03A53-B2D9-4C27-AD78-422FF858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3838D-1357-407F-BA74-D98AA4D9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C56E7-CFC3-4E93-8CDE-05E047A6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17A7F-3578-462A-9341-61AB06A2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42554-0839-45F5-A968-BFD94B19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C8B8E-EBBB-40C0-88A0-AFFAF05A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0186-0ADB-490E-9FE7-20CDC812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0A7A-F761-4321-A1E8-4F3215A4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AC3-99BB-4F76-9478-5A4DE47F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43C-0D2F-424C-A954-5D2CA7C5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4C4-115E-461B-BD80-2D64FE35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A660-6E43-42DB-AF1B-4E3D9A4628E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3459-68AC-4605-ADC5-5F322821781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285F-F1C5-4F06-8111-5C356386DB1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8CFC-E528-4508-AF83-2580543388A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STANDAR SEBUAH LEMBAGA PENDIDIKAN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D. KETENTUAN SARANA DAN PRASARAN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D/MI sekurang-kurangnya memiliki prasarana sebagai berikut 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. ruang kela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. ruang perpustaka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3. Laboratorium IP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. ruang pimpin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5. ruang guru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6.  tempat beribadah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7. ruang UK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8. jamban/kamar keci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9. guda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0. ruang sirkulas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1. tempat bermain/berolahrag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. Ruang Kel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ungsi ruang kela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Jumlah ruang kelas sama dengan jumlah romb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Kapasitas maksimum ruang kelas 28 sisw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asio minimum ruang kelas adalah 2 m persegi/sisw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uang kelas cukup cahay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uang kelas memiliki pintu yang sesu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uang kelas dilengkapi sarana, sebagi berikut 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arana Ruang Kel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3520" y="1600200"/>
          <a:ext cx="7848360" cy="4410000"/>
        </p:xfrm>
        <a:graphic>
          <a:graphicData uri="http://schemas.openxmlformats.org/drawingml/2006/table">
            <a:tbl>
              <a:tblPr/>
              <a:tblGrid>
                <a:gridCol w="761760"/>
                <a:gridCol w="2057400"/>
                <a:gridCol w="2133720"/>
                <a:gridCol w="2895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Jen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as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eskrip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Perab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ursi sis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sis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uat, stabil, mudah dipindah oleh sis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ja sis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sis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uat, stabil, mudah dipindah oleh sis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ursi Gu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gu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uat, stabil, mudah dipindahk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ja Gu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gu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uat, stabil, mudah dipindahk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em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ru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kuran memad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ak hasil karya sis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ru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kuran memad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457200" y="762120"/>
          <a:ext cx="8229600" cy="5419440"/>
        </p:xfrm>
        <a:graphic>
          <a:graphicData uri="http://schemas.openxmlformats.org/drawingml/2006/table">
            <a:tbl>
              <a:tblPr/>
              <a:tblGrid>
                <a:gridCol w="685800"/>
                <a:gridCol w="2057400"/>
                <a:gridCol w="1676520"/>
                <a:gridCol w="3809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Jen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as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eskrip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pan panj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ru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kuran minimal 60 cm x 12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Peralatan Pendidik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lat Per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suai sarana Lab I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Media Pendidik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pan Tul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ru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kuran minimal 90 cm x 20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Perlengkapan l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mpat samp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ru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mpat cuci tan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ru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m di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ru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oket listr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uah/ru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. Ruang Perpustaka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ngsi ruang perpustaka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uas ruang perpustakaan, minimal sama dengan ruang kel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lengkapi jendela, cukup cahaya dan penerang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dah dicapa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742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si Ruang Perpustakaa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1. </a:t>
            </a:r>
            <a:r>
              <a:rPr b="0" lang="en-US" sz="2200" spc="-1" strike="noStrike">
                <a:solidFill>
                  <a:srgbClr val="ff0000"/>
                </a:solidFill>
                <a:latin typeface="Constantia"/>
              </a:rPr>
              <a:t>Buku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uku teks pelajar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uku panduan Pendidi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uku Pengaya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uku Referens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uku Belajar lai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2. Perabo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ak buku, Rak majalah, Rak surat kabar, Meja baca, Kursi baca, Kursi kerja,  Meja kerja, Lemari katalog, Lemari penyimpanan, Papan pengumuman, Meja multimed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0492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3. Media Pendidik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alatan multimed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4. Inventar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* Perlengkapan la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* Tempat sampa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* Soket listri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* Jam dind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Laboratorium IP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bagai alat bantu kegiatan dalam bentuk percoba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Ruang Pimpin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bagai tempat pengelolaan sekolah, pertemuan dengan sejumlah guru, orang tua siswa, komite sekolah, petugas dinas pendidikan, tamu lainny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dah diakses oleh guru dan tamu sekola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. Ruang Gur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mpat guru bekerja , beristirahat, menerima tamu peserta didik dan lainny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. Tempat Beribada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. Ruang U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mpat penanganan dini peserta didik yang mengalami gangguan kesehatan di sekola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. Jamban/Kamar kec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. Guda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mpat menyimpan alat pembelajaran diluar kelas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 Ruang Sirkulas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bagai penghubung antar ruang dalam gedung sekola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 Tempat bermain/Berolahrag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AS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ATURAN MENDIKNAS RI NOMOR 24 TAHUN 200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NTA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NDAR SARANA DAN PRASARANA UNTUK SEKOLAH DASAR/MADRASAH IBTIDAIYAH (SD/MI), SEKOLAH MENENGAH PERTAMA/MADRASAH TSANAWIYAH (SMP/MTs),  DAN SEKOLAH MENENGAH ATAS/MADRASAH ALIYAH (SMA/M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DANG PENDIDIKAN DAS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laksanakan Tugas Dinas Pendidikan di Bidang Pendidikan Dasar, dipimpin oleh Kepala Bidang Pendidikan Dasa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BIDANG PENDIDIKAN DASAR, MELIPUTI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ksi Sarana dan Prasaran Pendidikan Das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ksi Kurikulum dan Pembinaan Pendidikan Das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ksi Kesiswaan Pendidikan Das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KSI SARANA DAN PRASARAN PENDIDIKAN DAS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EKSI SARANA DAN PRASARANA PENDIDIKAN DASAR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laksanakan tugas Kepala Bidang Pendidikan Das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yiapkan bahan penyusunan rencana program dan juknis terkait Sarpr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yiapkan bahan pelaksanaan program dan juknis terkait sarpr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yiapkan bahan koordinasi dengan lembaga dan instansi lain yang berhubungan dengan sarpr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yiapkan bahan pengawasan dan pengendalian di bidang Sarpr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nyiapkan bahan evaluasi dan pelaporan pelaksanaan Sarpra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URUSAN SARANA DAN PRASARANA SEKOLAH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DASAR : </a:t>
            </a:r>
            <a:br>
              <a:rPr sz="5000"/>
            </a:b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PERMENDIKNAS 19 TAHUN 2007</a:t>
            </a:r>
            <a:br>
              <a:rPr sz="5000"/>
            </a:b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TENTANG</a:t>
            </a:r>
            <a:br>
              <a:rPr sz="5000"/>
            </a:b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STANDAR PENGELOLA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ENJABARAN TUGAS 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gas pokok dan tanggung jawab urusan sar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n prasarana adalah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yusun rencana kebutuhan sarana dan prasarana sekola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yusun program kebersihan, keindahan, dan keamanan lingkungan sekola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gatur pengadaan denah sekolah, organigram, papan data, kohor, atribut, label, dan lain-lain yang berhubungan dengan keperluan sekolah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gatur dan atau mengkoordinasikan pelaksanaan pembangunan dan atau rehabilitasi gedung, ruangan, halaman, kebun , meubeler, sarana prasarana sekolah lainny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laksanakan pemeriksaan rutin terhadap sarana sekolah ( barang habis pakai / barang tidak habis pakai, ) serta peningkatan ketertiban administrasiny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gkoordinir penyimpanan barang-barang inventaris sekola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mbuat tata tertib dan mengatur pemanfaatan sarana prasar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yusun dan merencanakan kebutuhan sarana prasarana untuk menunjang proses belajar mengaj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gkoordinir dan menyiapkan tempat dan peralatan untuk rapat yang diselenggarakan sekola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gkoordinir penyiapan peralatan untuk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paca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mbuat laporan Inventarisasi barang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tiap semes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2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gkoordinir penyusunan lapora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laksanaan kegiatan sarana prasaran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ara berka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I. STANDAR SARANA DAN PRASARANA  </a:t>
            </a:r>
            <a:br>
              <a:rPr sz="36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   SEKOLAH DASAR/MADRASAH </a:t>
            </a:r>
            <a:br>
              <a:rPr sz="36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   IBTIDAIYAH ( SD/MI )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ATUAN PENDIDIKA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1. Satu SD/MI memiliki minimal  6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rombel, maksimal 24 rombe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2. Satu SD/MI dengan 6 rombel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melayani maksimal 2000 jiwa/pendudu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Satu kelurahan minimal dilayani oleh 1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D/M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ngkoordinir pencatatan (inventarisasi)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n pengadministrasian data barang-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ng inventaris, antara lain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Kela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Laboratorium IP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Laboratorium Komput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Ruang Guru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Ruang Kepala Sekolah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Ruang Tata Usah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Alat Kebersihan dan Tam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Alat Elektronika dan Sound Syste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Alat Dapu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Alat Olah Rag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Alat penerang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Alat dan Media Pembelajar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ventaris Alat dan Sarana kegiatan Ibadah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hab Ruang Kel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Content Placeholder 3" descr="1.JPG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3962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Content Placeholder 4" descr="IMG_4343.JPG"/>
          <p:cNvPicPr/>
          <p:nvPr/>
        </p:nvPicPr>
        <p:blipFill>
          <a:blip r:embed="rId1"/>
          <a:stretch/>
        </p:blipFill>
        <p:spPr>
          <a:xfrm>
            <a:off x="1066680" y="1066680"/>
            <a:ext cx="731520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RIMA KASI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. LAH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Ketentuan lahan untuk satu SD/MI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09480" y="2209680"/>
          <a:ext cx="8001000" cy="3813120"/>
        </p:xfrm>
        <a:graphic>
          <a:graphicData uri="http://schemas.openxmlformats.org/drawingml/2006/table">
            <a:tbl>
              <a:tblPr/>
              <a:tblGrid>
                <a:gridCol w="800280"/>
                <a:gridCol w="1301760"/>
                <a:gridCol w="2100240"/>
                <a:gridCol w="1536480"/>
                <a:gridCol w="2262240"/>
              </a:tblGrid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Romb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Rasio minimal luas lantai bangunan terhadap peserta didik (M2/peserta didik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tu lant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ua lant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ga lant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0880" y="1066680"/>
            <a:ext cx="8229600" cy="51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uas lahan dimaksud adalah luas lahan yang efektif untuk membangun prasarana sekolah berupa gedung dan tempat bermain/berolahrag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3. Lahan terhindar dari potensi bahaya kesehatan dan keselamatan, serta punya akses penyelamatan dalam kondisi darur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. Kemiringan lahan kurang dari 15%, tidak dalam garis sempadan sungai dan jalur kerata ap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erhindar dari gangguan 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. Pencemaran air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. Kebisingan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. Pencemaran udar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6. Lahan sesuai peruntukan lokas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7. Lahan memiliki status yang jela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. GEDU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Luas minimum lantai bangun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09480" y="2362320"/>
          <a:ext cx="7772400" cy="3504960"/>
        </p:xfrm>
        <a:graphic>
          <a:graphicData uri="http://schemas.openxmlformats.org/drawingml/2006/table">
            <a:tbl>
              <a:tblPr/>
              <a:tblGrid>
                <a:gridCol w="777960"/>
                <a:gridCol w="1844640"/>
                <a:gridCol w="1717920"/>
                <a:gridCol w="1715760"/>
                <a:gridCol w="1716120"/>
              </a:tblGrid>
              <a:tr h="637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Romb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Luas minimum lantai bangunan (M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tu lant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ua lant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ga lant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-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angunan gedung memenuhi ketentuan tata bangunan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3. Bangunan gedung memiliki persyaratan keselamat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. Bangunan gedung memiliki persyaratan kesehat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5. Bangunan gedung menyediakan fasilitas dan aksesibilitas yang mudah, aman dan nyam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6. Bangunan gedung dilengkapi sistem keaman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914040"/>
            <a:ext cx="8610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.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angunan gedung diengkapi instalasi listrik, daya minimum 900 watt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8. Bangunan gedung minimal permanen kelas B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9. Pemeliharaan gedung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. Pemeliharaan ring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. Pemeliharaan ber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0. Bangunan gedung memiliki ijin bangunan dan ijin penggunaa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2T06:18:34Z</dcterms:created>
  <dc:creator>Guest</dc:creator>
  <dc:description/>
  <dc:language>en-US</dc:language>
  <cp:lastModifiedBy>thussy apriliyandari</cp:lastModifiedBy>
  <dcterms:modified xsi:type="dcterms:W3CDTF">2012-12-27T10:37:27Z</dcterms:modified>
  <cp:revision>161</cp:revision>
  <dc:subject/>
  <dc:title>Slide 1</dc:title>
</cp:coreProperties>
</file>