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4.gif" ContentType="image/gi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3.gif" ContentType="image/gif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59AD-C98F-4FE5-A5AB-0FF0768B3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C038-82AE-4919-8A13-B9E02CDBA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78CB-B13F-454A-B6A0-D4960F737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F504-424F-4DFB-8008-9B658A5BC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6AEF-918D-446F-BDBC-0935EAAC7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8113-73FB-49A1-8149-6626D3533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4446-0FE8-4105-BB36-0B8A3A801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ED68-5CAA-4B81-93C4-989EEF6F3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EFC5-5CD1-43C3-8240-9C565DBF0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1D61-5406-4515-8159-C7630E71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CEEA-0A7B-415C-91FC-EEF0A72D7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729F-8846-4783-8841-3253B803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313CE-BF75-4E37-BA01-A44579B7DD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image" Target="../media/image23.gif"/><Relationship Id="rId4" Type="http://schemas.openxmlformats.org/officeDocument/2006/relationships/image" Target="../media/image24.gif"/><Relationship Id="rId5" Type="http://schemas.openxmlformats.org/officeDocument/2006/relationships/image" Target="../media/image24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021040" y="0"/>
            <a:ext cx="5143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90800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84240"/>
            <a:ext cx="9144000" cy="66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574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079640" y="-27000"/>
            <a:ext cx="687708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87632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403280" y="5921280"/>
            <a:ext cx="6337440" cy="936720"/>
          </a:xfrm>
          <a:prstGeom prst="octagon">
            <a:avLst>
              <a:gd name="adj" fmla="val 29287"/>
            </a:avLst>
          </a:prstGeom>
          <a:solidFill>
            <a:srgbClr val="ffff00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556000" y="630864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692360" y="6093000"/>
            <a:ext cx="5952960" cy="19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500" fill="hold"/>
                                        <p:tgtEl>
                                          <p:spTgt spid="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250" autoRev="1" fill="hold"/>
                                        <p:tgtEl>
                                          <p:spTgt spid="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687708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87632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87632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90800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7T09:44:37Z</dcterms:created>
  <dc:creator>User</dc:creator>
  <dc:description/>
  <dc:language>en-US</dc:language>
  <cp:lastModifiedBy>Smets</cp:lastModifiedBy>
  <dcterms:modified xsi:type="dcterms:W3CDTF">2009-05-09T05:44:41Z</dcterms:modified>
  <cp:revision>2</cp:revision>
  <dc:subject/>
  <dc:title>Slide 1</dc:title>
</cp:coreProperties>
</file>