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DED-AE0A-42ED-91EE-A612FAB7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122-0A19-43D4-B217-A1CF32B1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E06-2CCB-4B89-BCF7-603CC124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AEA-88DD-474F-98CB-26D067C5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2343-0873-48D4-9FE5-ECA568EE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5F6-CD58-48FD-9393-5ABC5667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B6E2-360B-42A0-B435-675CB067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412-C4DE-49AB-A102-9F1D3D05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FE1-F675-40B1-BD02-2E935A8C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655-030E-47BE-8202-F3EE91D9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890-9B52-486A-999D-FC359BA0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7D59-C36B-49DE-9AAA-2B916419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E92F-A2C2-4245-A6DB-753992461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210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79640" y="-2700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9:44:37Z</dcterms:created>
  <dc:creator>User</dc:creator>
  <dc:description/>
  <dc:language>en-US</dc:language>
  <cp:lastModifiedBy>Smets</cp:lastModifiedBy>
  <dcterms:modified xsi:type="dcterms:W3CDTF">2009-05-09T05:44:41Z</dcterms:modified>
  <cp:revision>2</cp:revision>
  <dc:subject/>
  <dc:title>Slide 1</dc:title>
</cp:coreProperties>
</file>