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714-3561-4B2C-8BDC-F510B212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9C4-682B-4DE6-A4C8-7EBCE00A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03C-0C3E-4E58-8144-58F7834D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093-52D3-495E-99CD-04DB4008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377-FD91-4F07-A6AC-9ECE6251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723-CE38-41EE-BB97-2D97DA24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542-F134-42BE-84E1-47D1D8E4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571-0C69-4BFD-8906-13B539A4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251-1A32-4F7D-BC2F-4F016F4C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4A5-EDC0-4AA6-B082-5E974F4C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359-CD63-47BB-8F95-D865E5DA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C4A-1B7C-47FE-8EB7-C89DF82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976C-85F1-459B-A11D-D664BD39D9A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hyperlink" Target="file:///../&#1601;&#1607;&#1585;&#1587;%20&#1575;&#1604;&#1578;&#1585;&#1575;&#1606;&#1610;&#1605;.pps" TargetMode="External"/><Relationship Id="rId5" Type="http://schemas.openxmlformats.org/officeDocument/2006/relationships/image" Target="../media/image5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1262160"/>
            <a:ext cx="567720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إلهُ المجد ملكي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482920"/>
            <a:ext cx="724680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ربُّ الحياة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ي داخلي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689280"/>
            <a:ext cx="8610480" cy="10677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كل قد وهبتني</a:t>
            </a:r>
            <a:r>
              <a:rPr b="1" lang="ar-SA" sz="6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800600"/>
            <a:ext cx="8001000" cy="10677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ي المسيح رفعتني</a:t>
            </a:r>
            <a:r>
              <a:rPr b="1" lang="en-US" sz="6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752400" y="1031760"/>
            <a:ext cx="10834560" cy="1098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لُّ القلب يباركك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2590920" y="2130480"/>
            <a:ext cx="14287680" cy="1098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لُّ الحياة ملكٌ لك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2666880" y="3228840"/>
            <a:ext cx="14287320" cy="1098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مري أحياه لمجدك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752480" y="4371840"/>
            <a:ext cx="1226808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شدو لك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..</a:t>
            </a:r>
            <a:r>
              <a:rPr b="1" lang="ar-SA" sz="66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لك وحدك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لأبد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نـــا ل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ل القلب يبارك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92">
            <a:hlinkClick r:id="rId4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اله المجد ملك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8T08:50:51Z</dcterms:created>
  <dc:creator/>
  <dc:description/>
  <dc:language>en-US</dc:language>
  <cp:lastModifiedBy>Sp2</cp:lastModifiedBy>
  <dcterms:modified xsi:type="dcterms:W3CDTF">2008-09-02T13:29:20Z</dcterms:modified>
  <cp:revision>69</cp:revision>
  <dc:subject/>
  <dc:title>عرض تقديمي من PowerPoint</dc:title>
</cp:coreProperties>
</file>