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A05-A919-4E58-B2D1-F939527B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A7A-E1E5-4F2B-AAEC-9002B2D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934-817C-4AB3-A53A-ABF71846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34B-B6BE-46CA-BF16-34B1BC75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300-717A-40AA-B290-322DC120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394-8EBC-4CE1-B647-2CB02C6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189-A1D6-4E73-9992-ADD863B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A7C-5BF1-401B-8E00-59C6254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B5A-B30A-43E6-A6A5-64F1FF7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8AE-29A8-4336-806B-BAC3F19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7C4-0B5E-438A-8AD6-E7174C39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3AF-FEB1-474F-B0DC-76174478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5DE-4680-4A88-AA39-ED3E4A5F871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hyperlink" Target="file:///../&#1601;&#1607;&#1585;&#1587;%20&#1575;&#1604;&#1578;&#1585;&#1575;&#1606;&#1610;&#1605;.pps" TargetMode="External"/><Relationship Id="rId5" Type="http://schemas.openxmlformats.org/officeDocument/2006/relationships/image" Target="../media/image5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262160"/>
            <a:ext cx="567720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لهُ المجد ملك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82920"/>
            <a:ext cx="724680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ربُّ الحياة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ي داخلي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689280"/>
            <a:ext cx="8610480" cy="10677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كل قد وهبتني</a:t>
            </a:r>
            <a:r>
              <a:rPr b="1" lang="ar-SA" sz="6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00600"/>
            <a:ext cx="8001000" cy="10677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ي المسيح رفعتني</a:t>
            </a:r>
            <a:r>
              <a:rPr b="1" lang="en-US" sz="6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752400" y="1031760"/>
            <a:ext cx="1083456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ُّ القلب يبارك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2590920" y="2130480"/>
            <a:ext cx="1428768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ُّ الحياة ملكٌ ل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666880" y="3228840"/>
            <a:ext cx="14287320" cy="109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ري أحياه لمجد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752480" y="4371840"/>
            <a:ext cx="1226808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شدو لك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.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ك وحدك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بد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نـــا ل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ل القلب يبارك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اله المجد ملك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08:50:51Z</dcterms:created>
  <dc:creator/>
  <dc:description/>
  <dc:language>en-US</dc:language>
  <cp:lastModifiedBy>Sp2</cp:lastModifiedBy>
  <dcterms:modified xsi:type="dcterms:W3CDTF">2008-09-02T13:29:20Z</dcterms:modified>
  <cp:revision>69</cp:revision>
  <dc:subject/>
  <dc:title>عرض تقديمي من PowerPoint</dc:title>
</cp:coreProperties>
</file>