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6FF-1568-4BEB-B2D9-1F40E68C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503-329A-43FF-AC81-07C6FAC0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4840-BCC1-4DF3-BDCB-4E8EC6D9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198D-2B6D-405D-818C-DECBFC04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0935-EBF3-49ED-983A-4ACC92FE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240-BB61-406C-8EB2-FA59717C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39D-2FBC-44A2-BDF0-F3C087F5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4C35-3BA9-4523-9703-43F893CE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54C-0C9A-4171-A1A6-BAB42448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7B6-88A5-4BE7-95C3-6261A7EE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0A4-11B4-4DE9-AA92-E1736F3C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5DB-FC90-46E9-9125-E1131708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DBA22-0811-453D-B1AF-010F3CBC9DE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88AD6-8C2B-4716-9495-C48371AF4C66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2:53:29Z</dcterms:created>
  <dc:creator>최봉수</dc:creator>
  <dc:description/>
  <dc:language>en-US</dc:language>
  <cp:lastModifiedBy>맛있다 군만두</cp:lastModifiedBy>
  <dcterms:modified xsi:type="dcterms:W3CDTF">2024-09-24T08:00:00Z</dcterms:modified>
  <cp:revision>3</cp:revision>
  <dc:subject/>
  <dc:title>슬라이드 1</dc:title>
</cp:coreProperties>
</file>