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C16-1D24-4AAF-8A3D-C287D456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CA7-0DC7-40EC-A4F6-1692A14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08C-DA80-4743-B5D4-7888886E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B72-D997-4D0B-ABCC-474F5951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75A-5B25-4F34-8E60-4B0DEDDC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D57-B813-4DF5-BCE4-75B4FA06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5A9-8DC9-4F13-A8E5-B60FB938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0A0-03FC-4799-9A82-B75386B9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B7A-A760-47FD-8FCD-463E0F10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DD3-E234-4ACA-9216-AB5B21F6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A94-A582-41ED-872C-5A6112D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B56-FF3C-4094-8E4F-4F8F5F32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BFE16-579A-4005-93CD-821112782F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05A42-6AA9-48B6-91B3-DD77B9097C6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2:53:29Z</dcterms:created>
  <dc:creator>최봉수</dc:creator>
  <dc:description/>
  <dc:language>en-US</dc:language>
  <cp:lastModifiedBy>맛있다 군만두</cp:lastModifiedBy>
  <dcterms:modified xsi:type="dcterms:W3CDTF">2024-09-24T08:00:00Z</dcterms:modified>
  <cp:revision>3</cp:revision>
  <dc:subject/>
  <dc:title>슬라이드 1</dc:title>
</cp:coreProperties>
</file>