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14.png" ContentType="image/png"/>
  <Override PartName="/ppt/media/image13.jpeg" ContentType="image/jpeg"/>
  <Override PartName="/ppt/media/image28.jpeg" ContentType="image/jpeg"/>
  <Override PartName="/ppt/media/image27.gif" ContentType="image/gif"/>
  <Override PartName="/ppt/media/image18.png" ContentType="image/png"/>
  <Override PartName="/ppt/media/image6.jpeg" ContentType="image/jpeg"/>
  <Override PartName="/ppt/media/image39.jpeg" ContentType="image/jpeg"/>
  <Override PartName="/ppt/media/image8.png" ContentType="image/png"/>
  <Override PartName="/ppt/media/image30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31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5.jpeg" ContentType="image/jpeg"/>
  <Override PartName="/ppt/media/image15.gif" ContentType="image/gif"/>
  <Override PartName="/ppt/media/image36.png" ContentType="image/png"/>
  <Override PartName="/ppt/media/image37.jpeg" ContentType="image/jpeg"/>
  <Override PartName="/ppt/media/image41.gif" ContentType="image/gif"/>
  <Override PartName="/ppt/media/Wilma%20%20+%20%20Een%20Klein%20Boeketje%20Bloemen%20-%202.57m.wav" ContentType="audio/x-wav"/>
  <Override PartName="/ppt/media/image12.jpeg" ContentType="image/jpeg"/>
  <Override PartName="/ppt/media/image33.jpeg" ContentType="image/jpeg"/>
  <Override PartName="/ppt/media/image4.gif" ContentType="image/gif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0.gif" ContentType="image/gif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EBF-51B7-4A76-92EF-45D25CA9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0E6-6341-4ED3-9654-2A5C4541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D1E-BEA5-4536-9B78-5231935C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74E-0CCB-49D5-9004-2D16946C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71D-5F23-42C3-B0AE-A6B089FB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D1F-7CD7-41F3-9D20-B231F897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700-654F-4526-BF4A-193822B1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43F-B90B-4681-AAAC-F5898474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0A1-5F45-4E51-8B83-0C675794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8EF-D842-4472-9FF0-0D98680C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971-45E2-4639-859A-A740DDD3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CBB-8F53-4015-A081-477C1663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0E8A-C965-4FE8-9FFC-BBE48DFE8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Wilma%20%20+%20%20Een%20Klein%20Boeketje%20Bloemen%20-%202.57m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1.gif"/><Relationship Id="rId8" Type="http://schemas.openxmlformats.org/officeDocument/2006/relationships/image" Target="../media/image41.gi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image" Target="../media/image25.png"/><Relationship Id="rId14" Type="http://schemas.openxmlformats.org/officeDocument/2006/relationships/image" Target="../media/image24.jpeg"/><Relationship Id="rId15" Type="http://schemas.openxmlformats.org/officeDocument/2006/relationships/image" Target="../media/image25.png"/><Relationship Id="rId1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7.gif"/><Relationship Id="rId1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30.gif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nl-BE" sz="8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0" lang="nl-BE" sz="2400" spc="-1" strike="noStrike">
                <a:solidFill>
                  <a:srgbClr val="a50021"/>
                </a:solidFill>
                <a:latin typeface="Monotype Corsiva"/>
              </a:rPr>
              <a:t>09-09-2006</a:t>
            </a:r>
            <a:br>
              <a:rPr sz="2400"/>
            </a:br>
            <a:r>
              <a:rPr b="0" lang="nl-BE" sz="8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0" lang="nl-BE" sz="9600" spc="-1" strike="noStrike">
                <a:solidFill>
                  <a:srgbClr val="a50021"/>
                </a:solidFill>
                <a:latin typeface="Monotype Corsiva"/>
              </a:rPr>
              <a:t>Powerpoint</a:t>
            </a:r>
            <a:r>
              <a:rPr b="0" lang="nl-BE" sz="8000" spc="-1" strike="noStrike">
                <a:solidFill>
                  <a:srgbClr val="a50021"/>
                </a:solidFill>
                <a:latin typeface="Monotype Corsiva"/>
              </a:rPr>
              <a:t> </a:t>
            </a:r>
            <a:br>
              <a:rPr sz="8000"/>
            </a:br>
            <a:br>
              <a:rPr sz="4000"/>
            </a:br>
            <a:br>
              <a:rPr sz="4000"/>
            </a:br>
            <a:r>
              <a:rPr b="0" lang="nl-BE" sz="4000" spc="-1" strike="noStrike">
                <a:solidFill>
                  <a:srgbClr val="a50021"/>
                </a:solidFill>
                <a:latin typeface="Monotype Corsiva"/>
              </a:rPr>
              <a:t>                                         </a:t>
            </a:r>
            <a:r>
              <a:rPr b="0" lang="nl-BE" sz="2400" spc="-1" strike="noStrike">
                <a:solidFill>
                  <a:srgbClr val="a50021"/>
                </a:solidFill>
                <a:latin typeface="Monotype Corsiva"/>
              </a:rPr>
              <a:t>Vansteenwegen Monique</a:t>
            </a:r>
            <a:br>
              <a:rPr sz="24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a50021"/>
                </a:solidFill>
                <a:latin typeface="Monotype Corsiva"/>
              </a:rPr>
              <a:t>presentee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3429000"/>
            <a:ext cx="30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a50021"/>
                </a:solidFill>
                <a:latin typeface="Monotype Corsiva"/>
              </a:rPr>
              <a:t>Wilma: Een klein boeketje blo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1457280" cy="628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161928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890800" cy="292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  <p:sndAc>
      <p:stSnd>
        <p:snd r:embed="rId5" name="Wilma%20%20+%20%20Een%20Klein%20Boeketje%20Bloemen%20-%202.57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8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44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900" spc="-1" strike="noStrike">
                <a:solidFill>
                  <a:srgbClr val="a50021"/>
                </a:solidFill>
                <a:latin typeface="Monotype Corsiva"/>
              </a:rPr>
              <a:t>EINDE</a:t>
            </a:r>
            <a:endParaRPr b="0" lang="en-US" sz="129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413000"/>
            <a:ext cx="1512720" cy="2087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720" y="1413000"/>
            <a:ext cx="1512720" cy="2087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1052640"/>
            <a:ext cx="3600360" cy="2592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diamond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400"/>
                            </p:stCondLst>
                            <p:childTnLst>
                              <p:par>
                                <p:cTn id="4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9366E-007 L -0.30711 -0.02082 E">
                                      <p:cBhvr>
                                        <p:cTn id="48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40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9.41476E-007 L 0.29931 -9.41476E-007 E">
                                      <p:cBhvr>
                                        <p:cTn id="49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400"/>
                            </p:stCondLst>
                            <p:childTnLst>
                              <p:par>
                                <p:cTn id="4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400"/>
                            </p:stCondLst>
                            <p:childTnLst>
                              <p:par>
                                <p:cTn id="50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5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boeketje.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3384720" cy="327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627280" y="1413000"/>
            <a:ext cx="3456000" cy="315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627280" y="1341360"/>
            <a:ext cx="3233880" cy="323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627280" y="1341360"/>
            <a:ext cx="3384720" cy="319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2627280" y="1413000"/>
            <a:ext cx="3457440" cy="321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268360" y="4797360"/>
            <a:ext cx="419112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7280" y="1341360"/>
            <a:ext cx="3457440" cy="3240000"/>
          </a:xfrm>
          <a:prstGeom prst="rect">
            <a:avLst/>
          </a:prstGeom>
          <a:noFill/>
          <a:ln w="1015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Willekeurig pluk ik bloem na bloem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>
            <a:grayscl/>
          </a:blip>
          <a:srcRect l="4729" t="6777" r="4540" b="6206"/>
          <a:stretch/>
        </p:blipFill>
        <p:spPr>
          <a:xfrm>
            <a:off x="179280" y="189000"/>
            <a:ext cx="2880000" cy="1919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6443640" y="11592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276720" y="198900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00720" y="0"/>
            <a:ext cx="0" cy="280836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0"/>
            <a:ext cx="0" cy="280836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2276640"/>
            <a:ext cx="28432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1916280"/>
            <a:ext cx="0" cy="244944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76640"/>
            <a:ext cx="320364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1916280"/>
            <a:ext cx="0" cy="244944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4365720"/>
            <a:ext cx="30970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1844640"/>
            <a:ext cx="309708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rcRect l="4729" t="6777" r="4540" b="6206"/>
          <a:stretch/>
        </p:blipFill>
        <p:spPr>
          <a:xfrm>
            <a:off x="179280" y="189000"/>
            <a:ext cx="2880000" cy="1919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443640" y="11592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276720" y="198900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276720" y="476280"/>
            <a:ext cx="2933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564000" y="4653000"/>
            <a:ext cx="5391000" cy="581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0" y="4653000"/>
            <a:ext cx="5391000" cy="5810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9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9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9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9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90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9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132000" y="1515960"/>
            <a:ext cx="3311640" cy="2417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madeliefje voor wat geluk,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132000" y="1515960"/>
            <a:ext cx="3311640" cy="241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132000" y="1484280"/>
            <a:ext cx="3311640" cy="2432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3311640" cy="2432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843280" y="404640"/>
            <a:ext cx="3533760" cy="524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4716360" y="4005360"/>
            <a:ext cx="4143600" cy="89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395280" y="4005360"/>
            <a:ext cx="4143240" cy="89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32000" y="1557360"/>
            <a:ext cx="3311640" cy="237636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omb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75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zonnebloem voor wat zonnige dagen,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975280" cy="4537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92360" y="260280"/>
            <a:ext cx="5976720" cy="4519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4729" t="6804" r="4540" b="6179"/>
          <a:stretch/>
        </p:blipFill>
        <p:spPr>
          <a:xfrm>
            <a:off x="1692360" y="260280"/>
            <a:ext cx="5976720" cy="453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333360"/>
            <a:ext cx="5975280" cy="4464000"/>
          </a:xfrm>
          <a:prstGeom prst="rect">
            <a:avLst/>
          </a:prstGeom>
          <a:noFill/>
          <a:ln w="1015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roos voor wat passie en liefde,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3637080" cy="272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2000" y="1341360"/>
            <a:ext cx="792000" cy="79236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2637000"/>
            <a:ext cx="792000" cy="79200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000"/>
              <a:gd name="textAreaBottom" fmla="*/ 496800 h 79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260280"/>
            <a:ext cx="792360" cy="792360"/>
          </a:xfrm>
          <a:custGeom>
            <a:avLst/>
            <a:gdLst>
              <a:gd name="textAreaLeft" fmla="*/ 186120 w 792360"/>
              <a:gd name="textAreaRight" fmla="*/ 605520 w 792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60280"/>
            <a:ext cx="792000" cy="79236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3573360"/>
            <a:ext cx="792360" cy="792360"/>
          </a:xfrm>
          <a:custGeom>
            <a:avLst/>
            <a:gdLst>
              <a:gd name="textAreaLeft" fmla="*/ 186120 w 792360"/>
              <a:gd name="textAreaRight" fmla="*/ 605520 w 792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4581360"/>
            <a:ext cx="792360" cy="792360"/>
          </a:xfrm>
          <a:custGeom>
            <a:avLst/>
            <a:gdLst>
              <a:gd name="textAreaLeft" fmla="*/ 186120 w 792360"/>
              <a:gd name="textAreaRight" fmla="*/ 605520 w 792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37000"/>
            <a:ext cx="792000" cy="79200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000"/>
              <a:gd name="textAreaBottom" fmla="*/ 496800 h 79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1341360"/>
            <a:ext cx="792000" cy="79236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260280"/>
            <a:ext cx="792360" cy="792360"/>
          </a:xfrm>
          <a:custGeom>
            <a:avLst/>
            <a:gdLst>
              <a:gd name="textAreaLeft" fmla="*/ 186120 w 792360"/>
              <a:gd name="textAreaRight" fmla="*/ 605520 w 79236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3716280"/>
            <a:ext cx="792000" cy="792360"/>
          </a:xfrm>
          <a:custGeom>
            <a:avLst/>
            <a:gdLst>
              <a:gd name="textAreaLeft" fmla="*/ 186120 w 792000"/>
              <a:gd name="textAreaRight" fmla="*/ 605520 w 792000"/>
              <a:gd name="textAreaTop" fmla="*/ 92880 h 792360"/>
              <a:gd name="textAreaBottom" fmla="*/ 497160 h 79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324000" y="3068640"/>
            <a:ext cx="466560" cy="338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40000" y="981000"/>
            <a:ext cx="4103640" cy="3456000"/>
          </a:xfrm>
          <a:custGeom>
            <a:avLst/>
            <a:gdLst>
              <a:gd name="textAreaLeft" fmla="*/ 964440 w 4103640"/>
              <a:gd name="textAreaRight" fmla="*/ 3136320 w 4103640"/>
              <a:gd name="textAreaTop" fmla="*/ 406080 h 3456000"/>
              <a:gd name="textAreaBottom" fmla="*/ 2167920 h 345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>
            <a:off x="8317080" y="3068640"/>
            <a:ext cx="46656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newsflash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9.41476E-007 L -5.55556E-007 0.27272 E">
                                      <p:cBhvr>
                                        <p:cTn id="30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9.41476E-007 L 0.18907 0.2519 E">
                                      <p:cBhvr>
                                        <p:cTn id="31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9366E-007 L -0.18906 0.2519 E">
                                      <p:cBhvr>
                                        <p:cTn id="31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9.62063E-006 L 0.29132 0.0946 E">
                                      <p:cBhvr>
                                        <p:cTn id="31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9.62063E-006 L -0.2835 0.0946 E">
                                      <p:cBhvr>
                                        <p:cTn id="31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2743E-007 L 0.25989 -0.07333 E">
                                      <p:cBhvr>
                                        <p:cTn id="31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2743E-007 L -0.2677 -0.07333 E">
                                      <p:cBhvr>
                                        <p:cTn id="32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2743E-007 L 0.16528 -0.20981 E">
                                      <p:cBhvr>
                                        <p:cTn id="32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50359E-006 L -0.16527 -0.23086 E">
                                      <p:cBhvr>
                                        <p:cTn id="32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9.41476E-007 L -5.55556E-007 -0.34629 E">
                                      <p:cBhvr>
                                        <p:cTn id="32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3800"/>
                            </p:stCondLst>
                            <p:childTnLst>
                              <p:par>
                                <p:cTn id="3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een lelie voor wat hoop.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1484280"/>
            <a:ext cx="2879640" cy="273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1341360"/>
            <a:ext cx="136872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95280" y="1341360"/>
            <a:ext cx="136836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51280" y="3283920"/>
            <a:ext cx="136836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3851280" y="-603000"/>
            <a:ext cx="1368360" cy="29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1700280"/>
            <a:ext cx="2447640" cy="23050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1916280"/>
            <a:ext cx="2016360" cy="18730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2133720"/>
            <a:ext cx="1584360" cy="14382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179280" y="5516640"/>
            <a:ext cx="2190960" cy="7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2556000" y="5516640"/>
            <a:ext cx="2190600" cy="7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4500720" y="5516640"/>
            <a:ext cx="2190600" cy="75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6659640" y="5445000"/>
            <a:ext cx="2190600" cy="76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000"/>
                            </p:stCondLst>
                            <p:childTnLst>
                              <p:par>
                                <p:cTn id="36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70000" contrast="-70000"/>
          </a:blip>
          <a:srcRect l="0" t="0" r="0" b="8646"/>
          <a:stretch/>
        </p:blipFill>
        <p:spPr>
          <a:xfrm>
            <a:off x="1835280" y="692280"/>
            <a:ext cx="6095880" cy="41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grayscl/>
          </a:blip>
          <a:srcRect l="1193" t="837" r="0" b="9285"/>
          <a:stretch/>
        </p:blipFill>
        <p:spPr>
          <a:xfrm>
            <a:off x="1908000" y="765000"/>
            <a:ext cx="6046920" cy="4104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Zo een boeketje voor alle dagen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rcRect l="0" t="837" r="0" b="9285"/>
          <a:stretch/>
        </p:blipFill>
        <p:spPr>
          <a:xfrm>
            <a:off x="1835280" y="765000"/>
            <a:ext cx="6119640" cy="410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35280" y="692280"/>
            <a:ext cx="6121440" cy="4176720"/>
          </a:xfrm>
          <a:prstGeom prst="rect">
            <a:avLst/>
          </a:pr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443640" y="5157720"/>
            <a:ext cx="2476440" cy="32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68360" y="836640"/>
            <a:ext cx="79992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a50021"/>
                </a:solidFill>
                <a:latin typeface="Monotype Corsiva"/>
              </a:rPr>
              <a:t>wat een mooi cadeau!</a:t>
            </a:r>
            <a:endParaRPr b="0" lang="en-US" sz="4400" spc="-1" strike="noStrike">
              <a:solidFill>
                <a:srgbClr val="a50021"/>
              </a:solidFill>
              <a:latin typeface="Monotype Corsi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715000" cy="4048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1869" t="2653" r="2076" b="2071"/>
          <a:stretch/>
        </p:blipFill>
        <p:spPr>
          <a:xfrm>
            <a:off x="1763640" y="1052640"/>
            <a:ext cx="5688000" cy="401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973" t="2607" r="757" b="2464"/>
          <a:stretch/>
        </p:blipFill>
        <p:spPr>
          <a:xfrm>
            <a:off x="1763640" y="1022400"/>
            <a:ext cx="5688000" cy="4046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rcRect l="973" t="1182" r="1734" b="949"/>
          <a:stretch/>
        </p:blipFill>
        <p:spPr>
          <a:xfrm>
            <a:off x="1763640" y="1052640"/>
            <a:ext cx="5688000" cy="3935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63640" y="1052640"/>
            <a:ext cx="5688000" cy="4032000"/>
          </a:xfrm>
          <a:prstGeom prst="rect">
            <a:avLst/>
          </a:prstGeom>
          <a:noFill/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58920" y="0"/>
            <a:ext cx="6667560" cy="1104840"/>
          </a:xfrm>
          <a:prstGeom prst="rect">
            <a:avLst/>
          </a:prstGeom>
          <a:ln w="0">
            <a:noFill/>
          </a:ln>
        </p:spPr>
      </p:pic>
    </p:spTree>
  </p:cSld>
  <p:transition spd="slow" advTm="35000">
    <p:circl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xit" presetID="20">
                                  <p:stCondLst>
                                    <p:cond delay="15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3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1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xit" presetID="6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15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3" nodeType="afterEffect" fill="hold" presetClass="exit" presetID="5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8500"/>
                            </p:stCondLst>
                            <p:childTnLst>
                              <p:par>
                                <p:cTn id="457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4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2:45:34Z</dcterms:created>
  <dc:creator>Vansteenwegen Monique</dc:creator>
  <dc:description/>
  <dc:language>en-US</dc:language>
  <cp:lastModifiedBy>Smets</cp:lastModifiedBy>
  <dcterms:modified xsi:type="dcterms:W3CDTF">2010-01-17T06:03:29Z</dcterms:modified>
  <cp:revision>3</cp:revision>
  <dc:subject/>
  <dc:title>  09-09-2006  Powerpoint                                             Vansteenwegen Monique    </dc:title>
</cp:coreProperties>
</file>