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9B5-C268-4BF6-8854-4901BB8A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E6C-012E-4511-91C5-8ADEAEEE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32F-A8BA-45BE-8934-A2377AE9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129-8A6A-433F-98AC-2814295C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7AF-AF5E-4F03-B162-50071EE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378-168C-42A5-A091-BAB7AE4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522-2CCD-447C-9C49-0A490B5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0B0-1084-4A66-BA1E-2BDE22A9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BA2-4E48-4D2D-AC9F-2B5BAFA4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B8F-2A05-4126-8167-062BCDB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5AD-A286-4DCF-BEA2-C8167A21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15C-2C3B-43B7-A034-EC74F57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1E000-A64B-411E-AB34-FC301F4ED6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"/>
          <p:cNvPicPr/>
          <p:nvPr/>
        </p:nvPicPr>
        <p:blipFill>
          <a:blip r:embed="rId1"/>
          <a:srcRect l="0" t="0" r="1574" b="35958"/>
          <a:stretch/>
        </p:blipFill>
        <p:spPr>
          <a:xfrm>
            <a:off x="1055520" y="309600"/>
            <a:ext cx="10080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4:44:57Z</dcterms:created>
  <dc:creator>최봉수</dc:creator>
  <dc:description/>
  <dc:language>en-US</dc:language>
  <cp:lastModifiedBy>맛있다 군만두</cp:lastModifiedBy>
  <dcterms:modified xsi:type="dcterms:W3CDTF">2023-07-13T07:17:50Z</dcterms:modified>
  <cp:revision>14</cp:revision>
  <dc:subject/>
  <dc:title>슬라이드 1</dc:title>
</cp:coreProperties>
</file>