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E4B-079B-4CE3-9A3F-6FEE96EA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C5A9-A56C-4598-BA12-06C9D452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0EA1-9F22-45F9-832B-5844B5EF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EF68-C00B-4DA9-B628-589684C4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08E-6EED-4269-A855-019EF7CA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2DF-1C8E-4690-905B-B5904ACC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309-CEBF-4C56-9A6D-5DEBA391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F5A4-95E1-4CC7-B065-F2CE4AE2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F65-2D65-4667-AA4B-144DDC0B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4D7-48ED-4D51-9AEF-E3FA33A6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F133-3DF6-4A4D-8ED9-2BD78EEB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7B8-021B-4F8C-8337-80FBEB70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1690D-BEE5-423A-878A-BA20AD9AE50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"/>
          <p:cNvPicPr/>
          <p:nvPr/>
        </p:nvPicPr>
        <p:blipFill>
          <a:blip r:embed="rId1"/>
          <a:srcRect l="0" t="0" r="1574" b="35958"/>
          <a:stretch/>
        </p:blipFill>
        <p:spPr>
          <a:xfrm>
            <a:off x="1055520" y="309600"/>
            <a:ext cx="100807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4:44:57Z</dcterms:created>
  <dc:creator>최봉수</dc:creator>
  <dc:description/>
  <dc:language>en-US</dc:language>
  <cp:lastModifiedBy>맛있다 군만두</cp:lastModifiedBy>
  <dcterms:modified xsi:type="dcterms:W3CDTF">2023-07-13T07:17:50Z</dcterms:modified>
  <cp:revision>14</cp:revision>
  <dc:subject/>
  <dc:title>슬라이드 1</dc:title>
</cp:coreProperties>
</file>