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6704-95F6-4233-810F-C025D001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A2ED-B96A-405A-8F7D-7B1543EA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9EE-89AB-40D2-84C6-C85CDCF6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B032-FA32-44A8-B280-58C60F8F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78BC-AC11-4339-AD05-1B5A31E6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BE2C-BBD7-4E5B-BF08-C01F6509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B71A-DA51-49D6-94CA-73A253DC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D7B9-CABC-4800-9CDD-A96C32D5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47B3-D31E-4C9D-81CD-4A6D65AE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2A0A-76A4-4C0D-A3C2-934A5C6A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4764-A326-4776-B994-686D91CA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B74-568A-4EEF-93D3-32C97D5B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B743-DD15-4B86-BAD4-42F1822E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7861-1C58-46F8-9A49-3287C80B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36E4-D1B6-47AD-BC6B-0E8E9C3F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A86B-DA19-4CE3-9A94-70AE1CD8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D3AC-6086-4304-9090-B54BC657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3BC-A9D6-4C18-9EAC-28E80663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E21-6677-4879-87B5-73B4426B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CF3-BA21-441F-9A02-2BEE6D57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61D-3C45-42E2-8C49-35F4FBB2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3B5-7420-467D-A0ED-5CFE73A3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28F-DA72-4FCB-AB5B-96CAFA3B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A59-85C5-45D7-94BD-1F5CD642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49B8-ED46-466C-BCD7-A25ED941B55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1BDA-84C0-411D-8A1C-9EAB96E0EF5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udentconsult.com/content/bookcontent.cfm?ID=C0159781416031215&amp;channel=toc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RESPIRATORY SYSTEM</a:t>
            </a:r>
            <a:br>
              <a:rPr sz="5400"/>
            </a:br>
            <a:br>
              <a:rPr sz="5400"/>
            </a:br>
            <a:br>
              <a:rPr sz="3200"/>
            </a:br>
            <a:r>
              <a:rPr b="1" lang="en-US" sz="2700" spc="-1" strike="noStrike">
                <a:solidFill>
                  <a:srgbClr val="ccff66"/>
                </a:solidFill>
                <a:latin typeface="Garamond"/>
              </a:rPr>
              <a:t>Department of Anatomic Pathology</a:t>
            </a:r>
            <a:br>
              <a:rPr sz="2700"/>
            </a:br>
            <a:r>
              <a:rPr b="1" lang="en-US" sz="2700" spc="-1" strike="noStrike">
                <a:solidFill>
                  <a:srgbClr val="ccff66"/>
                </a:solidFill>
                <a:latin typeface="Garamond"/>
              </a:rPr>
              <a:t>Faculty of Medicine</a:t>
            </a:r>
            <a:br>
              <a:rPr sz="2700"/>
            </a:br>
            <a:r>
              <a:rPr b="1" lang="en-US" sz="2700" spc="-1" strike="noStrike">
                <a:solidFill>
                  <a:srgbClr val="ccff66"/>
                </a:solidFill>
                <a:latin typeface="Garamond"/>
              </a:rPr>
              <a:t>Brawijaya University</a:t>
            </a:r>
            <a:br>
              <a:rPr sz="2700"/>
            </a:br>
            <a:endParaRPr b="1" lang="en-US" sz="27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380880" y="685800"/>
            <a:ext cx="830592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Garamond"/>
              </a:rPr>
              <a:t>Emphysema :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Condition of the lung characterized by irreversible enlargement of the airspaces distal to the terminal bronchiole, accompanied by destruction of their walls without obvious fibrosi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80880" y="457200"/>
            <a:ext cx="8763120" cy="69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Types of Emphysem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(according to its </a:t>
            </a:r>
            <a:r>
              <a:rPr b="0" i="1" lang="en-US" sz="3200" spc="-1" strike="noStrike">
                <a:solidFill>
                  <a:srgbClr val="ffff00"/>
                </a:solidFill>
                <a:latin typeface="Garamond"/>
              </a:rPr>
              <a:t>anatomic distribution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within the lobul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Four major types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(1)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Centriacinar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(centrilobular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(2)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Panacinar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(panlobular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(3)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Paraseptal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(distal acinar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(4)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Irregular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ntriacinar  and panacinar cause clinicall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gnificant airflow obstruc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Centriacinar emphysema  : &gt; 95% of cas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532080" y="609480"/>
            <a:ext cx="3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457200"/>
            <a:ext cx="9144000" cy="84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Centriacinar  Emphyse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The central or proximal parts of the acini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formed by respiratory bronchioles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are affected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whereas distal alveoli are spared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&gt; severe in upper lobes, particularly apical seg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Walls of the emphysematous spaces 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lack pigment (++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Inflammation around bronchi and bronchioles (+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Sever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stal acinus may also be involve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iation from panacinar emphysema : difficul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&gt;&gt; in heavy smokers, often in association wi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bronchi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380880" y="533520"/>
            <a:ext cx="8382240" cy="78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Panacinar Emphyse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The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acini are uniformly enlarged from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level of the respiratory bronchiole to the terminal blind alveol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The prefix "pan" refers to the entire acin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not to the entire l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Tends to occur more commonly in the l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nes and in the anterior margins of the lung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usually most severe at the ba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Associated with α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antitrypsin 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AT) deficienc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380880" y="457200"/>
            <a:ext cx="8534520" cy="9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Paraseptal Emphyse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The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proximal portion of the acinus is normal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and the distal part is predominantly involv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More striking adjacent to the pleura, along t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bular connective tissue septa, and at t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gins of the lobul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Occurs adjacent to areas of fibrosis, scarring, 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electasis and is usually more severe in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pper half of the lung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Multiple, continuous, enlarged airspaces fro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&lt; 0.5 cm to &gt; 2.0 cm in diameter, someti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ing cystlike structu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685800" y="1371600"/>
            <a:ext cx="80010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Irregular Emphysema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(Airspace Enlargement with Fibrosi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The acinus is irregularly involved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almost invariably associated with scar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In most instances, are asymptomat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clinically insignifica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fig 16-8a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32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04920" y="533520"/>
            <a:ext cx="8458200" cy="75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Other forms of emphys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ompensatory Hyperinflation /Emphyse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- Dilation of alveoli but not destruction of sep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walls in response to loss of lung subst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lsewhe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Obstructive Overinf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aused by subtotal obstruction by a tumor 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eign obj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380880" y="228600"/>
            <a:ext cx="861084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ullous Emphyse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Large subpleural blebs or bullae ( Ø &gt;1 cm 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Occur in any form of emphysem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Occur near the apex, sometimes in relation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ld tuberculous scarr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Sometimes : ruptur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neumothora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Interstitial Emphysem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Entrance of air into connective tissue stro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 the lung, mediastinum, or subcutaneous tiss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Caused by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alveolar tears in pulmonary emphysem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fractured rib that punctures the lu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380880" y="685800"/>
            <a:ext cx="8229600" cy="84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Pathogenes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# The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protease-antiprotease imbalance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hypothes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Genetic deficiency of the antiprotease α1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itrypsin (normally present in serum, tiss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uids, and macrophages, a major inhibitor o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teases particularly elastas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Activated neutrophils (in smokers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OS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activation of α1-antitryps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astase activity ↑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issue damag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lmonary emphysema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1219320" y="990720"/>
            <a:ext cx="6095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RESPIRATORY SYSTE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66ff33"/>
                </a:solidFill>
                <a:latin typeface="Garamond"/>
                <a:ea typeface="Times New Roman"/>
              </a:rPr>
              <a:t>Atelectasi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66ff33"/>
                </a:solidFill>
                <a:latin typeface="Garamond"/>
              </a:rPr>
              <a:t>Emphysem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66ff33"/>
                </a:solidFill>
                <a:latin typeface="Garamond"/>
              </a:rPr>
              <a:t>Pulmonary Tuberculosi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66ff33"/>
                </a:solidFill>
                <a:latin typeface="Garamond"/>
              </a:rPr>
              <a:t>Lung Canc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228600" y="228600"/>
            <a:ext cx="89154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# Smo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Garamond"/>
              </a:rPr>
              <a:t>* Neutrophils and macrophages accumulate in alveoli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hemoattractant effects of nicoti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Effects of ROS (free radicals) contained in smo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vated neutrophils /macrophag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teases (elastase, etc) rel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ssue dam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* </a:t>
            </a:r>
            <a:r>
              <a:rPr b="0" i="1" lang="en-US" sz="3200" spc="-1" strike="noStrike">
                <a:solidFill>
                  <a:srgbClr val="66ff33"/>
                </a:solidFill>
                <a:latin typeface="Garamond"/>
              </a:rPr>
              <a:t>Oxidant-antioxidant imbal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Tobacco smoke  : ROS/free radicals (++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plete antioxidant mechanis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ssue damag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66ff33"/>
                </a:solidFill>
                <a:latin typeface="Garamond"/>
              </a:rPr>
              <a:t>* Activated neutrophils </a:t>
            </a:r>
            <a:r>
              <a:rPr b="0" i="1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66ff33"/>
                </a:solidFill>
                <a:latin typeface="Garamond"/>
              </a:rPr>
              <a:t> ROS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activation of α1-antitryps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fig 16-10"/>
          <p:cNvPicPr/>
          <p:nvPr/>
        </p:nvPicPr>
        <p:blipFill>
          <a:blip r:embed="rId1"/>
          <a:stretch/>
        </p:blipFill>
        <p:spPr>
          <a:xfrm>
            <a:off x="1371600" y="457200"/>
            <a:ext cx="6629400" cy="579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15"/>
          <p:cNvPicPr/>
          <p:nvPr/>
        </p:nvPicPr>
        <p:blipFill>
          <a:blip r:embed="rId1"/>
          <a:stretch/>
        </p:blipFill>
        <p:spPr>
          <a:xfrm>
            <a:off x="0" y="746280"/>
            <a:ext cx="9144000" cy="549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533520" y="609480"/>
            <a:ext cx="78483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Clinical course 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ppear  if &gt;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  <a:ea typeface="Times New Roman"/>
              </a:rPr>
              <a:t>⅓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of pulmonary parenchyma is damag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yspne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oug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Wheezin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fused with asthm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ight los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Barrel-ches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iratory airflow limi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st measured through spiromet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the key to diagnosis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162400" cy="614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950160" cy="5565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fig 16-9a"/>
          <p:cNvPicPr/>
          <p:nvPr/>
        </p:nvPicPr>
        <p:blipFill>
          <a:blip r:embed="rId1"/>
          <a:stretch/>
        </p:blipFill>
        <p:spPr>
          <a:xfrm>
            <a:off x="457200" y="380880"/>
            <a:ext cx="4179960" cy="4038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fig 16-9b"/>
          <p:cNvPicPr/>
          <p:nvPr/>
        </p:nvPicPr>
        <p:blipFill>
          <a:blip r:embed="rId2"/>
          <a:stretch/>
        </p:blipFill>
        <p:spPr>
          <a:xfrm>
            <a:off x="4878360" y="2514600"/>
            <a:ext cx="4032360" cy="405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812880" y="571680"/>
            <a:ext cx="7569000" cy="567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848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PULMONARY   TUBERCULOSI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Caused by : Mycobacterium Tuberculo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Tissue reaction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- Granulomatous reaction (tubercle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- Hard tuber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- Soft tubercle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Mode of transmission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1. airborne dropl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2. f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3. sk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4. feces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3059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Primary TBC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* D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evelops in a previously unexposed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and therefore unsensitized per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* Usually occur in children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  <a:ea typeface="Arial"/>
              </a:rPr>
              <a:t>&amp; inf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  <a:ea typeface="Arial"/>
              </a:rPr>
              <a:t>* Sometimes occur in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previously unexposed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  <a:ea typeface="Arial"/>
              </a:rPr>
              <a:t>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  <a:ea typeface="Arial"/>
              </a:rPr>
              <a:t>or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profoundly  immunosuppressed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ad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>
            <a:hlinkClick r:id="rId1"/>
          </p:cNvPr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80880" y="304920"/>
            <a:ext cx="84582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telectasi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 Incomplete expansion of the lu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neonatal atelectasis)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collap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previously inflated lung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cquired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electasis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roducing areas of relativel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rless pulmonary parenchy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 Reversibl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62120" y="45720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cquired atelectasi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resorp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struc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electasis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compression atelecta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contraction atelecta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457200" y="-1049040"/>
            <a:ext cx="8686800" cy="9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Pathogenesis 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Bacilli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lower part of the upper lobe/upper part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of the lower lobe (close to the pleura) </a:t>
            </a:r>
            <a:r>
              <a:rPr b="0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sensitization </a:t>
            </a:r>
            <a:r>
              <a:rPr b="0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Ghon focu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(1- 1.5 c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area of gray white inflammato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consolidation, caseous necrosis +) </a:t>
            </a:r>
            <a:r>
              <a:rPr b="0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regional nodes +,  &gt;&gt;caseate (+) </a:t>
            </a:r>
            <a:r>
              <a:rPr b="0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Ghon comple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(GF+ regional nodes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* In the first few weeks </a:t>
            </a:r>
            <a:r>
              <a:rPr b="0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lymphatic/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hematogenous spread may occu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* ± 95% of cases </a:t>
            </a:r>
            <a:r>
              <a:rPr b="0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cell-mediated immun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Ghon complex </a:t>
            </a:r>
            <a:r>
              <a:rPr b="0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fibrosis </a:t>
            </a:r>
            <a:r>
              <a:rPr b="0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calcif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lick to view full size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3124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lick to view full size"/>
          <p:cNvPicPr/>
          <p:nvPr/>
        </p:nvPicPr>
        <p:blipFill>
          <a:blip r:embed="rId2"/>
          <a:stretch/>
        </p:blipFill>
        <p:spPr>
          <a:xfrm>
            <a:off x="380880" y="3809880"/>
            <a:ext cx="8382240" cy="265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3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231840"/>
          <a:ext cx="9144000" cy="6686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815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Garamond"/>
                          <a:ea typeface="Times New Roman"/>
                        </a:rPr>
                        <a:t>Secondary TBC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* Arises in a previously sensitized host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     </a:t>
                      </a:r>
                      <a:r>
                        <a:rPr b="0" lang="en-US" sz="3200" spc="-1" strike="noStrike">
                          <a:solidFill>
                            <a:srgbClr val="00ff99"/>
                          </a:solidFill>
                          <a:latin typeface="Garamond"/>
                          <a:ea typeface="Times New Roman"/>
                        </a:rPr>
                        <a:t>- Reactivation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of dormant primary lesion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   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(more common in low-prevalence areas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     </a:t>
                      </a:r>
                      <a:r>
                        <a:rPr b="0" lang="en-US" sz="3200" spc="-1" strike="noStrike">
                          <a:solidFill>
                            <a:srgbClr val="00ff99"/>
                          </a:solidFill>
                          <a:latin typeface="Garamond"/>
                          <a:ea typeface="Times New Roman"/>
                        </a:rPr>
                        <a:t>- Reinfection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   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(in regions of high contagio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Garamond"/>
                          <a:ea typeface="Times New Roman"/>
                        </a:rPr>
                        <a:t>* Localization 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 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- A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x of the upper lobes of one / both lung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lling off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regional lmn &lt;&lt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vitation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dissemination along the airways /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rosion into an airway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dropled infect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46"/>
          <p:cNvSpPr/>
          <p:nvPr/>
        </p:nvSpPr>
        <p:spPr>
          <a:xfrm>
            <a:off x="0" y="379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609480" y="-1050840"/>
            <a:ext cx="8077320" cy="9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MACROS 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initial lesion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Ø&lt;2 cm, 1-2 cm of the apical pleur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Sharply circumscribed, firm, gray-white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entral caseation, peripheral fibros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Fibrous encapsulatio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ibrocalcific sca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MICROS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Coalescent tubercles with central case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Heal with fibrosis : spontaneously / tx (+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Progress and extend along several differ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way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lick to view full size"/>
          <p:cNvPicPr/>
          <p:nvPr/>
        </p:nvPicPr>
        <p:blipFill>
          <a:blip r:embed="rId1"/>
          <a:stretch/>
        </p:blipFill>
        <p:spPr>
          <a:xfrm>
            <a:off x="304920" y="466560"/>
            <a:ext cx="8534160" cy="639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msoC0E77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48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lick to view full size"/>
          <p:cNvPicPr/>
          <p:nvPr/>
        </p:nvPicPr>
        <p:blipFill>
          <a:blip r:embed="rId1"/>
          <a:stretch/>
        </p:blipFill>
        <p:spPr>
          <a:xfrm>
            <a:off x="0" y="990720"/>
            <a:ext cx="4267080" cy="302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lick to view full size"/>
          <p:cNvPicPr/>
          <p:nvPr/>
        </p:nvPicPr>
        <p:blipFill>
          <a:blip r:embed="rId2"/>
          <a:srcRect l="0" t="0" r="0" b="8504"/>
          <a:stretch/>
        </p:blipFill>
        <p:spPr>
          <a:xfrm>
            <a:off x="4572000" y="990720"/>
            <a:ext cx="4572000" cy="29718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3015000" y="434340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Pulmonar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T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Click to view full size"/>
          <p:cNvPicPr/>
          <p:nvPr/>
        </p:nvPicPr>
        <p:blipFill>
          <a:blip r:embed="rId1"/>
          <a:stretch/>
        </p:blipFill>
        <p:spPr>
          <a:xfrm>
            <a:off x="1143000" y="3505320"/>
            <a:ext cx="3152880" cy="2771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Click to view full size"/>
          <p:cNvPicPr/>
          <p:nvPr/>
        </p:nvPicPr>
        <p:blipFill>
          <a:blip r:embed="rId2"/>
          <a:stretch/>
        </p:blipFill>
        <p:spPr>
          <a:xfrm>
            <a:off x="4724280" y="3505320"/>
            <a:ext cx="3343320" cy="2771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Click to view full size"/>
          <p:cNvPicPr/>
          <p:nvPr/>
        </p:nvPicPr>
        <p:blipFill>
          <a:blip r:embed="rId3"/>
          <a:stretch/>
        </p:blipFill>
        <p:spPr>
          <a:xfrm>
            <a:off x="3276720" y="304920"/>
            <a:ext cx="3047760" cy="24382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9"/>
          <p:cNvSpPr/>
          <p:nvPr/>
        </p:nvSpPr>
        <p:spPr>
          <a:xfrm>
            <a:off x="3657600" y="28195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ca2"/>
                </a:solidFill>
                <a:latin typeface="Garamond"/>
              </a:rPr>
              <a:t>Hard Tuberc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3429000" y="63388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ca2"/>
                </a:solidFill>
                <a:latin typeface="Garamond"/>
              </a:rPr>
              <a:t>Soft Tuberc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380880" y="685800"/>
            <a:ext cx="8305920" cy="70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Garamond"/>
              </a:rPr>
              <a:t>LUNG  CANC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The most common cause of cancer mort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rldwi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Largely due to the carcinogenic effects o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igarette smo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n the United States 2008 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New cases ± 215.020  (1950 : 18.00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Number of deaths  ± 161.84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Occurs most often between ages 40 - 70 yea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peak incidence in the 50s or 60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304920" y="179280"/>
            <a:ext cx="8839080" cy="80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tiology and Pathogenesi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obacco Smok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Statistical evidence 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7% of lung ca occur in active smoke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There was an invariable statistical associ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ween the frequency of lung cancer and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2800" spc="-1" strike="noStrike">
                <a:solidFill>
                  <a:srgbClr val="66ff33"/>
                </a:solidFill>
                <a:latin typeface="Garamond"/>
              </a:rPr>
              <a:t>(1) </a:t>
            </a:r>
            <a:r>
              <a:rPr b="0" i="1" lang="en-US" sz="2800" spc="-1" strike="noStrike">
                <a:solidFill>
                  <a:srgbClr val="66ff33"/>
                </a:solidFill>
                <a:latin typeface="Garamond"/>
              </a:rPr>
              <a:t>the amount of daily smoking</a:t>
            </a:r>
            <a:r>
              <a:rPr b="0" lang="en-US" sz="2800" spc="-1" strike="noStrike">
                <a:solidFill>
                  <a:srgbClr val="66ff3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Garamond"/>
              </a:rPr>
              <a:t>                 </a:t>
            </a:r>
            <a:r>
              <a:rPr b="0" lang="en-US" sz="2800" spc="-1" strike="noStrike">
                <a:solidFill>
                  <a:srgbClr val="66ff33"/>
                </a:solidFill>
                <a:latin typeface="Garamond"/>
              </a:rPr>
              <a:t>(2) </a:t>
            </a:r>
            <a:r>
              <a:rPr b="0" i="1" lang="en-US" sz="2800" spc="-1" strike="noStrike">
                <a:solidFill>
                  <a:srgbClr val="66ff33"/>
                </a:solidFill>
                <a:latin typeface="Garamond"/>
              </a:rPr>
              <a:t>the tendency to inhale</a:t>
            </a:r>
            <a:r>
              <a:rPr b="0" lang="en-US" sz="2800" spc="-1" strike="noStrike">
                <a:solidFill>
                  <a:srgbClr val="66ff33"/>
                </a:solidFill>
                <a:latin typeface="Garamond"/>
              </a:rPr>
              <a:t>, a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Garamond"/>
              </a:rPr>
              <a:t>                 </a:t>
            </a:r>
            <a:r>
              <a:rPr b="0" lang="en-US" sz="2800" spc="-1" strike="noStrike">
                <a:solidFill>
                  <a:srgbClr val="66ff33"/>
                </a:solidFill>
                <a:latin typeface="Garamond"/>
              </a:rPr>
              <a:t>(3) </a:t>
            </a:r>
            <a:r>
              <a:rPr b="0" i="1" lang="en-US" sz="2800" spc="-1" strike="noStrike">
                <a:solidFill>
                  <a:srgbClr val="66ff33"/>
                </a:solidFill>
                <a:latin typeface="Garamond"/>
              </a:rPr>
              <a:t>the duration of the smoking habit</a:t>
            </a:r>
            <a:r>
              <a:rPr b="0" lang="en-US" sz="2800" spc="-1" strike="noStrike">
                <a:solidFill>
                  <a:srgbClr val="66ff3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 Risk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Average smokers of cigarettes 10× &gt;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Heavy smokers (&gt;40 cgrts / day for several yea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0× &gt;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Women : susceptibility to tobacco &gt; m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304920" y="533520"/>
            <a:ext cx="8534160" cy="89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33"/>
                </a:solidFill>
                <a:latin typeface="Garamond"/>
              </a:rPr>
              <a:t>Resorption atelectas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Complete obstruction of an airw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rption of the oxygen trapped in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pendent alveol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ng volume  diminis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stinum shift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owar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atelectatic l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Cause : excessive secretions (e.g., mucus plugs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exudates within smaller bronch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often found in bronchial asthma, chron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onchitis, bronchiectasis, postoperative states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piration of foreign bodies, bronchi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oplasms (rarely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228600" y="838080"/>
            <a:ext cx="84582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Clinical eviden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Histologic changes in the lining epithelium o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espiratory tract in habitual smokers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quamous metaplasia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squamous dyspla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a in situ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invasive 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Lung tumors of smokers frequently cont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utations in the </a:t>
            </a:r>
            <a:r>
              <a:rPr b="0" i="1" lang="en-US" sz="3200" spc="-1" strike="noStrike">
                <a:solidFill>
                  <a:srgbClr val="ffff00"/>
                </a:solidFill>
                <a:latin typeface="Garamond"/>
              </a:rPr>
              <a:t>p53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gen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probably caused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nzo[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]pyrene, one of carcinogens in tobacc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ok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609480" y="838080"/>
            <a:ext cx="8001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Experimental wor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&gt;1200 substances in cigarette smoke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cinogens (++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Initiators (PAH : benzo[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]pyrene, etc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Promoters : phenol derivatives, et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Radioactive elements : polonium-210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bon-14, and potassium-4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Other contaminants : arsenic, nickel, mold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addit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380880" y="533520"/>
            <a:ext cx="8763120" cy="79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ndustrial hazz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* High-dose ionizing radiation 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cinogen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rvivors of the Hiroshima and Nagasak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omic bomb blasts : incidence of lung ca ↑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* Uranium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Nonsmoking uranium miners : 4× &gt; popul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Smoking miners : 10× &gt; pop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* Asbestos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Nonsmoking asbestos workers : 5× &gt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Smoking asbestos workers : 50 to 90× &gt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Latent period : 10 to 30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685800" y="533520"/>
            <a:ext cx="5029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ir pollutio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Radon : radioactive ga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ng 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Geneti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685800" y="3276720"/>
            <a:ext cx="79246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Histologic types of lung cancer 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clustered into two groups on the basis of likelihood of metastases and response to available therapies: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small cell carcinoma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almost always metastatic, high initial response to chemotherapy) versus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non-small cell carcinoma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ess often metastatic, less responsive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457200" y="457200"/>
            <a:ext cx="84582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Histologic Classific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of Malignant Epithelial Lung Tum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Squamous cell carcinom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Small-cell carcinom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Combined small-cell carcinom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Adenocarcinom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Acinar; papillary, bronchioloalveolar, solid, mixed subtyp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Large-cell carcinoma 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Large-cell neuroendocrine carcinoma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Adenosquamous carcinom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Carcinoma with pleomorphic, sarcomatoid, or sarcomatous ele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Carcinoid tum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Typical, atypic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Carcinoma of salivary gland type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Unclassified carcinom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609480" y="500040"/>
            <a:ext cx="78487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  <a:ea typeface="Times New Roman"/>
              </a:rPr>
              <a:t>The four major categories 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* Adeno ca (males 37%, females 47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* Squamous cell ca (males 32%, females 25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* Small cell ca (males 14%, females 18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* Large cell ca (males 18%, females 10%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533520" y="838080"/>
            <a:ext cx="815328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Morphology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rise most often in and about the hil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± ¾ : origin from first-order, second-order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hird-order bronchi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Arise in the periphery (from the alveolar sep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lls or terminal bronchioles : predominant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eno ca, including bronchioloalveolar ty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304920" y="457200"/>
            <a:ext cx="8839080" cy="74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Adenocarcino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Acinar, papillary, bronchioloalveolar, and soli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mucin form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The most common type of lung cancer i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men and nonsmok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Peripherally located, tend to be smalle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Grow  &gt; slowly than squamous cell ca, bu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nd to metastasize widely and earli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Less frequent associated with history of smok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75% are found in smokers, wh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quamous or small cell ca ≥98% in smoke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457200" y="762120"/>
            <a:ext cx="86868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Squamous Cell Carcino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Most common found in men and close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related with a smoking histo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Arise most common centrally from the segm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subsegmental bronch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Well - moderately - poorly di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Squamous metaplasia, epithelial dysplasia, and 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situ may be seen in bronchial epitheli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jacent to the tumor mas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228600" y="304920"/>
            <a:ext cx="8915400" cy="87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Small Cell Carcino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 Highly malignant, most aggressive, metastasize widely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urable by surg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 The cells are relatively small, round, oval, or spindle-shaped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scant cytoplasm, ill-defined cell borders, finel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anular nuclear chromatin (salt and pepper pattern)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bsent or inconspicuous nucleoli, nuclear molding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minent, mitotis (++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 Grow in clusters, glandular/squamous organization (-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 Necrosis  (++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 Have a strong relationship to cigarette smoking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ly ± 1% occur in nonsmoker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 May arise in major bronchi or in the periphery of the lung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457200" y="762120"/>
            <a:ext cx="84582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33"/>
                </a:solidFill>
                <a:latin typeface="Garamond"/>
              </a:rPr>
              <a:t>Compression atelectasis</a:t>
            </a: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Cause : the pleural cavity is partially or complete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lled by fluid exudate, tumor, blood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air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neumothora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stinum shift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wa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rom the affected lu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33520" y="3886200"/>
            <a:ext cx="83055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33"/>
                </a:solidFill>
                <a:latin typeface="Garamond"/>
              </a:rPr>
              <a:t>Contraction atelectasis</a:t>
            </a: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Cause : local or generalized fibrotic changes 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ung or pleur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vent full expan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457200" y="1143000"/>
            <a:ext cx="80010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Large Cell Carcinoma</a:t>
            </a:r>
            <a:r>
              <a:rPr b="0" lang="en-US" sz="3600" spc="-1" strike="noStrike">
                <a:solidFill>
                  <a:srgbClr val="66ff33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Undifferentiated malignant epithelial tum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Large nuclei, prominent nucleoli, moderat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ount of cytoplas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Probably represent squamous cell ca/adeno 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are so undifferenti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790960" cy="579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fig 15-47"/>
          <p:cNvPicPr/>
          <p:nvPr/>
        </p:nvPicPr>
        <p:blipFill>
          <a:blip r:embed="rId1"/>
          <a:srcRect l="3331" t="3768" r="1677" b="0"/>
          <a:stretch/>
        </p:blipFill>
        <p:spPr>
          <a:xfrm>
            <a:off x="4419720" y="762120"/>
            <a:ext cx="4533840" cy="5410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fig 15-42"/>
          <p:cNvPicPr/>
          <p:nvPr/>
        </p:nvPicPr>
        <p:blipFill>
          <a:blip r:embed="rId2"/>
          <a:srcRect l="3483" t="7219" r="5098" b="2831"/>
          <a:stretch/>
        </p:blipFill>
        <p:spPr>
          <a:xfrm>
            <a:off x="228600" y="838080"/>
            <a:ext cx="4013280" cy="52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fig 16-4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fig 16-43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09480" y="57240"/>
            <a:ext cx="8001000" cy="680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1066680" y="533520"/>
            <a:ext cx="7010640" cy="20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The major presenting complaints : </a:t>
            </a:r>
            <a:r>
              <a:rPr b="1" i="1" lang="en-US" sz="3200" spc="-1" strike="noStrike">
                <a:solidFill>
                  <a:srgbClr val="66ff3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2800" spc="-1" strike="noStrike">
                <a:solidFill>
                  <a:srgbClr val="ffff00"/>
                </a:solidFill>
                <a:latin typeface="Garamond"/>
              </a:rPr>
              <a:t>* C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ough (75%),  Weight loss (40%)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* Chest pain (40%),  Dyspnea (20%)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57200" y="4952880"/>
            <a:ext cx="8305920" cy="2287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Prognosis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deno ca and squamous cell ca tend to remain localized longer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better prognosis than undiff c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(usually advanced while discovere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362320"/>
            <a:ext cx="8153280" cy="27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Diagnosis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Clinical Dx : Ax, Physical exa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Rö : X Photo, USG, CT Sc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PA : Cytology (sputum, bronchial washing/brushing)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FNAB, Histopath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new_years_cigaret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Oval 3"/>
          <p:cNvSpPr/>
          <p:nvPr/>
        </p:nvSpPr>
        <p:spPr>
          <a:xfrm>
            <a:off x="4114800" y="2743200"/>
            <a:ext cx="7632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14600" y="3200400"/>
            <a:ext cx="434340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201"/>
                </a:solidFill>
                <a:latin typeface="Kristen ITC"/>
              </a:rPr>
              <a:t>Thank You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201"/>
                </a:solidFill>
                <a:latin typeface="Kristen ITC"/>
              </a:rPr>
              <a:t>For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201"/>
                </a:solidFill>
                <a:latin typeface="Kristen ITC"/>
              </a:rPr>
              <a:t>Your Atten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fig 16-2"/>
          <p:cNvPicPr/>
          <p:nvPr/>
        </p:nvPicPr>
        <p:blipFill>
          <a:blip r:embed="rId1"/>
          <a:stretch/>
        </p:blipFill>
        <p:spPr>
          <a:xfrm>
            <a:off x="27432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3962520" y="5867280"/>
            <a:ext cx="1523880" cy="381240"/>
          </a:xfrm>
          <a:prstGeom prst="rect">
            <a:avLst/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Contrac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819520" y="2895480"/>
            <a:ext cx="1371600" cy="457200"/>
          </a:xfrm>
          <a:prstGeom prst="rect">
            <a:avLst/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Resorp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572000" y="2895480"/>
            <a:ext cx="1600200" cy="457200"/>
          </a:xfrm>
          <a:prstGeom prst="rect">
            <a:avLst/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Compress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124760" cy="5699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476760" cy="622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0" y="609480"/>
            <a:ext cx="9144000" cy="6353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COPD </a:t>
            </a:r>
            <a:r>
              <a:rPr b="0" lang="en-US" sz="4000" spc="-1" strike="noStrike">
                <a:solidFill>
                  <a:srgbClr val="66ff33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(</a:t>
            </a:r>
            <a:r>
              <a:rPr b="1" i="1" lang="en-US" sz="4000" spc="-1" strike="noStrike">
                <a:solidFill>
                  <a:srgbClr val="66ff33"/>
                </a:solidFill>
                <a:latin typeface="Garamond"/>
              </a:rPr>
              <a:t>chronic obstructive pulmonary disease</a:t>
            </a: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 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* Emphysema (acinar level)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* Chronic bronchitis (bronchial level)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- Commonly caused by cigaret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mok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    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  <a:ea typeface="Times New Roman"/>
              </a:rPr>
              <a:t>- The fourth leading cause of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      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  <a:ea typeface="Times New Roman"/>
              </a:rPr>
              <a:t>morbidity and mortality in US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4:25:02Z</dcterms:created>
  <dc:creator>Eko Waluyo</dc:creator>
  <dc:description/>
  <dc:language>en-US</dc:language>
  <cp:lastModifiedBy>user</cp:lastModifiedBy>
  <dcterms:modified xsi:type="dcterms:W3CDTF">2011-10-18T23:41:55Z</dcterms:modified>
  <cp:revision>360</cp:revision>
  <dc:subject/>
  <dc:title>Tuberculosa Paru- paru</dc:title>
</cp:coreProperties>
</file>