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9B3-4F6E-4EBF-B8FC-FA42EFF9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2E3-7507-475D-8C84-099046F0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460-7667-4847-A974-A0C40DFC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AF6-9AC6-4A07-BA3A-5198C86A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9594-DFE6-431A-984F-AE521A6C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08B3-113D-4227-BC65-9A8FDE66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7F38-13C9-466F-A130-883D3970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2AB3-2EC6-4495-A0F7-3FA293AD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E62C-239F-4F57-B4D5-BCC6B9D7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4BB8-282E-4953-A0C0-C2F2A27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864F-8915-483F-9988-55A4F3D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BD3-93AD-48BE-AEB8-DD778B60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C1F0-A77C-4A86-8ED1-4DE2723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595E-002C-47DF-A275-AB6E6DD5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350F-A6F3-4E87-907D-3AE6C351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5B3F-3D30-420C-B8F8-4C573BF7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0C56-DF5D-4E2A-9DF1-B632A2EF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D1D-39DE-4635-83F2-A5E14050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EF6-E4AA-454F-9DEB-D87475C7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584-9149-4A72-A09C-B3A97CA0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365-D5E2-4EAF-8EFE-495B8B70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5E9-372A-444A-B733-C2927B71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196-36B0-40B1-8A01-97932C7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CF4-D94E-43B7-95AE-CD22EF6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2CA7-7666-4F43-A2D3-50CCD667C2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3D66-AC26-49A5-86AF-E98AA63CDE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udentconsult.com/content/bookcontent.cfm?ID=C0159781416031215&amp;channel=toc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RESPIRATORY SYSTEM</a:t>
            </a:r>
            <a:br>
              <a:rPr sz="5400"/>
            </a:br>
            <a:br>
              <a:rPr sz="5400"/>
            </a:br>
            <a:br>
              <a:rPr sz="3200"/>
            </a:br>
            <a:r>
              <a:rPr b="1" lang="en-US" sz="2700" spc="-1" strike="noStrike">
                <a:solidFill>
                  <a:srgbClr val="ccff66"/>
                </a:solidFill>
                <a:latin typeface="Garamond"/>
              </a:rPr>
              <a:t>Department of Anatomic Pathology</a:t>
            </a:r>
            <a:br>
              <a:rPr sz="2700"/>
            </a:br>
            <a:r>
              <a:rPr b="1" lang="en-US" sz="2700" spc="-1" strike="noStrike">
                <a:solidFill>
                  <a:srgbClr val="ccff66"/>
                </a:solidFill>
                <a:latin typeface="Garamond"/>
              </a:rPr>
              <a:t>Faculty of Medicine</a:t>
            </a:r>
            <a:br>
              <a:rPr sz="2700"/>
            </a:br>
            <a:r>
              <a:rPr b="1" lang="en-US" sz="2700" spc="-1" strike="noStrike">
                <a:solidFill>
                  <a:srgbClr val="ccff66"/>
                </a:solidFill>
                <a:latin typeface="Garamond"/>
              </a:rPr>
              <a:t>Brawijaya University</a:t>
            </a:r>
            <a:br>
              <a:rPr sz="2700"/>
            </a:br>
            <a:endParaRPr b="1" lang="en-US" sz="27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80880" y="685800"/>
            <a:ext cx="830592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Garamond"/>
              </a:rPr>
              <a:t>Emphysema 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Condition of the lung characterized by irreversible enlargement of the airspaces distal to the terminal bronchiole, accompanied by destruction of their walls without obvious fibrosi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80880" y="457200"/>
            <a:ext cx="8763120" cy="69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Types of Emphysem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(according to its </a:t>
            </a:r>
            <a:r>
              <a:rPr b="0" i="1" lang="en-US" sz="3200" spc="-1" strike="noStrike">
                <a:solidFill>
                  <a:srgbClr val="ffff00"/>
                </a:solidFill>
                <a:latin typeface="Garamond"/>
              </a:rPr>
              <a:t>anatomic distribution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within the lobul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Four major types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1)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Centriacina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(centrilobular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2)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Panacinar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(panlobular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3)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Paraseptal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(distal acinar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4)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Irregula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ntriacinar  and panacinar cause clinical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gnificant airflow obstru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entriacinar emphysema  : &gt; 95% of cas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32080" y="609480"/>
            <a:ext cx="3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457200"/>
            <a:ext cx="9144000" cy="84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Centriacinar  Emphyse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 central or proximal parts of the acini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formed by respiratory bronchiole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re affecte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whereas distal alveoli are spare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&gt; severe in upper lobes, particularly apical seg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Walls of the emphysematous spaces 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lack pigment (++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Inflammation around bronchi and bronchioles (+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ever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stal acinus may also be involve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iation from panacinar emphysema : difficul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&gt;&gt; in heavy smokers, often in association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bronch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80880" y="533520"/>
            <a:ext cx="8382240" cy="78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Panacinar Emphyse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cini are uniformly enlarged from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evel of the respiratory bronchiole to the terminal blind alveol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he prefix "pan" refers to the entire acin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not to the entire l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ends to occur more commonly in the 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nes and in the anterior margins of the lung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usually most severe at the ba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ssociated with α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antitrypsin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AT) deficienc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380880" y="457200"/>
            <a:ext cx="8534520" cy="9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Paraseptal Emphyse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proximal portion of the acinus is normal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nd the distal part is predominantly invol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More striking adjacent to the pleura, along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bular connective tissue septa, and at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gins of the lobul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Occurs adjacent to areas of fibrosis, scarring,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electasis and is usually more severe in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per half of the lun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Multiple, continuous, enlarged airspaces fro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lt; 0.5 cm to &gt; 2.0 cm in diameter, some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ing cystlike struct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685800" y="1371600"/>
            <a:ext cx="80010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Irregular Emphysema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(Airspace Enlargement with Fibros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The acinus is irregularly involve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almost invariably associated with scar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In most instances, are asymptomat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linically insignifica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fig 16-8a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920" y="533520"/>
            <a:ext cx="8458200" cy="75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Other forms of emphys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ompensatory Hyperinflation /Emphys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- Dilation of alveoli but not destruction of sep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walls in response to loss of lung subs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lsewhe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bstructive Overinf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aused by subtotal obstruction by a tumor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eign obj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80880" y="228600"/>
            <a:ext cx="861084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ullous Emphys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Large subpleural blebs or bullae ( Ø &gt;1 cm 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Occur in any form of emphyse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Occur near the apex, sometimes in relation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d tuberculous scarr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ometimes : ruptur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neumothora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terstitial Emphyse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Entrance of air into connective tissue stro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 the lung, mediastinum, or subcutaneous tiss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aused by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lveolar tears in pulmonary emphyse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fractured rib that punctures the lu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380880" y="685800"/>
            <a:ext cx="8229600" cy="84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Pathogenes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# The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protease-antiprotease imbalance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hypothe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Genetic deficiency of the antiprotease α1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trypsin (normally present in serum, tiss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uids, and macrophages, a major inhibitor o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eases particularly elasta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Activated neutrophils (in smokers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O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activation of α1-antitryps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astase activity ↑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issue damag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lmonary emphysema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219320" y="990720"/>
            <a:ext cx="6095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RESPIRATORY SYST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  <a:ea typeface="Times New Roman"/>
              </a:rPr>
              <a:t>Atelectas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Emphysem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Pulmonary Tuberculos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Lung Canc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28600" y="228600"/>
            <a:ext cx="8915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# Smo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33"/>
                </a:solidFill>
                <a:latin typeface="Garamond"/>
              </a:rPr>
              <a:t>* Neutrophils and macrophages accumulate in alveoli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hemoattractant effects of nicot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Effects of ROS (free radicals) contained in smo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d neutrophils /macrophag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eases (elastase, etc) rel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ssue da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</a:t>
            </a:r>
            <a:r>
              <a:rPr b="0" i="1" lang="en-US" sz="3200" spc="-1" strike="noStrike">
                <a:solidFill>
                  <a:srgbClr val="66ff33"/>
                </a:solidFill>
                <a:latin typeface="Garamond"/>
              </a:rPr>
              <a:t>Oxidant-antioxidant imbal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Tobacco smoke  : ROS/free radicals (++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lete antioxidant mechanis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ssue damag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66ff33"/>
                </a:solidFill>
                <a:latin typeface="Garamond"/>
              </a:rPr>
              <a:t>* Activated neutrophils </a:t>
            </a:r>
            <a:r>
              <a:rPr b="0" i="1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66ff33"/>
                </a:solidFill>
                <a:latin typeface="Garamond"/>
              </a:rPr>
              <a:t> RO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activation of α1-antitryps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fig 16-10"/>
          <p:cNvPicPr/>
          <p:nvPr/>
        </p:nvPicPr>
        <p:blipFill>
          <a:blip r:embed="rId1"/>
          <a:stretch/>
        </p:blipFill>
        <p:spPr>
          <a:xfrm>
            <a:off x="1371600" y="457200"/>
            <a:ext cx="6629400" cy="579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15"/>
          <p:cNvPicPr/>
          <p:nvPr/>
        </p:nvPicPr>
        <p:blipFill>
          <a:blip r:embed="rId1"/>
          <a:stretch/>
        </p:blipFill>
        <p:spPr>
          <a:xfrm>
            <a:off x="0" y="74628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533520" y="609480"/>
            <a:ext cx="78483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Clinical course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ppear  if &gt;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  <a:ea typeface="Times New Roman"/>
              </a:rPr>
              <a:t>⅓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f pulmonary parenchyma is damag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yspne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oug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Wheez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used with asth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ight lo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Barrel-che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iratory airflow limi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est measured through spiromet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the key to diagnosis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162400" cy="61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950160" cy="556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fig 16-9a"/>
          <p:cNvPicPr/>
          <p:nvPr/>
        </p:nvPicPr>
        <p:blipFill>
          <a:blip r:embed="rId1"/>
          <a:stretch/>
        </p:blipFill>
        <p:spPr>
          <a:xfrm>
            <a:off x="457200" y="380880"/>
            <a:ext cx="4179960" cy="403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fig 16-9b"/>
          <p:cNvPicPr/>
          <p:nvPr/>
        </p:nvPicPr>
        <p:blipFill>
          <a:blip r:embed="rId2"/>
          <a:stretch/>
        </p:blipFill>
        <p:spPr>
          <a:xfrm>
            <a:off x="4878360" y="2514600"/>
            <a:ext cx="4032360" cy="405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12880" y="571680"/>
            <a:ext cx="7569000" cy="567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8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ULMONARY   TUBERCULOSI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Caused by : Mycobacterium Tubercul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Tissue reaction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- Granulomatous reaction (tubercle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- Hard tuber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- Soft tubercle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Mode of transmission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1. airborne drop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2.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3. sk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4. feces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3059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Primary TBC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D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evelops in a previously unexposed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and therefore unsensitized p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Usually occur in children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&amp; inf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* Sometimes occur in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previously unexposed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  <a:ea typeface="Arial"/>
              </a:rPr>
              <a:t>or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profoundly  immunosuppressed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ad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>
            <a:hlinkClick r:id="rId1"/>
          </p:cNvPr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80880" y="304920"/>
            <a:ext cx="84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telectasi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 Incomplete expansion of the lu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eonatal atelectasis)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ollap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previously inflated lu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cquir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electasis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oducing areas of relative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less pulmonary parenchy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 Reversibl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45720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cquired atelectasi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resorp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stru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electasi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compression atelect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contraction atelect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457200" y="-1049040"/>
            <a:ext cx="8686800" cy="9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athogenesis 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Bacill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lower part of the upper lobe/upper par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of the lower lobe (close to the pleura)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sensitization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Ghon focu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(1- 1.5 c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area of gray white inflammato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consolidation, caseous necrosis +)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regional nodes +,  &gt;&gt;caseate (+)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Ghon comple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(GF+ regional nodes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In the first few weeks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lymphatic/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hematogenous spread may occu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± 95% of cases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cell-mediated immun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Ghon complex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fibrosis </a:t>
            </a:r>
            <a:r>
              <a:rPr b="0" lang="en-US" sz="32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 calcif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lick to view full size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3124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ck to view full size"/>
          <p:cNvPicPr/>
          <p:nvPr/>
        </p:nvPicPr>
        <p:blipFill>
          <a:blip r:embed="rId2"/>
          <a:stretch/>
        </p:blipFill>
        <p:spPr>
          <a:xfrm>
            <a:off x="380880" y="3809880"/>
            <a:ext cx="8382240" cy="26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231840"/>
          <a:ext cx="9144000" cy="6686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815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Secondary TBC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* Arises in a previously sensitized hos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ff99"/>
                          </a:solidFill>
                          <a:latin typeface="Garamond"/>
                          <a:ea typeface="Times New Roman"/>
                        </a:rPr>
                        <a:t>- Reactivation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of dormant primary les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(more common in low-prevalence area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ff99"/>
                          </a:solidFill>
                          <a:latin typeface="Garamond"/>
                          <a:ea typeface="Times New Roman"/>
                        </a:rPr>
                        <a:t>- Reinfection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(in regions of high contagio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* Localization 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- A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x of the upper lobes of one / both lung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lling off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regional lmn &lt;&lt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vitation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dissemination along the airways 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rosion into an airway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dropled infec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46"/>
          <p:cNvSpPr/>
          <p:nvPr/>
        </p:nvSpPr>
        <p:spPr>
          <a:xfrm>
            <a:off x="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609480" y="-1050840"/>
            <a:ext cx="8077320" cy="9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MACROS 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nitial lesion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Ø&lt;2 cm, 1-2 cm of the apical pleu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harply circumscribed, firm, gray-white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ntral caseation, peripheral fibro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Fibrous encapsula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ibrocalcific sca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MICROS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alescent tubercles with central case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Heal with fibrosis : spontaneously / tx (+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Progress and extend along several differ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way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lick to view full size"/>
          <p:cNvPicPr/>
          <p:nvPr/>
        </p:nvPicPr>
        <p:blipFill>
          <a:blip r:embed="rId1"/>
          <a:stretch/>
        </p:blipFill>
        <p:spPr>
          <a:xfrm>
            <a:off x="304920" y="466560"/>
            <a:ext cx="8534160" cy="639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msoC0E77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lick to view full size"/>
          <p:cNvPicPr/>
          <p:nvPr/>
        </p:nvPicPr>
        <p:blipFill>
          <a:blip r:embed="rId1"/>
          <a:stretch/>
        </p:blipFill>
        <p:spPr>
          <a:xfrm>
            <a:off x="0" y="990720"/>
            <a:ext cx="4267080" cy="302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lick to view full size"/>
          <p:cNvPicPr/>
          <p:nvPr/>
        </p:nvPicPr>
        <p:blipFill>
          <a:blip r:embed="rId2"/>
          <a:srcRect l="0" t="0" r="0" b="8504"/>
          <a:stretch/>
        </p:blipFill>
        <p:spPr>
          <a:xfrm>
            <a:off x="4572000" y="99072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015000" y="434340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ulmona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Click to view full size"/>
          <p:cNvPicPr/>
          <p:nvPr/>
        </p:nvPicPr>
        <p:blipFill>
          <a:blip r:embed="rId1"/>
          <a:stretch/>
        </p:blipFill>
        <p:spPr>
          <a:xfrm>
            <a:off x="1143000" y="3505320"/>
            <a:ext cx="3152880" cy="277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lick to view full size"/>
          <p:cNvPicPr/>
          <p:nvPr/>
        </p:nvPicPr>
        <p:blipFill>
          <a:blip r:embed="rId2"/>
          <a:stretch/>
        </p:blipFill>
        <p:spPr>
          <a:xfrm>
            <a:off x="4724280" y="3505320"/>
            <a:ext cx="3343320" cy="2771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lick to view full size"/>
          <p:cNvPicPr/>
          <p:nvPr/>
        </p:nvPicPr>
        <p:blipFill>
          <a:blip r:embed="rId3"/>
          <a:stretch/>
        </p:blipFill>
        <p:spPr>
          <a:xfrm>
            <a:off x="3276720" y="304920"/>
            <a:ext cx="3047760" cy="2438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3657600" y="2819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ca2"/>
                </a:solidFill>
                <a:latin typeface="Garamond"/>
              </a:rPr>
              <a:t>Hard Tuber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429000" y="63388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ca2"/>
                </a:solidFill>
                <a:latin typeface="Garamond"/>
              </a:rPr>
              <a:t>Soft Tuber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380880" y="685800"/>
            <a:ext cx="83059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LUNG  CANC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The most common cause of cancer mort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ldwi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Largely due to the carcinogenic effects o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igarette smo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n the United States 2008 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New cases ± 215.020  (1950 : 18.0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Number of deaths  ± 161.84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Occurs most often between ages 40 - 70 yea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peak incidence in the 50s or 60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304920" y="179280"/>
            <a:ext cx="8839080" cy="80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tiology and Pathogenes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Tobacco Smok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Statistical evidence 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7% of lung ca occur in active smok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There was an invariable statistical associ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the frequency of lung cancer and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(1) </a:t>
            </a:r>
            <a:r>
              <a:rPr b="0" i="1" lang="en-US" sz="2800" spc="-1" strike="noStrike">
                <a:solidFill>
                  <a:srgbClr val="66ff33"/>
                </a:solidFill>
                <a:latin typeface="Garamond"/>
              </a:rPr>
              <a:t>the amount of daily smoking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                 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(2) </a:t>
            </a:r>
            <a:r>
              <a:rPr b="0" i="1" lang="en-US" sz="2800" spc="-1" strike="noStrike">
                <a:solidFill>
                  <a:srgbClr val="66ff33"/>
                </a:solidFill>
                <a:latin typeface="Garamond"/>
              </a:rPr>
              <a:t>the tendency to inhale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, 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                 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(3) </a:t>
            </a:r>
            <a:r>
              <a:rPr b="0" i="1" lang="en-US" sz="2800" spc="-1" strike="noStrike">
                <a:solidFill>
                  <a:srgbClr val="66ff33"/>
                </a:solidFill>
                <a:latin typeface="Garamond"/>
              </a:rPr>
              <a:t>the duration of the smoking habit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Risk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Average smokers of cigarettes 10× &gt;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Heavy smokers (&gt;40 cgrts / day for several yea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0× &gt;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Women : susceptibility to tobacco &gt; 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04920" y="533520"/>
            <a:ext cx="8534160" cy="89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Garamond"/>
              </a:rPr>
              <a:t>Resorption atelectas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omplete obstruction of an airw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rption of the oxygen trapped in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endent alveol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ng volume  dimin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stinum shif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telectatic l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ause : excessive secretions (e.g., mucus plug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exudates within smaller bronch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often found in bronchial asthma, chron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nchitis, bronchiectasis, postoperative state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piration of foreign bodies, bronch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plasms (rarely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28600" y="838080"/>
            <a:ext cx="8458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Clinical evide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Histologic changes in the lining epithelium o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espiratory tract in habitual smoker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quamous metaplasia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squamous dys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a in situ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invasive 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Lung tumors of smokers frequently cont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utations in the </a:t>
            </a:r>
            <a:r>
              <a:rPr b="0" i="1" lang="en-US" sz="3200" spc="-1" strike="noStrike">
                <a:solidFill>
                  <a:srgbClr val="ffff00"/>
                </a:solidFill>
                <a:latin typeface="Garamond"/>
              </a:rPr>
              <a:t>p53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gen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probably caused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nzo[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pyrene, one of carcinogens in tobac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ok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609480" y="838080"/>
            <a:ext cx="8001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Experimental wo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&gt;1200 substances in cigarette smok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cinogens (++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Initiators (PAH : benzo[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pyrene, etc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Promoters : phenol derivatives, et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Radioactive elements : polonium-210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n-14, and potassium-4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Other contaminants : arsenic, nickel, mold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addi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80880" y="533520"/>
            <a:ext cx="876312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dustrial hazz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High-dose ionizing radiation 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cinogen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rvivors of the Hiroshima and Nagasa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omic bomb blasts : incidence of lung ca 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Uranium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Nonsmoking uranium miners : 4× &gt; popul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moking miners : 10× &gt; pop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* Asbestos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Nonsmoking asbestos workers : 5× &gt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moking asbestos workers : 50 to 90× &gt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Latent period : 10 to 3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85800" y="533520"/>
            <a:ext cx="50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ir pollutio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Radon : radioactive g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ng 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Geneti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685800" y="3276720"/>
            <a:ext cx="79246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Histologic types of lung cancer 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clustered into two groups on the basis of likelihood of metastases and response to available therapies: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small cell carcinoma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almost always metastatic, high initial response to chemotherapy) versus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non-small cell carcinoma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ess often metastatic, less responsive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457200" y="457200"/>
            <a:ext cx="8458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Histologic Classif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f Malignant Epithelial Lung Tum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Squamous cell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Small-cell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Combined small-cell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Adeno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Acinar; papillary, bronchioloalveolar, solid, mixed subtyp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Large-cell carcinoma 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Large-cell neuroendocrine carcinoma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Adenosquamous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Carcinoma with pleomorphic, sarcomatoid, or sarcomatous el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Carcinoid tum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Typical, atypic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Carcinoma of salivary gland type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Garamond"/>
              </a:rPr>
              <a:t>Unclassified carcino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609480" y="500040"/>
            <a:ext cx="78487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  <a:ea typeface="Times New Roman"/>
              </a:rPr>
              <a:t>The four major categories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* Adeno ca (males 37%, females 47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* Squamous cell ca (males 32%, females 2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* Small cell ca (males 14%, females 18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* Large cell ca (males 18%, females 10%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533520" y="838080"/>
            <a:ext cx="81532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Morphology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rise most often in and about the hil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± ¾ : origin from first-order, second-order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ird-order bronch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Arise in the periphery (from the alveolar sep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ls or terminal bronchioles : predominant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eno ca, including bronchioloalveolar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304920" y="457200"/>
            <a:ext cx="883908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Adenocarcino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Acinar, papillary, bronchioloalveolar, and sol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mucin form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The most common type of lung cancer 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and nonsmok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Peripherally located, tend to be small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Grow  &gt; slowly than squamous cell ca, b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nd to metastasize widely and earl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Less frequent associated with history of smok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75% are found in smokers, wh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quamous or small cell ca ≥98% in smok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457200" y="762120"/>
            <a:ext cx="86868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Squamous Cell Carcino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Most common found in men and close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lated with a smoking histo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Arise most common centrally from the segm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subsegmental bronch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Well - moderately - poorly di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Squamous metaplasia, epithelial dysplasia, and 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situ may be seen in bronchial epithel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jacent to the tumor ma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228600" y="304920"/>
            <a:ext cx="8915400" cy="87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Small Cell Carcino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Highly malignant, most aggressive, metastasize widely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urable by surg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The cells are relatively small, round, oval, or spindle-shaped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scant cytoplasm, ill-defined cell borders, finel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anular nuclear chromatin (salt and pepper pattern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sent or inconspicuous nucleoli, nuclear molding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inent, mitotis (++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Grow in clusters, glandular/squamous organization (-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Necrosis  (++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Have a strong relationship to cigarette smoking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y ± 1% occur in nonsmok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 May arise in major bronchi or in the periphery of the lung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457200" y="762120"/>
            <a:ext cx="84582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Garamond"/>
              </a:rPr>
              <a:t>Compression atelectasis</a:t>
            </a: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ause : the pleural cavity is partially or complete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lled by fluid exudate, tumor, blood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air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neumothora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stinum shif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wa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rom the affected lu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33520" y="3886200"/>
            <a:ext cx="83055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Garamond"/>
              </a:rPr>
              <a:t>Contraction atelectasis</a:t>
            </a: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Cause : local or generalized fibrotic changes 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ung or pleur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 full expan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457200" y="1143000"/>
            <a:ext cx="8001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Large Cell Carcinoma</a:t>
            </a:r>
            <a:r>
              <a:rPr b="0" lang="en-US" sz="36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Undifferentiated malignant epithelial tum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Large nuclei, prominent nucleoli, modera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ount of cytoplas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Probably represent squamous cell ca/adeno 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are so undifferent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790960" cy="579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fig 15-47"/>
          <p:cNvPicPr/>
          <p:nvPr/>
        </p:nvPicPr>
        <p:blipFill>
          <a:blip r:embed="rId1"/>
          <a:srcRect l="3331" t="3768" r="1677" b="0"/>
          <a:stretch/>
        </p:blipFill>
        <p:spPr>
          <a:xfrm>
            <a:off x="4419720" y="762120"/>
            <a:ext cx="4533840" cy="5410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fig 15-42"/>
          <p:cNvPicPr/>
          <p:nvPr/>
        </p:nvPicPr>
        <p:blipFill>
          <a:blip r:embed="rId2"/>
          <a:srcRect l="3483" t="7219" r="5098" b="2831"/>
          <a:stretch/>
        </p:blipFill>
        <p:spPr>
          <a:xfrm>
            <a:off x="228600" y="838080"/>
            <a:ext cx="401328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fig 16-4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fig 16-43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09480" y="57240"/>
            <a:ext cx="8001000" cy="68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1066680" y="533520"/>
            <a:ext cx="7010640" cy="20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he major presenting complaints : </a:t>
            </a:r>
            <a:r>
              <a:rPr b="1" i="1" lang="en-US" sz="32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00"/>
                </a:solidFill>
                <a:latin typeface="Garamond"/>
              </a:rPr>
              <a:t>* C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ough (75%),  Weight loss (40%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* Chest pain (40%),  Dyspnea (20%)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4952880"/>
            <a:ext cx="8305920" cy="2287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Prognosi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deno ca and squamous cell ca tend to remain localized longer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better prognosis than undiff c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(usually advanced while discover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362320"/>
            <a:ext cx="8153280" cy="27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Diagnosi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Clinical Dx : Ax, Physical ex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Rö : X Photo, USG, CT Sc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A : Cytology (sputum, bronchial washing/brushing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NAB, Histopath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new_years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Oval 3"/>
          <p:cNvSpPr/>
          <p:nvPr/>
        </p:nvSpPr>
        <p:spPr>
          <a:xfrm>
            <a:off x="4114800" y="2743200"/>
            <a:ext cx="7632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14600" y="3200400"/>
            <a:ext cx="43434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201"/>
                </a:solidFill>
                <a:latin typeface="Kristen ITC"/>
              </a:rPr>
              <a:t>Thank You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201"/>
                </a:solidFill>
                <a:latin typeface="Kristen ITC"/>
              </a:rPr>
              <a:t>For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0201"/>
                </a:solidFill>
                <a:latin typeface="Kristen ITC"/>
              </a:rPr>
              <a:t>Your Atten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ig 16-2"/>
          <p:cNvPicPr/>
          <p:nvPr/>
        </p:nvPicPr>
        <p:blipFill>
          <a:blip r:embed="rId1"/>
          <a:stretch/>
        </p:blipFill>
        <p:spPr>
          <a:xfrm>
            <a:off x="27432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3962520" y="5867280"/>
            <a:ext cx="1523880" cy="38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Contrac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819520" y="2895480"/>
            <a:ext cx="1371600" cy="4572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Resorp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0" y="2895480"/>
            <a:ext cx="1600200" cy="4572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Compres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24760" cy="569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476760" cy="62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609480"/>
            <a:ext cx="9144000" cy="6353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COPD </a:t>
            </a:r>
            <a:r>
              <a:rPr b="0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(</a:t>
            </a:r>
            <a:r>
              <a:rPr b="1" i="1" lang="en-US" sz="4000" spc="-1" strike="noStrike">
                <a:solidFill>
                  <a:srgbClr val="66ff33"/>
                </a:solidFill>
                <a:latin typeface="Garamond"/>
              </a:rPr>
              <a:t>chronic obstructive pulmonary disease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* Emphysema (acinar level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* Chronic bronchitis (bronchial level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- Commonly caused by cigaret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mok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- The fourth leading cause of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morbidity and mortality in US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4:25:02Z</dcterms:created>
  <dc:creator>Eko Waluyo</dc:creator>
  <dc:description/>
  <dc:language>en-US</dc:language>
  <cp:lastModifiedBy>user</cp:lastModifiedBy>
  <dcterms:modified xsi:type="dcterms:W3CDTF">2011-10-18T23:41:55Z</dcterms:modified>
  <cp:revision>360</cp:revision>
  <dc:subject/>
  <dc:title>Tuberculosa Paru- paru</dc:title>
</cp:coreProperties>
</file>