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238-FFE1-440C-BC61-9C2C7DDF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04E-D900-49E3-A28F-F71F226D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D74-EB6E-42AD-A26F-9E71C839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44A-2A44-4CAE-8329-D6DFA1D0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151-3769-4C42-A2B8-2DB9D6AB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8C2-19D2-43F2-AD43-B991DA2A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E1F-5839-4880-9442-CCC5B528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388-4E78-4DB0-91BD-DAEB9566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F58-5D9B-48C6-BE4A-51D69D94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D41-BC9F-444D-9D8C-D530FE9A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4AC-7FC0-4058-8875-7FC0479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ECF-5C7C-452F-A0C2-FAFD4055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15A-6C00-4EC4-BA15-48F9322F7F2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94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330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مجد ليك فى الإعالى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جيت لأرضنا بسلام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فرحتنا جداً ياغالى 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لما جيتنا من علا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2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1960" y="3330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جيت نورت الارض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مليت دنيتنا حب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علمت القلب يغنى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ليوم مجي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030"/>
          <p:cNvPicPr/>
          <p:nvPr/>
        </p:nvPicPr>
        <p:blipFill>
          <a:blip r:embed="rId1"/>
          <a:stretch/>
        </p:blipFill>
        <p:spPr>
          <a:xfrm>
            <a:off x="-3240" y="-15840"/>
            <a:ext cx="9151920" cy="6889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1600" y="3276360"/>
            <a:ext cx="7778520" cy="1447560"/>
          </a:xfrm>
          <a:prstGeom prst="rect">
            <a:avLst/>
          </a:prstGeom>
          <a:noFill/>
          <a:ln w="0">
            <a:noFill/>
          </a:ln>
          <a:effectLst>
            <a:outerShdw dist="45929" dir="8771122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لدنيا شرق و غر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كل الكون بالحب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بيغنى معانا يا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ر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لمجد لي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594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330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74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مجد ليك فى الإعالى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جيت لأرضنا بسلام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فرحتنا جداً يا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غالى 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لما جيتنا من علا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صورة 7" descr="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1780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جيت وملكت القل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ورتنا معنى الحب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خلتنا نحب بجد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ليوم مجي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5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1960" y="31780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بنعلى أسم الر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وتسبح كل الارض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نغنى بكل القلب</a:t>
            </a:r>
            <a:br>
              <a:rPr sz="6600"/>
            </a:br>
            <a:r>
              <a:rPr b="1" lang="ar-EG" sz="6600" spc="-1" strike="noStrike">
                <a:solidFill>
                  <a:srgbClr val="ffff00"/>
                </a:solidFill>
                <a:latin typeface="Times New Roman"/>
              </a:rPr>
              <a:t>المجد لي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94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1960" y="3254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مجد ليك فى الإعالى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جيت لأرضنا بسلام</a:t>
            </a:r>
            <a:br>
              <a:rPr sz="6600"/>
            </a:b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فرحتنا جداً يا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غالى </a:t>
            </a:r>
            <a:br>
              <a:rPr sz="6600"/>
            </a:b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لما جيتنا من علا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جيت و ملكت القل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جد ليك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92"/>
          <p:cNvSpPr/>
          <p:nvPr/>
        </p:nvSpPr>
        <p:spPr>
          <a:xfrm>
            <a:off x="900000" y="260280"/>
            <a:ext cx="252900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جيت نورت الا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7:13:19Z</dcterms:created>
  <dc:creator/>
  <dc:description/>
  <dc:language>en-US</dc:language>
  <cp:lastModifiedBy>Sp2</cp:lastModifiedBy>
  <dcterms:modified xsi:type="dcterms:W3CDTF">2008-09-02T15:02:56Z</dcterms:modified>
  <cp:revision>49</cp:revision>
  <dc:subject/>
  <dc:title>عرض تقديمي من PowerPoint</dc:title>
</cp:coreProperties>
</file>