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62E-EA76-4F35-B846-40478855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5B0-2876-4835-8790-B9B50BF7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040-BEB9-43D9-8868-B7F7A7A7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AAB-79E8-434F-BF3F-A462FB87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F41-4428-4B80-864A-977D4AB2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5A5-8484-4EF9-B52D-1D2ABE23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024-BA3C-4A88-94BE-F3C1548B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7B2-5AE2-4CD8-BBC9-162464FB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22F-625D-47A9-AA32-D05D2845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D52-E238-4DDF-808B-4801E0C7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570-DEB2-4D25-B464-0AD4ABA2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D27-80A7-4CB5-A2FD-F286FB74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1DE0B-353C-49F8-82A2-39C913BF5AD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6E992-2236-47B8-90EE-390FB1A6E4A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15:44Z</dcterms:created>
  <dc:creator>최봉수</dc:creator>
  <dc:description/>
  <dc:language>en-US</dc:language>
  <cp:lastModifiedBy>맛있다 군만두</cp:lastModifiedBy>
  <dcterms:modified xsi:type="dcterms:W3CDTF">2023-07-13T09:34:33Z</dcterms:modified>
  <cp:revision>3</cp:revision>
  <dc:subject/>
  <dc:title>슬라이드 1</dc:title>
</cp:coreProperties>
</file>