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7302-AD8A-4DC4-A6EC-FF361EAE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3147-5C4C-4673-B078-EC454BB6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4294-376A-4EA6-BF40-437B7BDC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F18B-D6EF-49FC-9A77-6B2BEEEC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137-CACD-4D6C-90B7-6F30474B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CC99-C56A-4564-AC28-E967F69C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C55B-D2ED-4F62-A9F5-BD4941A7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903E-0944-4ED6-B547-DD11B983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0F3D-7DD0-4C0D-B3C1-8DFC8183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7986-09CC-4278-9745-9409C5BE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C584-750F-490A-849C-D1D8CBE1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E380-0774-4A79-A3A1-8B1D3C35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00B124-3EEA-4292-86C7-6E2F0507427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4F261-CBE3-402C-9C28-488DCAC68AE8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14:15:44Z</dcterms:created>
  <dc:creator>최봉수</dc:creator>
  <dc:description/>
  <dc:language>en-US</dc:language>
  <cp:lastModifiedBy>맛있다 군만두</cp:lastModifiedBy>
  <dcterms:modified xsi:type="dcterms:W3CDTF">2023-07-13T09:34:33Z</dcterms:modified>
  <cp:revision>3</cp:revision>
  <dc:subject/>
  <dc:title>슬라이드 1</dc:title>
</cp:coreProperties>
</file>